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F789A-E433-4F12-AC97-CC694FB6A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3E179-B248-4CAA-80C5-47B4089B0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FD535-9DB4-412F-BF9C-1BD61018A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AD364-7B9B-4EEB-8D91-EDEC57272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4B636-979E-43AF-88F4-31A6878DE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14BE5-1A81-404E-8E70-641E30736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42016-E4F2-4F5C-922D-F5FEC73B2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A895F-CAFB-4D91-86A7-5CCB180E3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B00E7-E798-4854-89CA-C785B7490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5C6B2-F35B-46CF-8E45-45F7576C9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11A05-0A46-424C-B1BD-EA9535E29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F2024-8FAF-467C-9BBA-6BEA7F3BF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0DBF-1851-4FAA-9B0C-5FA409B699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5 Review Bingo! </a:t>
            </a:r>
            <a:endParaRPr b="0" lang="en-US" sz="4400" spc="-1" strike="noStrike">
              <a:solidFill>
                <a:srgbClr val="000000"/>
              </a:solidFill>
              <a:latin typeface="Arial"/>
            </a:endParaRPr>
          </a:p>
        </p:txBody>
      </p:sp>
      <p:sp>
        <p:nvSpPr>
          <p:cNvPr id="42" name="PlaceHolder 2"/>
          <p:cNvSpPr>
            <a:spLocks noGrp="1"/>
          </p:cNvSpPr>
          <p:nvPr>
            <p:ph type="subTitle"/>
          </p:nvPr>
        </p:nvSpPr>
        <p:spPr>
          <a:xfrm>
            <a:off x="761760" y="1981080"/>
            <a:ext cx="7848360" cy="3353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the answer sheet on the bench to fill in all the squares on your bingo card.</a:t>
            </a:r>
            <a:r>
              <a:rPr b="0" lang="en-US"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have to be in the order they are on the answer sheet.)</a:t>
            </a:r>
            <a:endParaRPr b="0" lang="en-US" sz="3200" spc="-1" strike="noStrike">
              <a:solidFill>
                <a:srgbClr val="000000"/>
              </a:solidFill>
              <a:latin typeface="Arial"/>
            </a:endParaRPr>
          </a:p>
        </p:txBody>
      </p:sp>
    </p:spTree>
  </p:cSld>
  <p:transition advTm="0">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2733840" y="914400"/>
            <a:ext cx="3676320" cy="1962000"/>
          </a:xfrm>
          <a:prstGeom prst="rect">
            <a:avLst/>
          </a:prstGeom>
          <a:ln w="0">
            <a:noFill/>
          </a:ln>
        </p:spPr>
      </p:pic>
      <p:sp>
        <p:nvSpPr>
          <p:cNvPr id="190" name=""/>
          <p:cNvSpPr/>
          <p:nvPr/>
        </p:nvSpPr>
        <p:spPr>
          <a:xfrm>
            <a:off x="76320" y="3599640"/>
            <a:ext cx="8991360" cy="22284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ich situation is best represented by the line above?</a:t>
            </a:r>
            <a:endParaRPr b="0" lang="en-US" sz="20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more hours a person works, the more money that person earns.</a:t>
            </a:r>
            <a:endParaRPr b="0" lang="en-US" sz="20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arther a car is driven, the less gas remains in the car’s gas tank.</a:t>
            </a:r>
            <a:endParaRPr b="0" lang="en-US" sz="20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er several years, the value of Rita’s stock market account has remained the same.</a:t>
            </a:r>
            <a:endParaRPr b="0" lang="en-US" sz="20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ohn and Mike each studied 45 minutes for a quiz.  John scored 80 on the quiz and Mike scored 85 on the quiz.</a:t>
            </a:r>
            <a:endParaRPr b="0" lang="en-US" sz="2000" spc="-1" strike="noStrike">
              <a:solidFill>
                <a:srgbClr val="000000"/>
              </a:solidFill>
              <a:latin typeface="Arial"/>
            </a:endParaRPr>
          </a:p>
        </p:txBody>
      </p:sp>
      <p:sp>
        <p:nvSpPr>
          <p:cNvPr id="191" name=""/>
          <p:cNvSpPr/>
          <p:nvPr/>
        </p:nvSpPr>
        <p:spPr>
          <a:xfrm>
            <a:off x="304920" y="152280"/>
            <a:ext cx="85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Students will review Expressions, Equations and Integers to prepare for tomorrow’s test.</a:t>
            </a:r>
            <a:endParaRPr b="0" lang="en-US" sz="1800" spc="-1" strike="noStrike">
              <a:solidFill>
                <a:srgbClr val="000000"/>
              </a:solidFill>
              <a:latin typeface="Arial"/>
            </a:endParaRPr>
          </a:p>
        </p:txBody>
      </p:sp>
      <p:sp>
        <p:nvSpPr>
          <p:cNvPr id="192" name=""/>
          <p:cNvSpPr/>
          <p:nvPr/>
        </p:nvSpPr>
        <p:spPr>
          <a:xfrm>
            <a:off x="57240" y="4218120"/>
            <a:ext cx="492120" cy="365040"/>
          </a:xfrm>
          <a:custGeom>
            <a:avLst/>
            <a:gdLst/>
            <a:ahLst/>
            <a:rect l="l" t="t" r="r" b="b"/>
            <a:pathLst>
              <a:path w="1366" h="1017">
                <a:moveTo>
                  <a:pt x="286" y="12605"/>
                </a:moveTo>
                <a:cubicBezTo>
                  <a:pt x="377" y="12620"/>
                  <a:pt x="420" y="12639"/>
                  <a:pt x="508" y="12668"/>
                </a:cubicBezTo>
                <a:cubicBezTo>
                  <a:pt x="656" y="12718"/>
                  <a:pt x="861" y="12720"/>
                  <a:pt x="1016" y="12700"/>
                </a:cubicBezTo>
                <a:cubicBezTo>
                  <a:pt x="1169" y="12680"/>
                  <a:pt x="1303" y="12599"/>
                  <a:pt x="1397" y="12478"/>
                </a:cubicBezTo>
                <a:cubicBezTo>
                  <a:pt x="1469" y="12384"/>
                  <a:pt x="1565" y="12212"/>
                  <a:pt x="1492" y="12097"/>
                </a:cubicBezTo>
                <a:cubicBezTo>
                  <a:pt x="1419" y="11981"/>
                  <a:pt x="1221" y="11856"/>
                  <a:pt x="1111" y="11779"/>
                </a:cubicBezTo>
                <a:cubicBezTo>
                  <a:pt x="1005" y="11705"/>
                  <a:pt x="884" y="11716"/>
                  <a:pt x="762" y="11716"/>
                </a:cubicBezTo>
                <a:cubicBezTo>
                  <a:pt x="623" y="11716"/>
                  <a:pt x="551" y="11716"/>
                  <a:pt x="444" y="11811"/>
                </a:cubicBezTo>
                <a:cubicBezTo>
                  <a:pt x="355" y="11890"/>
                  <a:pt x="244" y="11990"/>
                  <a:pt x="190" y="12097"/>
                </a:cubicBezTo>
                <a:cubicBezTo>
                  <a:pt x="130" y="12218"/>
                  <a:pt x="174" y="12329"/>
                  <a:pt x="222" y="12446"/>
                </a:cubicBezTo>
                <a:cubicBezTo>
                  <a:pt x="255" y="12526"/>
                  <a:pt x="341" y="12619"/>
                  <a:pt x="413" y="12668"/>
                </a:cubicBezTo>
                <a:cubicBezTo>
                  <a:pt x="523" y="12742"/>
                  <a:pt x="555" y="12719"/>
                  <a:pt x="667" y="12700"/>
                </a:cubicBezTo>
                <a:cubicBezTo>
                  <a:pt x="705" y="12694"/>
                  <a:pt x="755" y="12700"/>
                  <a:pt x="794" y="1270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228760" y="4160880"/>
            <a:ext cx="92160" cy="149040"/>
          </a:xfrm>
          <a:custGeom>
            <a:avLst/>
            <a:gdLst/>
            <a:ahLst/>
            <a:rect l="l" t="t" r="r" b="b"/>
            <a:pathLst>
              <a:path w="255" h="414">
                <a:moveTo>
                  <a:pt x="6191" y="11652"/>
                </a:moveTo>
                <a:cubicBezTo>
                  <a:pt x="6290" y="11769"/>
                  <a:pt x="6343" y="11957"/>
                  <a:pt x="6445" y="11874"/>
                </a:cubicBezTo>
              </a:path>
              <a:path w="255" h="414">
                <a:moveTo>
                  <a:pt x="6445" y="11557"/>
                </a:moveTo>
                <a:cubicBezTo>
                  <a:pt x="6376" y="11664"/>
                  <a:pt x="6310" y="11902"/>
                  <a:pt x="6223" y="11970"/>
                </a:cubicBezTo>
                <a:cubicBezTo>
                  <a:pt x="6212" y="11970"/>
                  <a:pt x="6202" y="11970"/>
                  <a:pt x="6191" y="119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908000" y="4194000"/>
            <a:ext cx="127080" cy="149400"/>
          </a:xfrm>
          <a:custGeom>
            <a:avLst/>
            <a:gdLst/>
            <a:ahLst/>
            <a:rect l="l" t="t" r="r" b="b"/>
            <a:pathLst>
              <a:path w="351" h="414">
                <a:moveTo>
                  <a:pt x="5524" y="12065"/>
                </a:moveTo>
                <a:cubicBezTo>
                  <a:pt x="5494" y="11966"/>
                  <a:pt x="5481" y="11763"/>
                  <a:pt x="5429" y="11684"/>
                </a:cubicBezTo>
                <a:cubicBezTo>
                  <a:pt x="5387" y="11620"/>
                  <a:pt x="5305" y="11862"/>
                  <a:pt x="5334" y="11779"/>
                </a:cubicBezTo>
                <a:cubicBezTo>
                  <a:pt x="5334" y="11769"/>
                  <a:pt x="5334" y="11758"/>
                  <a:pt x="5334" y="11748"/>
                </a:cubicBezTo>
                <a:cubicBezTo>
                  <a:pt x="5434" y="11660"/>
                  <a:pt x="5465" y="11620"/>
                  <a:pt x="5556" y="11748"/>
                </a:cubicBezTo>
                <a:cubicBezTo>
                  <a:pt x="5607" y="11820"/>
                  <a:pt x="5575" y="11811"/>
                  <a:pt x="5652" y="1181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51200" y="4149720"/>
            <a:ext cx="378000" cy="263520"/>
          </a:xfrm>
          <a:custGeom>
            <a:avLst/>
            <a:gdLst/>
            <a:ahLst/>
            <a:rect l="l" t="t" r="r" b="b"/>
            <a:pathLst>
              <a:path w="1049" h="732">
                <a:moveTo>
                  <a:pt x="13780" y="11748"/>
                </a:moveTo>
                <a:cubicBezTo>
                  <a:pt x="13826" y="11790"/>
                  <a:pt x="13938" y="11928"/>
                  <a:pt x="13938" y="11874"/>
                </a:cubicBezTo>
              </a:path>
              <a:path w="1049" h="732">
                <a:moveTo>
                  <a:pt x="13970" y="11525"/>
                </a:moveTo>
                <a:cubicBezTo>
                  <a:pt x="13919" y="11707"/>
                  <a:pt x="13858" y="11877"/>
                  <a:pt x="13843" y="12065"/>
                </a:cubicBezTo>
              </a:path>
              <a:path w="1049" h="732">
                <a:moveTo>
                  <a:pt x="13144" y="11557"/>
                </a:moveTo>
                <a:cubicBezTo>
                  <a:pt x="13101" y="11601"/>
                  <a:pt x="13113" y="11691"/>
                  <a:pt x="13113" y="11779"/>
                </a:cubicBezTo>
              </a:path>
              <a:path w="1049" h="732">
                <a:moveTo>
                  <a:pt x="12922" y="11779"/>
                </a:moveTo>
                <a:cubicBezTo>
                  <a:pt x="12976" y="11833"/>
                  <a:pt x="13067" y="11943"/>
                  <a:pt x="13113" y="11970"/>
                </a:cubicBezTo>
                <a:cubicBezTo>
                  <a:pt x="13172" y="12005"/>
                  <a:pt x="13276" y="11783"/>
                  <a:pt x="13303" y="11748"/>
                </a:cubicBezTo>
              </a:path>
              <a:path w="1049" h="732">
                <a:moveTo>
                  <a:pt x="13557" y="11716"/>
                </a:moveTo>
                <a:cubicBezTo>
                  <a:pt x="13557" y="11705"/>
                  <a:pt x="13557" y="11695"/>
                  <a:pt x="13557" y="11684"/>
                </a:cubicBezTo>
                <a:cubicBezTo>
                  <a:pt x="13589" y="11695"/>
                  <a:pt x="13633" y="11763"/>
                  <a:pt x="13652" y="11811"/>
                </a:cubicBezTo>
                <a:cubicBezTo>
                  <a:pt x="13674" y="11867"/>
                  <a:pt x="13715" y="11826"/>
                  <a:pt x="13748" y="11874"/>
                </a:cubicBezTo>
              </a:path>
              <a:path w="1049" h="732">
                <a:moveTo>
                  <a:pt x="13843" y="11652"/>
                </a:moveTo>
                <a:cubicBezTo>
                  <a:pt x="13798" y="11812"/>
                  <a:pt x="13714" y="11970"/>
                  <a:pt x="13652" y="12128"/>
                </a:cubicBezTo>
                <a:cubicBezTo>
                  <a:pt x="13600" y="12260"/>
                  <a:pt x="13635" y="12286"/>
                  <a:pt x="13652" y="1216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600" y="380880"/>
            <a:ext cx="8305920" cy="1371600"/>
          </a:xfrm>
          <a:prstGeom prst="rect">
            <a:avLst/>
          </a:prstGeom>
          <a:noFill/>
          <a:ln w="0">
            <a:noFill/>
          </a:ln>
        </p:spPr>
        <p:txBody>
          <a:bodyPr lIns="90000" rIns="90000" tIns="46800" bIns="46800" anchor="t">
            <a:normAutofit/>
          </a:bodyPr>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ite the integer that represents the situation.</a:t>
            </a:r>
            <a:endParaRPr b="0" lang="en-US" sz="2000" spc="-1" strike="noStrike">
              <a:solidFill>
                <a:srgbClr val="000000"/>
              </a:solidFill>
              <a:latin typeface="Arial"/>
            </a:endParaRPr>
          </a:p>
        </p:txBody>
      </p:sp>
      <p:sp>
        <p:nvSpPr>
          <p:cNvPr id="197" name=""/>
          <p:cNvSpPr/>
          <p:nvPr/>
        </p:nvSpPr>
        <p:spPr>
          <a:xfrm>
            <a:off x="2566080" y="1828800"/>
            <a:ext cx="401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6 degrees below 0.</a:t>
            </a:r>
            <a:endParaRPr b="0" lang="en-US" sz="3200" spc="-1" strike="noStrike">
              <a:solidFill>
                <a:srgbClr val="000000"/>
              </a:solidFill>
              <a:latin typeface="Arial"/>
            </a:endParaRPr>
          </a:p>
        </p:txBody>
      </p:sp>
      <p:sp>
        <p:nvSpPr>
          <p:cNvPr id="198" name=""/>
          <p:cNvSpPr/>
          <p:nvPr/>
        </p:nvSpPr>
        <p:spPr>
          <a:xfrm>
            <a:off x="3223440" y="2770200"/>
            <a:ext cx="269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loss of $15.</a:t>
            </a:r>
            <a:endParaRPr b="0" lang="en-US" sz="3200" spc="-1" strike="noStrike">
              <a:solidFill>
                <a:srgbClr val="000000"/>
              </a:solidFill>
              <a:latin typeface="Arial"/>
            </a:endParaRPr>
          </a:p>
        </p:txBody>
      </p:sp>
      <p:sp>
        <p:nvSpPr>
          <p:cNvPr id="199" name=""/>
          <p:cNvSpPr/>
          <p:nvPr/>
        </p:nvSpPr>
        <p:spPr>
          <a:xfrm>
            <a:off x="2717640" y="3733920"/>
            <a:ext cx="370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gain of 10 yards.</a:t>
            </a:r>
            <a:endParaRPr b="0" lang="en-US" sz="3200" spc="-1" strike="noStrike">
              <a:solidFill>
                <a:srgbClr val="000000"/>
              </a:solidFill>
              <a:latin typeface="Arial"/>
            </a:endParaRPr>
          </a:p>
        </p:txBody>
      </p:sp>
      <p:sp>
        <p:nvSpPr>
          <p:cNvPr id="200" name=""/>
          <p:cNvSpPr/>
          <p:nvPr/>
        </p:nvSpPr>
        <p:spPr>
          <a:xfrm>
            <a:off x="2649960" y="4800600"/>
            <a:ext cx="442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bank deposit of $25.</a:t>
            </a:r>
            <a:endParaRPr b="0" lang="en-US" sz="3200" spc="-1" strike="noStrike">
              <a:solidFill>
                <a:srgbClr val="000000"/>
              </a:solidFill>
              <a:latin typeface="Arial"/>
            </a:endParaRPr>
          </a:p>
        </p:txBody>
      </p:sp>
      <p:sp>
        <p:nvSpPr>
          <p:cNvPr id="201" name=""/>
          <p:cNvSpPr/>
          <p:nvPr/>
        </p:nvSpPr>
        <p:spPr>
          <a:xfrm>
            <a:off x="4103640" y="2422440"/>
            <a:ext cx="560520" cy="173160"/>
          </a:xfrm>
          <a:custGeom>
            <a:avLst/>
            <a:gdLst/>
            <a:ahLst/>
            <a:rect l="l" t="t" r="r" b="b"/>
            <a:pathLst>
              <a:path w="1557" h="477">
                <a:moveTo>
                  <a:pt x="11398" y="7017"/>
                </a:moveTo>
                <a:cubicBezTo>
                  <a:pt x="11509" y="7042"/>
                  <a:pt x="11601" y="7048"/>
                  <a:pt x="11716" y="7048"/>
                </a:cubicBezTo>
              </a:path>
              <a:path w="1557" h="477">
                <a:moveTo>
                  <a:pt x="12002" y="6794"/>
                </a:moveTo>
                <a:cubicBezTo>
                  <a:pt x="12160" y="6731"/>
                  <a:pt x="12169" y="6726"/>
                  <a:pt x="12351" y="6794"/>
                </a:cubicBezTo>
                <a:cubicBezTo>
                  <a:pt x="12317" y="7013"/>
                  <a:pt x="12253" y="7059"/>
                  <a:pt x="12033" y="7112"/>
                </a:cubicBezTo>
                <a:cubicBezTo>
                  <a:pt x="11991" y="7112"/>
                  <a:pt x="11981" y="7101"/>
                  <a:pt x="12002" y="7048"/>
                </a:cubicBezTo>
                <a:cubicBezTo>
                  <a:pt x="12180" y="6966"/>
                  <a:pt x="12282" y="6966"/>
                  <a:pt x="12414" y="7144"/>
                </a:cubicBezTo>
                <a:cubicBezTo>
                  <a:pt x="12414" y="7176"/>
                  <a:pt x="12414" y="7187"/>
                  <a:pt x="12446" y="7176"/>
                </a:cubicBezTo>
              </a:path>
              <a:path w="1557" h="477">
                <a:moveTo>
                  <a:pt x="12605" y="6731"/>
                </a:moveTo>
                <a:cubicBezTo>
                  <a:pt x="12605" y="6839"/>
                  <a:pt x="12602" y="6990"/>
                  <a:pt x="12668" y="7080"/>
                </a:cubicBezTo>
                <a:cubicBezTo>
                  <a:pt x="12774" y="7224"/>
                  <a:pt x="12928" y="6963"/>
                  <a:pt x="12954" y="6890"/>
                </a:cubicBezTo>
                <a:cubicBezTo>
                  <a:pt x="12954" y="6879"/>
                  <a:pt x="12954" y="6869"/>
                  <a:pt x="12954" y="6858"/>
                </a:cubicBezTo>
                <a:cubicBezTo>
                  <a:pt x="12794" y="6952"/>
                  <a:pt x="12751" y="7016"/>
                  <a:pt x="12732" y="720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229280" y="3292560"/>
            <a:ext cx="560160" cy="274680"/>
          </a:xfrm>
          <a:custGeom>
            <a:avLst/>
            <a:gdLst/>
            <a:ahLst/>
            <a:rect l="l" t="t" r="r" b="b"/>
            <a:pathLst>
              <a:path w="1556" h="763">
                <a:moveTo>
                  <a:pt x="11748" y="9747"/>
                </a:moveTo>
                <a:cubicBezTo>
                  <a:pt x="11897" y="9732"/>
                  <a:pt x="12047" y="9694"/>
                  <a:pt x="12192" y="9652"/>
                </a:cubicBezTo>
                <a:cubicBezTo>
                  <a:pt x="12224" y="9641"/>
                  <a:pt x="12255" y="9631"/>
                  <a:pt x="12287" y="9620"/>
                </a:cubicBezTo>
              </a:path>
              <a:path w="1556" h="763">
                <a:moveTo>
                  <a:pt x="12510" y="9366"/>
                </a:moveTo>
                <a:cubicBezTo>
                  <a:pt x="12523" y="9526"/>
                  <a:pt x="12541" y="9680"/>
                  <a:pt x="12541" y="9842"/>
                </a:cubicBezTo>
              </a:path>
              <a:path w="1556" h="763">
                <a:moveTo>
                  <a:pt x="13176" y="9144"/>
                </a:moveTo>
                <a:cubicBezTo>
                  <a:pt x="13122" y="9179"/>
                  <a:pt x="12993" y="9222"/>
                  <a:pt x="12954" y="9271"/>
                </a:cubicBezTo>
                <a:cubicBezTo>
                  <a:pt x="12899" y="9352"/>
                  <a:pt x="12878" y="9367"/>
                  <a:pt x="12890" y="9430"/>
                </a:cubicBezTo>
                <a:cubicBezTo>
                  <a:pt x="13002" y="9366"/>
                  <a:pt x="13229" y="9283"/>
                  <a:pt x="13303" y="9462"/>
                </a:cubicBezTo>
                <a:cubicBezTo>
                  <a:pt x="13405" y="9711"/>
                  <a:pt x="13134" y="9901"/>
                  <a:pt x="12922" y="9906"/>
                </a:cubicBezTo>
                <a:cubicBezTo>
                  <a:pt x="12880" y="9895"/>
                  <a:pt x="12837" y="9885"/>
                  <a:pt x="12795" y="987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286160" y="4378320"/>
            <a:ext cx="11160" cy="125280"/>
          </a:xfrm>
          <a:custGeom>
            <a:avLst/>
            <a:gdLst/>
            <a:ahLst/>
            <a:rect l="l" t="t" r="r" b="b"/>
            <a:pathLst>
              <a:path w="33" h="351">
                <a:moveTo>
                  <a:pt x="11938" y="12192"/>
                </a:moveTo>
                <a:cubicBezTo>
                  <a:pt x="11938" y="12098"/>
                  <a:pt x="11906" y="12403"/>
                  <a:pt x="11906" y="12414"/>
                </a:cubicBezTo>
                <a:cubicBezTo>
                  <a:pt x="11906" y="12467"/>
                  <a:pt x="11906" y="12478"/>
                  <a:pt x="11906" y="1251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435560" y="4332240"/>
            <a:ext cx="125280" cy="149400"/>
          </a:xfrm>
          <a:custGeom>
            <a:avLst/>
            <a:gdLst/>
            <a:ahLst/>
            <a:rect l="l" t="t" r="r" b="b"/>
            <a:pathLst>
              <a:path w="350" h="414">
                <a:moveTo>
                  <a:pt x="12541" y="12033"/>
                </a:moveTo>
                <a:cubicBezTo>
                  <a:pt x="12405" y="12101"/>
                  <a:pt x="12306" y="12216"/>
                  <a:pt x="12319" y="12382"/>
                </a:cubicBezTo>
                <a:cubicBezTo>
                  <a:pt x="12330" y="12403"/>
                  <a:pt x="12340" y="12425"/>
                  <a:pt x="12351" y="12446"/>
                </a:cubicBezTo>
                <a:cubicBezTo>
                  <a:pt x="12472" y="12423"/>
                  <a:pt x="12816" y="12304"/>
                  <a:pt x="12636" y="12097"/>
                </a:cubicBezTo>
                <a:cubicBezTo>
                  <a:pt x="12522" y="12039"/>
                  <a:pt x="12493" y="12013"/>
                  <a:pt x="12414" y="1206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125960" y="5462640"/>
            <a:ext cx="434880" cy="252360"/>
          </a:xfrm>
          <a:custGeom>
            <a:avLst/>
            <a:gdLst/>
            <a:ahLst/>
            <a:rect l="l" t="t" r="r" b="b"/>
            <a:pathLst>
              <a:path w="1207" h="700">
                <a:moveTo>
                  <a:pt x="11652" y="15304"/>
                </a:moveTo>
                <a:cubicBezTo>
                  <a:pt x="11721" y="15235"/>
                  <a:pt x="11700" y="15251"/>
                  <a:pt x="11811" y="15240"/>
                </a:cubicBezTo>
                <a:cubicBezTo>
                  <a:pt x="11971" y="15508"/>
                  <a:pt x="11884" y="15681"/>
                  <a:pt x="11589" y="15843"/>
                </a:cubicBezTo>
                <a:cubicBezTo>
                  <a:pt x="11547" y="15854"/>
                  <a:pt x="11504" y="15864"/>
                  <a:pt x="11462" y="15875"/>
                </a:cubicBezTo>
                <a:cubicBezTo>
                  <a:pt x="11514" y="15691"/>
                  <a:pt x="11641" y="15613"/>
                  <a:pt x="11843" y="15653"/>
                </a:cubicBezTo>
                <a:cubicBezTo>
                  <a:pt x="11986" y="15681"/>
                  <a:pt x="12002" y="15861"/>
                  <a:pt x="12002" y="15748"/>
                </a:cubicBezTo>
              </a:path>
              <a:path w="1207" h="700">
                <a:moveTo>
                  <a:pt x="12541" y="15176"/>
                </a:moveTo>
                <a:cubicBezTo>
                  <a:pt x="12471" y="15204"/>
                  <a:pt x="12264" y="15206"/>
                  <a:pt x="12224" y="15240"/>
                </a:cubicBezTo>
                <a:cubicBezTo>
                  <a:pt x="12199" y="15261"/>
                  <a:pt x="12196" y="15425"/>
                  <a:pt x="12192" y="15462"/>
                </a:cubicBezTo>
                <a:cubicBezTo>
                  <a:pt x="12336" y="15462"/>
                  <a:pt x="12477" y="15436"/>
                  <a:pt x="12605" y="15526"/>
                </a:cubicBezTo>
                <a:cubicBezTo>
                  <a:pt x="12839" y="15690"/>
                  <a:pt x="12382" y="15824"/>
                  <a:pt x="12287" y="15843"/>
                </a:cubicBezTo>
                <a:cubicBezTo>
                  <a:pt x="12212" y="15843"/>
                  <a:pt x="12187" y="15831"/>
                  <a:pt x="12192" y="157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97"/>
                                        </p:tgtEl>
                                        <p:attrNameLst>
                                          <p:attrName>style.visibility</p:attrName>
                                        </p:attrNameLst>
                                      </p:cBhvr>
                                      <p:to>
                                        <p:strVal val="visible"/>
                                      </p:to>
                                    </p:set>
                                    <p:anim calcmode="lin" valueType="num">
                                      <p:cBhvr additive="base">
                                        <p:cTn id="137" dur="500" fill="hold"/>
                                        <p:tgtEl>
                                          <p:spTgt spid="197"/>
                                        </p:tgtEl>
                                        <p:attrNameLst>
                                          <p:attrName>ppt_x</p:attrName>
                                        </p:attrNameLst>
                                      </p:cBhvr>
                                      <p:tavLst>
                                        <p:tav tm="0">
                                          <p:val>
                                            <p:strVal val="0-#ppt_w/2"/>
                                          </p:val>
                                        </p:tav>
                                        <p:tav tm="100000">
                                          <p:val>
                                            <p:strVal val="#ppt_x"/>
                                          </p:val>
                                        </p:tav>
                                      </p:tavLst>
                                    </p:anim>
                                    <p:anim calcmode="lin" valueType="num">
                                      <p:cBhvr additive="base">
                                        <p:cTn id="13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98"/>
                                        </p:tgtEl>
                                        <p:attrNameLst>
                                          <p:attrName>style.visibility</p:attrName>
                                        </p:attrNameLst>
                                      </p:cBhvr>
                                      <p:to>
                                        <p:strVal val="visible"/>
                                      </p:to>
                                    </p:set>
                                    <p:anim calcmode="lin" valueType="num">
                                      <p:cBhvr additive="base">
                                        <p:cTn id="143" dur="500" fill="hold"/>
                                        <p:tgtEl>
                                          <p:spTgt spid="198"/>
                                        </p:tgtEl>
                                        <p:attrNameLst>
                                          <p:attrName>ppt_x</p:attrName>
                                        </p:attrNameLst>
                                      </p:cBhvr>
                                      <p:tavLst>
                                        <p:tav tm="0">
                                          <p:val>
                                            <p:strVal val="0-#ppt_w/2"/>
                                          </p:val>
                                        </p:tav>
                                        <p:tav tm="100000">
                                          <p:val>
                                            <p:strVal val="#ppt_x"/>
                                          </p:val>
                                        </p:tav>
                                      </p:tavLst>
                                    </p:anim>
                                    <p:anim calcmode="lin" valueType="num">
                                      <p:cBhvr additive="base">
                                        <p:cTn id="144"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99"/>
                                        </p:tgtEl>
                                        <p:attrNameLst>
                                          <p:attrName>style.visibility</p:attrName>
                                        </p:attrNameLst>
                                      </p:cBhvr>
                                      <p:to>
                                        <p:strVal val="visible"/>
                                      </p:to>
                                    </p:set>
                                    <p:anim calcmode="lin" valueType="num">
                                      <p:cBhvr additive="base">
                                        <p:cTn id="149" dur="500" fill="hold"/>
                                        <p:tgtEl>
                                          <p:spTgt spid="199"/>
                                        </p:tgtEl>
                                        <p:attrNameLst>
                                          <p:attrName>ppt_x</p:attrName>
                                        </p:attrNameLst>
                                      </p:cBhvr>
                                      <p:tavLst>
                                        <p:tav tm="0">
                                          <p:val>
                                            <p:strVal val="0-#ppt_w/2"/>
                                          </p:val>
                                        </p:tav>
                                        <p:tav tm="100000">
                                          <p:val>
                                            <p:strVal val="#ppt_x"/>
                                          </p:val>
                                        </p:tav>
                                      </p:tavLst>
                                    </p:anim>
                                    <p:anim calcmode="lin" valueType="num">
                                      <p:cBhvr additive="base">
                                        <p:cTn id="150"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00"/>
                                        </p:tgtEl>
                                        <p:attrNameLst>
                                          <p:attrName>style.visibility</p:attrName>
                                        </p:attrNameLst>
                                      </p:cBhvr>
                                      <p:to>
                                        <p:strVal val="visible"/>
                                      </p:to>
                                    </p:set>
                                    <p:anim calcmode="lin" valueType="num">
                                      <p:cBhvr additive="base">
                                        <p:cTn id="155" dur="500" fill="hold"/>
                                        <p:tgtEl>
                                          <p:spTgt spid="200"/>
                                        </p:tgtEl>
                                        <p:attrNameLst>
                                          <p:attrName>ppt_x</p:attrName>
                                        </p:attrNameLst>
                                      </p:cBhvr>
                                      <p:tavLst>
                                        <p:tav tm="0">
                                          <p:val>
                                            <p:strVal val="0-#ppt_w/2"/>
                                          </p:val>
                                        </p:tav>
                                        <p:tav tm="100000">
                                          <p:val>
                                            <p:strVal val="#ppt_x"/>
                                          </p:val>
                                        </p:tav>
                                      </p:tavLst>
                                    </p:anim>
                                    <p:anim calcmode="lin" valueType="num">
                                      <p:cBhvr additive="base">
                                        <p:cTn id="156"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p:txBody>
      </p:sp>
      <p:sp>
        <p:nvSpPr>
          <p:cNvPr id="207" name="PlaceHolder 2"/>
          <p:cNvSpPr>
            <a:spLocks noGrp="1"/>
          </p:cNvSpPr>
          <p:nvPr>
            <p:ph type="subTitle"/>
          </p:nvPr>
        </p:nvSpPr>
        <p:spPr>
          <a:xfrm>
            <a:off x="1371600" y="2514600"/>
            <a:ext cx="6324480" cy="13716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ot the given point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a:t>
            </a:r>
            <a:endParaRPr b="0" lang="en-US" sz="3200" spc="-1" strike="noStrike">
              <a:solidFill>
                <a:srgbClr val="000000"/>
              </a:solidFill>
              <a:latin typeface="Arial"/>
            </a:endParaRPr>
          </a:p>
        </p:txBody>
      </p:sp>
      <p:sp>
        <p:nvSpPr>
          <p:cNvPr id="208" name=""/>
          <p:cNvSpPr/>
          <p:nvPr/>
        </p:nvSpPr>
        <p:spPr>
          <a:xfrm>
            <a:off x="4395240" y="44290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endParaRPr b="0" lang="en-US" sz="3200" spc="-1" strike="noStrike">
              <a:solidFill>
                <a:srgbClr val="000000"/>
              </a:solidFill>
              <a:latin typeface="Arial"/>
            </a:endParaRPr>
          </a:p>
        </p:txBody>
      </p:sp>
      <p:sp>
        <p:nvSpPr>
          <p:cNvPr id="209" name=""/>
          <p:cNvSpPr/>
          <p:nvPr/>
        </p:nvSpPr>
        <p:spPr>
          <a:xfrm>
            <a:off x="4003200" y="5486400"/>
            <a:ext cx="1136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1/2</a:t>
            </a:r>
            <a:endParaRPr b="0" lang="en-US" sz="3200" spc="-1" strike="noStrike">
              <a:solidFill>
                <a:srgbClr val="000000"/>
              </a:solidFill>
              <a:latin typeface="Arial"/>
            </a:endParaRPr>
          </a:p>
        </p:txBody>
      </p:sp>
      <p:sp>
        <p:nvSpPr>
          <p:cNvPr id="210" name=""/>
          <p:cNvSpPr/>
          <p:nvPr/>
        </p:nvSpPr>
        <p:spPr>
          <a:xfrm>
            <a:off x="4435560" y="1760400"/>
            <a:ext cx="160200" cy="457200"/>
          </a:xfrm>
          <a:custGeom>
            <a:avLst/>
            <a:gdLst/>
            <a:ahLst/>
            <a:rect l="l" t="t" r="r" b="b"/>
            <a:pathLst>
              <a:path w="446" h="1271">
                <a:moveTo>
                  <a:pt x="12319" y="4890"/>
                </a:moveTo>
                <a:cubicBezTo>
                  <a:pt x="12394" y="4964"/>
                  <a:pt x="12383" y="5259"/>
                  <a:pt x="12414" y="5398"/>
                </a:cubicBezTo>
                <a:cubicBezTo>
                  <a:pt x="12425" y="5430"/>
                  <a:pt x="12435" y="5461"/>
                  <a:pt x="12446" y="5493"/>
                </a:cubicBezTo>
              </a:path>
              <a:path w="446" h="1271">
                <a:moveTo>
                  <a:pt x="12605" y="5715"/>
                </a:moveTo>
                <a:cubicBezTo>
                  <a:pt x="12544" y="5884"/>
                  <a:pt x="12490" y="5987"/>
                  <a:pt x="12541" y="6160"/>
                </a:cubicBezTo>
                <a:cubicBezTo>
                  <a:pt x="12738" y="6055"/>
                  <a:pt x="12904" y="5858"/>
                  <a:pt x="12668" y="5652"/>
                </a:cubicBezTo>
                <a:cubicBezTo>
                  <a:pt x="12636" y="5641"/>
                  <a:pt x="12605" y="5631"/>
                  <a:pt x="12573" y="56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075280" y="1577880"/>
            <a:ext cx="22320" cy="285840"/>
          </a:xfrm>
          <a:custGeom>
            <a:avLst/>
            <a:gdLst/>
            <a:ahLst/>
            <a:rect l="l" t="t" r="r" b="b"/>
            <a:pathLst>
              <a:path w="64" h="794">
                <a:moveTo>
                  <a:pt x="14097" y="4382"/>
                </a:moveTo>
                <a:cubicBezTo>
                  <a:pt x="14110" y="4647"/>
                  <a:pt x="14147" y="4910"/>
                  <a:pt x="14160" y="517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657760" y="1542960"/>
            <a:ext cx="57240" cy="263520"/>
          </a:xfrm>
          <a:custGeom>
            <a:avLst/>
            <a:gdLst/>
            <a:ahLst/>
            <a:rect l="l" t="t" r="r" b="b"/>
            <a:pathLst>
              <a:path w="160" h="731">
                <a:moveTo>
                  <a:pt x="15716" y="4286"/>
                </a:moveTo>
                <a:cubicBezTo>
                  <a:pt x="15762" y="4517"/>
                  <a:pt x="15821" y="4753"/>
                  <a:pt x="15843" y="4985"/>
                </a:cubicBezTo>
                <a:cubicBezTo>
                  <a:pt x="15843" y="5021"/>
                  <a:pt x="15846" y="5028"/>
                  <a:pt x="15875" y="498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058080" y="1521000"/>
            <a:ext cx="80640" cy="217440"/>
          </a:xfrm>
          <a:custGeom>
            <a:avLst/>
            <a:gdLst/>
            <a:ahLst/>
            <a:rect l="l" t="t" r="r" b="b"/>
            <a:pathLst>
              <a:path w="223" h="604">
                <a:moveTo>
                  <a:pt x="16891" y="4223"/>
                </a:moveTo>
                <a:cubicBezTo>
                  <a:pt x="16947" y="4392"/>
                  <a:pt x="17014" y="4585"/>
                  <a:pt x="17050" y="4762"/>
                </a:cubicBezTo>
                <a:cubicBezTo>
                  <a:pt x="17050" y="4815"/>
                  <a:pt x="17050" y="4847"/>
                  <a:pt x="17050" y="4794"/>
                </a:cubicBezTo>
              </a:path>
              <a:path w="223" h="604">
                <a:moveTo>
                  <a:pt x="16891" y="4413"/>
                </a:moveTo>
                <a:cubicBezTo>
                  <a:pt x="16851" y="4553"/>
                  <a:pt x="16808" y="4574"/>
                  <a:pt x="16891" y="4699"/>
                </a:cubicBezTo>
                <a:cubicBezTo>
                  <a:pt x="16966" y="4643"/>
                  <a:pt x="17120" y="4496"/>
                  <a:pt x="16954" y="4413"/>
                </a:cubicBezTo>
                <a:cubicBezTo>
                  <a:pt x="16837" y="4354"/>
                  <a:pt x="16863" y="4557"/>
                  <a:pt x="16859" y="4604"/>
                </a:cubicBezTo>
                <a:cubicBezTo>
                  <a:pt x="17004" y="4620"/>
                  <a:pt x="17110" y="4519"/>
                  <a:pt x="17018" y="4350"/>
                </a:cubicBezTo>
                <a:cubicBezTo>
                  <a:pt x="16970" y="4262"/>
                  <a:pt x="16923" y="4556"/>
                  <a:pt x="16923" y="4572"/>
                </a:cubicBezTo>
                <a:cubicBezTo>
                  <a:pt x="17017" y="4478"/>
                  <a:pt x="17049" y="4505"/>
                  <a:pt x="16986" y="438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515280" y="1428840"/>
            <a:ext cx="720720" cy="320760"/>
          </a:xfrm>
          <a:custGeom>
            <a:avLst/>
            <a:gdLst/>
            <a:ahLst/>
            <a:rect l="l" t="t" r="r" b="b"/>
            <a:pathLst>
              <a:path w="2001" h="890">
                <a:moveTo>
                  <a:pt x="19145" y="3969"/>
                </a:moveTo>
                <a:cubicBezTo>
                  <a:pt x="19460" y="4012"/>
                  <a:pt x="19721" y="4176"/>
                  <a:pt x="20034" y="4254"/>
                </a:cubicBezTo>
                <a:cubicBezTo>
                  <a:pt x="20055" y="4254"/>
                  <a:pt x="20077" y="4254"/>
                  <a:pt x="20098" y="4254"/>
                </a:cubicBezTo>
                <a:cubicBezTo>
                  <a:pt x="19989" y="4436"/>
                  <a:pt x="19593" y="4748"/>
                  <a:pt x="19368" y="4826"/>
                </a:cubicBezTo>
                <a:cubicBezTo>
                  <a:pt x="19283" y="4826"/>
                  <a:pt x="19199" y="4826"/>
                  <a:pt x="19114" y="4826"/>
                </a:cubicBezTo>
              </a:path>
              <a:path w="2001" h="890">
                <a:moveTo>
                  <a:pt x="18098" y="4128"/>
                </a:moveTo>
                <a:cubicBezTo>
                  <a:pt x="18136" y="4329"/>
                  <a:pt x="18159" y="4538"/>
                  <a:pt x="18193" y="4731"/>
                </a:cubicBezTo>
                <a:cubicBezTo>
                  <a:pt x="18193" y="4785"/>
                  <a:pt x="18200" y="4773"/>
                  <a:pt x="18224" y="4667"/>
                </a:cubicBezTo>
              </a:path>
              <a:path w="2001" h="890">
                <a:moveTo>
                  <a:pt x="19368" y="4223"/>
                </a:moveTo>
                <a:cubicBezTo>
                  <a:pt x="19391" y="4413"/>
                  <a:pt x="19439" y="4603"/>
                  <a:pt x="19463" y="4794"/>
                </a:cubicBezTo>
                <a:cubicBezTo>
                  <a:pt x="19463" y="4869"/>
                  <a:pt x="19463" y="4879"/>
                  <a:pt x="19463" y="4762"/>
                </a:cubicBezTo>
              </a:path>
              <a:path w="2001" h="890">
                <a:moveTo>
                  <a:pt x="18732" y="4382"/>
                </a:moveTo>
                <a:cubicBezTo>
                  <a:pt x="18718" y="4437"/>
                  <a:pt x="18673" y="4457"/>
                  <a:pt x="18732" y="4477"/>
                </a:cubicBezTo>
                <a:cubicBezTo>
                  <a:pt x="18747" y="4446"/>
                  <a:pt x="18760" y="4186"/>
                  <a:pt x="18669" y="4286"/>
                </a:cubicBezTo>
                <a:cubicBezTo>
                  <a:pt x="18594" y="4368"/>
                  <a:pt x="18660" y="4612"/>
                  <a:pt x="18764" y="4477"/>
                </a:cubicBezTo>
                <a:cubicBezTo>
                  <a:pt x="18775" y="4445"/>
                  <a:pt x="18785" y="4414"/>
                  <a:pt x="18796" y="4382"/>
                </a:cubicBezTo>
                <a:cubicBezTo>
                  <a:pt x="18771" y="4268"/>
                  <a:pt x="18660" y="4217"/>
                  <a:pt x="18669" y="4413"/>
                </a:cubicBezTo>
                <a:cubicBezTo>
                  <a:pt x="18674" y="4528"/>
                  <a:pt x="18848" y="4417"/>
                  <a:pt x="18796" y="4254"/>
                </a:cubicBezTo>
                <a:cubicBezTo>
                  <a:pt x="18757" y="4132"/>
                  <a:pt x="18732" y="4386"/>
                  <a:pt x="18732" y="441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40120" y="1760400"/>
            <a:ext cx="138240" cy="274680"/>
          </a:xfrm>
          <a:custGeom>
            <a:avLst/>
            <a:gdLst/>
            <a:ahLst/>
            <a:rect l="l" t="t" r="r" b="b"/>
            <a:pathLst>
              <a:path w="382" h="763">
                <a:moveTo>
                  <a:pt x="10827" y="4890"/>
                </a:moveTo>
                <a:cubicBezTo>
                  <a:pt x="10874" y="5104"/>
                  <a:pt x="10956" y="5430"/>
                  <a:pt x="10890" y="5652"/>
                </a:cubicBezTo>
                <a:cubicBezTo>
                  <a:pt x="10879" y="5641"/>
                  <a:pt x="10869" y="5631"/>
                  <a:pt x="10858" y="5620"/>
                </a:cubicBezTo>
              </a:path>
              <a:path w="382" h="763">
                <a:moveTo>
                  <a:pt x="10922" y="5175"/>
                </a:moveTo>
                <a:cubicBezTo>
                  <a:pt x="10860" y="5072"/>
                  <a:pt x="10730" y="5012"/>
                  <a:pt x="10668" y="5175"/>
                </a:cubicBezTo>
                <a:cubicBezTo>
                  <a:pt x="10588" y="5386"/>
                  <a:pt x="10923" y="5351"/>
                  <a:pt x="10986" y="5207"/>
                </a:cubicBezTo>
                <a:cubicBezTo>
                  <a:pt x="10986" y="5165"/>
                  <a:pt x="10986" y="5122"/>
                  <a:pt x="10986" y="5080"/>
                </a:cubicBezTo>
                <a:cubicBezTo>
                  <a:pt x="10881" y="4954"/>
                  <a:pt x="10850" y="5046"/>
                  <a:pt x="10827" y="5175"/>
                </a:cubicBezTo>
                <a:cubicBezTo>
                  <a:pt x="10973" y="5212"/>
                  <a:pt x="11066" y="5124"/>
                  <a:pt x="11049" y="4953"/>
                </a:cubicBezTo>
                <a:cubicBezTo>
                  <a:pt x="11042" y="4889"/>
                  <a:pt x="10782" y="5111"/>
                  <a:pt x="10922" y="5239"/>
                </a:cubicBezTo>
                <a:cubicBezTo>
                  <a:pt x="11003" y="5239"/>
                  <a:pt x="11033" y="5225"/>
                  <a:pt x="11049" y="5144"/>
                </a:cubicBezTo>
                <a:cubicBezTo>
                  <a:pt x="11026" y="4845"/>
                  <a:pt x="10951" y="5085"/>
                  <a:pt x="10890" y="5239"/>
                </a:cubicBezTo>
                <a:cubicBezTo>
                  <a:pt x="10869" y="5292"/>
                  <a:pt x="10848" y="5345"/>
                  <a:pt x="10827" y="53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349800" y="1679400"/>
            <a:ext cx="21960" cy="274680"/>
          </a:xfrm>
          <a:custGeom>
            <a:avLst/>
            <a:gdLst/>
            <a:ahLst/>
            <a:rect l="l" t="t" r="r" b="b"/>
            <a:pathLst>
              <a:path w="64" h="763">
                <a:moveTo>
                  <a:pt x="9366" y="4667"/>
                </a:moveTo>
                <a:cubicBezTo>
                  <a:pt x="9345" y="4911"/>
                  <a:pt x="9366" y="5149"/>
                  <a:pt x="9366" y="5398"/>
                </a:cubicBezTo>
                <a:cubicBezTo>
                  <a:pt x="9366" y="5448"/>
                  <a:pt x="9352" y="5445"/>
                  <a:pt x="9303" y="536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822400" y="1714680"/>
            <a:ext cx="1800" cy="285480"/>
          </a:xfrm>
          <a:custGeom>
            <a:avLst/>
            <a:gdLst/>
            <a:ahLst/>
            <a:rect l="l" t="t" r="r" b="b"/>
            <a:pathLst>
              <a:path w="1" h="795">
                <a:moveTo>
                  <a:pt x="7842" y="4762"/>
                </a:moveTo>
                <a:cubicBezTo>
                  <a:pt x="7842" y="5027"/>
                  <a:pt x="7842" y="5291"/>
                  <a:pt x="7842" y="555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125800" y="1635120"/>
            <a:ext cx="309600" cy="388800"/>
          </a:xfrm>
          <a:custGeom>
            <a:avLst/>
            <a:gdLst/>
            <a:ahLst/>
            <a:rect l="l" t="t" r="r" b="b"/>
            <a:pathLst>
              <a:path w="858" h="1081">
                <a:moveTo>
                  <a:pt x="6763" y="4540"/>
                </a:moveTo>
                <a:cubicBezTo>
                  <a:pt x="6481" y="4789"/>
                  <a:pt x="6222" y="5033"/>
                  <a:pt x="5906" y="5239"/>
                </a:cubicBezTo>
                <a:cubicBezTo>
                  <a:pt x="6015" y="5326"/>
                  <a:pt x="6111" y="5440"/>
                  <a:pt x="6223" y="5524"/>
                </a:cubicBezTo>
                <a:cubicBezTo>
                  <a:pt x="6424" y="5645"/>
                  <a:pt x="6523" y="5663"/>
                  <a:pt x="6699" y="5524"/>
                </a:cubicBezTo>
              </a:path>
              <a:path w="858" h="1081">
                <a:moveTo>
                  <a:pt x="6668" y="4794"/>
                </a:moveTo>
                <a:cubicBezTo>
                  <a:pt x="6679" y="5049"/>
                  <a:pt x="6699" y="5300"/>
                  <a:pt x="6699" y="5556"/>
                </a:cubicBezTo>
                <a:cubicBezTo>
                  <a:pt x="6699" y="5505"/>
                  <a:pt x="6686" y="5481"/>
                  <a:pt x="6636" y="546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068560" y="1589040"/>
            <a:ext cx="5087880" cy="297000"/>
          </a:xfrm>
          <a:custGeom>
            <a:avLst/>
            <a:gdLst/>
            <a:ahLst/>
            <a:rect l="l" t="t" r="r" b="b"/>
            <a:pathLst>
              <a:path w="14130" h="827">
                <a:moveTo>
                  <a:pt x="5747" y="5239"/>
                </a:moveTo>
                <a:cubicBezTo>
                  <a:pt x="6435" y="5224"/>
                  <a:pt x="7122" y="5186"/>
                  <a:pt x="7810" y="5175"/>
                </a:cubicBezTo>
                <a:cubicBezTo>
                  <a:pt x="8762" y="5160"/>
                  <a:pt x="9715" y="5207"/>
                  <a:pt x="10668" y="5207"/>
                </a:cubicBezTo>
                <a:cubicBezTo>
                  <a:pt x="11615" y="5207"/>
                  <a:pt x="12526" y="5122"/>
                  <a:pt x="13462" y="4985"/>
                </a:cubicBezTo>
                <a:cubicBezTo>
                  <a:pt x="14301" y="4862"/>
                  <a:pt x="15131" y="4696"/>
                  <a:pt x="15970" y="4572"/>
                </a:cubicBezTo>
                <a:cubicBezTo>
                  <a:pt x="16867" y="4439"/>
                  <a:pt x="17763" y="4419"/>
                  <a:pt x="18669" y="4413"/>
                </a:cubicBezTo>
                <a:cubicBezTo>
                  <a:pt x="19075" y="4410"/>
                  <a:pt x="19473" y="4415"/>
                  <a:pt x="19876" y="44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07">
                                            <p:txEl>
                                              <p:pRg st="0" end="0"/>
                                            </p:txEl>
                                          </p:spTgt>
                                        </p:tgtEl>
                                        <p:attrNameLst>
                                          <p:attrName>style.visibility</p:attrName>
                                        </p:attrNameLst>
                                      </p:cBhvr>
                                      <p:to>
                                        <p:strVal val="visible"/>
                                      </p:to>
                                    </p:set>
                                    <p:anim calcmode="lin" valueType="num">
                                      <p:cBhvr additive="base">
                                        <p:cTn id="163"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07">
                                            <p:txEl>
                                              <p:pRg st="1" end="1"/>
                                            </p:txEl>
                                          </p:spTgt>
                                        </p:tgtEl>
                                        <p:attrNameLst>
                                          <p:attrName>style.visibility</p:attrName>
                                        </p:attrNameLst>
                                      </p:cBhvr>
                                      <p:to>
                                        <p:strVal val="visible"/>
                                      </p:to>
                                    </p:set>
                                    <p:anim calcmode="lin" valueType="num">
                                      <p:cBhvr additive="base">
                                        <p:cTn id="169" dur="5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208"/>
                                        </p:tgtEl>
                                        <p:attrNameLst>
                                          <p:attrName>style.visibility</p:attrName>
                                        </p:attrNameLst>
                                      </p:cBhvr>
                                      <p:to>
                                        <p:strVal val="visible"/>
                                      </p:to>
                                    </p:set>
                                    <p:anim calcmode="lin" valueType="num">
                                      <p:cBhvr additive="base">
                                        <p:cTn id="175" dur="500" fill="hold"/>
                                        <p:tgtEl>
                                          <p:spTgt spid="208"/>
                                        </p:tgtEl>
                                        <p:attrNameLst>
                                          <p:attrName>ppt_x</p:attrName>
                                        </p:attrNameLst>
                                      </p:cBhvr>
                                      <p:tavLst>
                                        <p:tav tm="0">
                                          <p:val>
                                            <p:strVal val="0-#ppt_w/2"/>
                                          </p:val>
                                        </p:tav>
                                        <p:tav tm="100000">
                                          <p:val>
                                            <p:strVal val="#ppt_x"/>
                                          </p:val>
                                        </p:tav>
                                      </p:tavLst>
                                    </p:anim>
                                    <p:anim calcmode="lin" valueType="num">
                                      <p:cBhvr additive="base">
                                        <p:cTn id="17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9"/>
                                        </p:tgtEl>
                                        <p:attrNameLst>
                                          <p:attrName>style.visibility</p:attrName>
                                        </p:attrNameLst>
                                      </p:cBhvr>
                                      <p:to>
                                        <p:strVal val="visible"/>
                                      </p:to>
                                    </p:set>
                                    <p:anim calcmode="lin" valueType="num">
                                      <p:cBhvr additive="base">
                                        <p:cTn id="181" dur="500" fill="hold"/>
                                        <p:tgtEl>
                                          <p:spTgt spid="209"/>
                                        </p:tgtEl>
                                        <p:attrNameLst>
                                          <p:attrName>ppt_x</p:attrName>
                                        </p:attrNameLst>
                                      </p:cBhvr>
                                      <p:tavLst>
                                        <p:tav tm="0">
                                          <p:val>
                                            <p:strVal val="0-#ppt_w/2"/>
                                          </p:val>
                                        </p:tav>
                                        <p:tav tm="100000">
                                          <p:val>
                                            <p:strVal val="#ppt_x"/>
                                          </p:val>
                                        </p:tav>
                                      </p:tavLst>
                                    </p:anim>
                                    <p:anim calcmode="lin" valueType="num">
                                      <p:cBhvr additive="base">
                                        <p:cTn id="1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p:txBody>
      </p:sp>
      <p:sp>
        <p:nvSpPr>
          <p:cNvPr id="221" name="PlaceHolder 2"/>
          <p:cNvSpPr>
            <a:spLocks noGrp="1"/>
          </p:cNvSpPr>
          <p:nvPr>
            <p:ph type="subTitle"/>
          </p:nvPr>
        </p:nvSpPr>
        <p:spPr>
          <a:xfrm>
            <a:off x="723960" y="1599840"/>
            <a:ext cx="769608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quadrant is the point (2 1/2, -2)?</a:t>
            </a:r>
            <a:endParaRPr b="0" lang="en-US" sz="3200" spc="-1" strike="noStrike">
              <a:solidFill>
                <a:srgbClr val="000000"/>
              </a:solidFill>
              <a:latin typeface="Arial"/>
            </a:endParaRPr>
          </a:p>
        </p:txBody>
      </p:sp>
      <p:sp>
        <p:nvSpPr>
          <p:cNvPr id="222" name=""/>
          <p:cNvSpPr/>
          <p:nvPr/>
        </p:nvSpPr>
        <p:spPr>
          <a:xfrm>
            <a:off x="1143000" y="2971800"/>
            <a:ext cx="6934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your review packet, what is the coordinate location of the fly?</a:t>
            </a:r>
            <a:endParaRPr b="0" lang="en-US" sz="3200" spc="-1" strike="noStrike">
              <a:solidFill>
                <a:srgbClr val="000000"/>
              </a:solidFill>
              <a:latin typeface="Arial"/>
            </a:endParaRPr>
          </a:p>
        </p:txBody>
      </p:sp>
      <p:sp>
        <p:nvSpPr>
          <p:cNvPr id="223" name=""/>
          <p:cNvSpPr/>
          <p:nvPr/>
        </p:nvSpPr>
        <p:spPr>
          <a:xfrm>
            <a:off x="4479840" y="3978360"/>
            <a:ext cx="881280" cy="582480"/>
          </a:xfrm>
          <a:custGeom>
            <a:avLst/>
            <a:gdLst/>
            <a:ahLst/>
            <a:rect l="l" t="t" r="r" b="b"/>
            <a:pathLst>
              <a:path w="2446" h="1620">
                <a:moveTo>
                  <a:pt x="12636" y="11081"/>
                </a:moveTo>
                <a:cubicBezTo>
                  <a:pt x="12735" y="11015"/>
                  <a:pt x="12483" y="11722"/>
                  <a:pt x="12478" y="11748"/>
                </a:cubicBezTo>
                <a:cubicBezTo>
                  <a:pt x="12428" y="12030"/>
                  <a:pt x="12406" y="12393"/>
                  <a:pt x="12732" y="12319"/>
                </a:cubicBezTo>
              </a:path>
              <a:path w="2446" h="1620">
                <a:moveTo>
                  <a:pt x="12986" y="11589"/>
                </a:moveTo>
                <a:cubicBezTo>
                  <a:pt x="12933" y="11695"/>
                  <a:pt x="12922" y="11716"/>
                  <a:pt x="12890" y="11779"/>
                </a:cubicBezTo>
                <a:cubicBezTo>
                  <a:pt x="13062" y="11779"/>
                  <a:pt x="13270" y="11786"/>
                  <a:pt x="13430" y="11716"/>
                </a:cubicBezTo>
                <a:cubicBezTo>
                  <a:pt x="13451" y="11695"/>
                  <a:pt x="13473" y="11673"/>
                  <a:pt x="13494" y="11652"/>
                </a:cubicBezTo>
              </a:path>
              <a:path w="2446" h="1620">
                <a:moveTo>
                  <a:pt x="13144" y="11271"/>
                </a:moveTo>
                <a:cubicBezTo>
                  <a:pt x="13175" y="11599"/>
                  <a:pt x="13219" y="11928"/>
                  <a:pt x="13240" y="12256"/>
                </a:cubicBezTo>
              </a:path>
              <a:path w="2446" h="1620">
                <a:moveTo>
                  <a:pt x="13589" y="12224"/>
                </a:moveTo>
                <a:cubicBezTo>
                  <a:pt x="13589" y="12330"/>
                  <a:pt x="13589" y="12351"/>
                  <a:pt x="13589" y="12414"/>
                </a:cubicBezTo>
              </a:path>
              <a:path w="2446" h="1620">
                <a:moveTo>
                  <a:pt x="13843" y="11398"/>
                </a:moveTo>
                <a:cubicBezTo>
                  <a:pt x="13952" y="11358"/>
                  <a:pt x="14290" y="11265"/>
                  <a:pt x="14192" y="11525"/>
                </a:cubicBezTo>
                <a:cubicBezTo>
                  <a:pt x="14107" y="11610"/>
                  <a:pt x="14086" y="11631"/>
                  <a:pt x="14034" y="11684"/>
                </a:cubicBezTo>
                <a:cubicBezTo>
                  <a:pt x="14181" y="11628"/>
                  <a:pt x="14525" y="11679"/>
                  <a:pt x="14414" y="11938"/>
                </a:cubicBezTo>
                <a:cubicBezTo>
                  <a:pt x="14283" y="12243"/>
                  <a:pt x="14073" y="12097"/>
                  <a:pt x="13906" y="12002"/>
                </a:cubicBezTo>
              </a:path>
              <a:path w="2446" h="1620">
                <a:moveTo>
                  <a:pt x="14510" y="11176"/>
                </a:moveTo>
                <a:cubicBezTo>
                  <a:pt x="14737" y="11565"/>
                  <a:pt x="15167" y="12113"/>
                  <a:pt x="14668" y="12510"/>
                </a:cubicBezTo>
                <a:cubicBezTo>
                  <a:pt x="14552" y="12563"/>
                  <a:pt x="14435" y="12615"/>
                  <a:pt x="14319" y="126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21">
                                            <p:txEl>
                                              <p:pRg st="0" end="0"/>
                                            </p:txEl>
                                          </p:spTgt>
                                        </p:tgtEl>
                                        <p:attrNameLst>
                                          <p:attrName>style.visibility</p:attrName>
                                        </p:attrNameLst>
                                      </p:cBhvr>
                                      <p:to>
                                        <p:strVal val="visible"/>
                                      </p:to>
                                    </p:set>
                                    <p:anim calcmode="lin" valueType="num">
                                      <p:cBhvr additive="base">
                                        <p:cTn id="189"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22"/>
                                        </p:tgtEl>
                                        <p:attrNameLst>
                                          <p:attrName>style.visibility</p:attrName>
                                        </p:attrNameLst>
                                      </p:cBhvr>
                                      <p:to>
                                        <p:strVal val="visible"/>
                                      </p:to>
                                    </p:set>
                                    <p:anim calcmode="lin" valueType="num">
                                      <p:cBhvr additive="base">
                                        <p:cTn id="195" dur="500" fill="hold"/>
                                        <p:tgtEl>
                                          <p:spTgt spid="222"/>
                                        </p:tgtEl>
                                        <p:attrNameLst>
                                          <p:attrName>ppt_x</p:attrName>
                                        </p:attrNameLst>
                                      </p:cBhvr>
                                      <p:tavLst>
                                        <p:tav tm="0">
                                          <p:val>
                                            <p:strVal val="0-#ppt_w/2"/>
                                          </p:val>
                                        </p:tav>
                                        <p:tav tm="100000">
                                          <p:val>
                                            <p:strVal val="#ppt_x"/>
                                          </p:val>
                                        </p:tav>
                                      </p:tavLst>
                                    </p:anim>
                                    <p:anim calcmode="lin" valueType="num">
                                      <p:cBhvr additive="base">
                                        <p:cTn id="19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your worksheets and notes 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orrow’s test.</a:t>
            </a:r>
            <a:endParaRPr b="0" lang="en-US" sz="3200" spc="-1" strike="noStrike">
              <a:solidFill>
                <a:srgbClr val="000000"/>
              </a:solidFill>
              <a:latin typeface="Arial"/>
            </a:endParaRPr>
          </a:p>
        </p:txBody>
      </p:sp>
    </p:spTree>
  </p:cSld>
  <p:transition advTm="0">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304920"/>
            <a:ext cx="8229600" cy="761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jective:  Students will review Expressions, Equations and Integers to prepare for tomorrow’s test.</a:t>
            </a:r>
            <a:endParaRPr b="0" lang="en-US" sz="2000" spc="-1" strike="noStrike">
              <a:solidFill>
                <a:srgbClr val="000000"/>
              </a:solidFill>
              <a:latin typeface="Arial"/>
            </a:endParaRPr>
          </a:p>
        </p:txBody>
      </p:sp>
      <p:sp>
        <p:nvSpPr>
          <p:cNvPr id="44" name=""/>
          <p:cNvSpPr/>
          <p:nvPr/>
        </p:nvSpPr>
        <p:spPr>
          <a:xfrm>
            <a:off x="685800" y="1695600"/>
            <a:ext cx="73152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tributive property to evalu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8 + 4)</a:t>
            </a:r>
            <a:endParaRPr b="0" lang="en-US" sz="3200" spc="-1" strike="noStrike">
              <a:solidFill>
                <a:srgbClr val="000000"/>
              </a:solidFill>
              <a:latin typeface="Arial"/>
            </a:endParaRPr>
          </a:p>
        </p:txBody>
      </p:sp>
      <p:sp>
        <p:nvSpPr>
          <p:cNvPr id="45" name=""/>
          <p:cNvSpPr/>
          <p:nvPr/>
        </p:nvSpPr>
        <p:spPr>
          <a:xfrm>
            <a:off x="685800" y="3780000"/>
            <a:ext cx="8001000" cy="195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ch expression is equivalent to the given problem?</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6 x 403</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x 400) + (36x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  36 x 400 + 3</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 400) x (36 + 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D.  36 x 400 x 36 x 3</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3086280" y="2057400"/>
            <a:ext cx="2354040" cy="925560"/>
          </a:xfrm>
          <a:custGeom>
            <a:avLst/>
            <a:gdLst/>
            <a:ahLst/>
            <a:rect l="l" t="t" r="r" b="b"/>
            <a:pathLst>
              <a:path w="6542" h="2573">
                <a:moveTo>
                  <a:pt x="8922" y="7366"/>
                </a:moveTo>
                <a:cubicBezTo>
                  <a:pt x="8752" y="7400"/>
                  <a:pt x="8645" y="7736"/>
                  <a:pt x="8604" y="7874"/>
                </a:cubicBezTo>
                <a:cubicBezTo>
                  <a:pt x="8536" y="8106"/>
                  <a:pt x="8572" y="8171"/>
                  <a:pt x="8731" y="8287"/>
                </a:cubicBezTo>
              </a:path>
              <a:path w="6542" h="2573">
                <a:moveTo>
                  <a:pt x="9303" y="7430"/>
                </a:moveTo>
                <a:cubicBezTo>
                  <a:pt x="9521" y="7546"/>
                  <a:pt x="9654" y="7754"/>
                  <a:pt x="9398" y="7969"/>
                </a:cubicBezTo>
                <a:cubicBezTo>
                  <a:pt x="9252" y="8028"/>
                  <a:pt x="9212" y="8053"/>
                  <a:pt x="9112" y="8001"/>
                </a:cubicBezTo>
                <a:cubicBezTo>
                  <a:pt x="8975" y="7772"/>
                  <a:pt x="9226" y="7798"/>
                  <a:pt x="9398" y="7874"/>
                </a:cubicBezTo>
                <a:cubicBezTo>
                  <a:pt x="9509" y="7923"/>
                  <a:pt x="9549" y="8011"/>
                  <a:pt x="9620" y="8096"/>
                </a:cubicBezTo>
              </a:path>
              <a:path w="6542" h="2573">
                <a:moveTo>
                  <a:pt x="9938" y="7588"/>
                </a:moveTo>
                <a:cubicBezTo>
                  <a:pt x="9993" y="7762"/>
                  <a:pt x="10086" y="7852"/>
                  <a:pt x="10160" y="8001"/>
                </a:cubicBezTo>
              </a:path>
              <a:path w="6542" h="2573">
                <a:moveTo>
                  <a:pt x="10192" y="7493"/>
                </a:moveTo>
                <a:cubicBezTo>
                  <a:pt x="10131" y="7635"/>
                  <a:pt x="9946" y="7973"/>
                  <a:pt x="9970" y="8064"/>
                </a:cubicBezTo>
              </a:path>
              <a:path w="6542" h="2573">
                <a:moveTo>
                  <a:pt x="10763" y="7461"/>
                </a:moveTo>
                <a:cubicBezTo>
                  <a:pt x="10657" y="7514"/>
                  <a:pt x="10626" y="7514"/>
                  <a:pt x="10604" y="7588"/>
                </a:cubicBezTo>
                <a:cubicBezTo>
                  <a:pt x="10701" y="7678"/>
                  <a:pt x="11074" y="7890"/>
                  <a:pt x="10890" y="8033"/>
                </a:cubicBezTo>
                <a:cubicBezTo>
                  <a:pt x="10848" y="8043"/>
                  <a:pt x="10805" y="8054"/>
                  <a:pt x="10763" y="8064"/>
                </a:cubicBezTo>
                <a:cubicBezTo>
                  <a:pt x="10623" y="7844"/>
                  <a:pt x="10825" y="7785"/>
                  <a:pt x="10954" y="7556"/>
                </a:cubicBezTo>
                <a:cubicBezTo>
                  <a:pt x="10995" y="7483"/>
                  <a:pt x="11019" y="7419"/>
                  <a:pt x="10954" y="7461"/>
                </a:cubicBezTo>
              </a:path>
              <a:path w="6542" h="2573">
                <a:moveTo>
                  <a:pt x="11303" y="7334"/>
                </a:moveTo>
                <a:cubicBezTo>
                  <a:pt x="11403" y="7723"/>
                  <a:pt x="11480" y="7891"/>
                  <a:pt x="11176" y="8160"/>
                </a:cubicBezTo>
              </a:path>
              <a:path w="6542" h="2573">
                <a:moveTo>
                  <a:pt x="11811" y="7398"/>
                </a:moveTo>
                <a:cubicBezTo>
                  <a:pt x="11811" y="7279"/>
                  <a:pt x="11857" y="7566"/>
                  <a:pt x="11843" y="7684"/>
                </a:cubicBezTo>
                <a:cubicBezTo>
                  <a:pt x="11815" y="7767"/>
                  <a:pt x="11817" y="7799"/>
                  <a:pt x="11748" y="7779"/>
                </a:cubicBezTo>
              </a:path>
              <a:path w="6542" h="2573">
                <a:moveTo>
                  <a:pt x="11620" y="7556"/>
                </a:moveTo>
                <a:cubicBezTo>
                  <a:pt x="11765" y="7556"/>
                  <a:pt x="11891" y="7550"/>
                  <a:pt x="12033" y="7525"/>
                </a:cubicBezTo>
              </a:path>
              <a:path w="6542" h="2573">
                <a:moveTo>
                  <a:pt x="12319" y="6763"/>
                </a:moveTo>
                <a:cubicBezTo>
                  <a:pt x="12375" y="6726"/>
                  <a:pt x="12439" y="6828"/>
                  <a:pt x="12573" y="6763"/>
                </a:cubicBezTo>
                <a:cubicBezTo>
                  <a:pt x="12785" y="6660"/>
                  <a:pt x="12854" y="6400"/>
                  <a:pt x="12795" y="6191"/>
                </a:cubicBezTo>
                <a:cubicBezTo>
                  <a:pt x="12750" y="6034"/>
                  <a:pt x="12636" y="5690"/>
                  <a:pt x="12414" y="5715"/>
                </a:cubicBezTo>
                <a:cubicBezTo>
                  <a:pt x="12136" y="5746"/>
                  <a:pt x="11969" y="6250"/>
                  <a:pt x="12002" y="6477"/>
                </a:cubicBezTo>
                <a:cubicBezTo>
                  <a:pt x="12045" y="6772"/>
                  <a:pt x="12298" y="6715"/>
                  <a:pt x="12510" y="6731"/>
                </a:cubicBezTo>
              </a:path>
              <a:path w="6542" h="2573">
                <a:moveTo>
                  <a:pt x="12605" y="7112"/>
                </a:moveTo>
                <a:cubicBezTo>
                  <a:pt x="12470" y="7382"/>
                  <a:pt x="12205" y="7725"/>
                  <a:pt x="12382" y="8033"/>
                </a:cubicBezTo>
                <a:cubicBezTo>
                  <a:pt x="12505" y="8124"/>
                  <a:pt x="12542" y="8159"/>
                  <a:pt x="12636" y="8064"/>
                </a:cubicBezTo>
              </a:path>
              <a:path w="6542" h="2573">
                <a:moveTo>
                  <a:pt x="12954" y="7239"/>
                </a:moveTo>
                <a:cubicBezTo>
                  <a:pt x="13117" y="7254"/>
                  <a:pt x="13165" y="7285"/>
                  <a:pt x="13303" y="7366"/>
                </a:cubicBezTo>
                <a:cubicBezTo>
                  <a:pt x="13292" y="7608"/>
                  <a:pt x="13175" y="7953"/>
                  <a:pt x="12827" y="7810"/>
                </a:cubicBezTo>
                <a:cubicBezTo>
                  <a:pt x="12806" y="7778"/>
                  <a:pt x="12785" y="7747"/>
                  <a:pt x="12764" y="7715"/>
                </a:cubicBezTo>
                <a:cubicBezTo>
                  <a:pt x="12962" y="7530"/>
                  <a:pt x="13030" y="7522"/>
                  <a:pt x="13240" y="7715"/>
                </a:cubicBezTo>
                <a:cubicBezTo>
                  <a:pt x="13289" y="7765"/>
                  <a:pt x="13291" y="7787"/>
                  <a:pt x="13335" y="7779"/>
                </a:cubicBezTo>
              </a:path>
              <a:path w="6542" h="2573">
                <a:moveTo>
                  <a:pt x="13684" y="7366"/>
                </a:moveTo>
                <a:cubicBezTo>
                  <a:pt x="13782" y="7415"/>
                  <a:pt x="13890" y="7622"/>
                  <a:pt x="13970" y="7715"/>
                </a:cubicBezTo>
                <a:cubicBezTo>
                  <a:pt x="14020" y="7765"/>
                  <a:pt x="14042" y="7806"/>
                  <a:pt x="14034" y="7747"/>
                </a:cubicBezTo>
              </a:path>
              <a:path w="6542" h="2573">
                <a:moveTo>
                  <a:pt x="13970" y="7366"/>
                </a:moveTo>
                <a:cubicBezTo>
                  <a:pt x="13878" y="7508"/>
                  <a:pt x="13783" y="7642"/>
                  <a:pt x="13684" y="7779"/>
                </a:cubicBezTo>
              </a:path>
              <a:path w="6542" h="2573">
                <a:moveTo>
                  <a:pt x="14319" y="7366"/>
                </a:moveTo>
                <a:cubicBezTo>
                  <a:pt x="14292" y="7421"/>
                  <a:pt x="14268" y="7467"/>
                  <a:pt x="14256" y="7525"/>
                </a:cubicBezTo>
                <a:cubicBezTo>
                  <a:pt x="14377" y="7542"/>
                  <a:pt x="14519" y="7597"/>
                  <a:pt x="14637" y="7525"/>
                </a:cubicBezTo>
                <a:cubicBezTo>
                  <a:pt x="14637" y="7514"/>
                  <a:pt x="14637" y="7504"/>
                  <a:pt x="14637" y="7493"/>
                </a:cubicBezTo>
              </a:path>
              <a:path w="6542" h="2573">
                <a:moveTo>
                  <a:pt x="14637" y="7271"/>
                </a:moveTo>
                <a:cubicBezTo>
                  <a:pt x="14572" y="7449"/>
                  <a:pt x="14594" y="7561"/>
                  <a:pt x="14605" y="7747"/>
                </a:cubicBezTo>
                <a:cubicBezTo>
                  <a:pt x="14605" y="7812"/>
                  <a:pt x="14613" y="7791"/>
                  <a:pt x="14637" y="7652"/>
                </a:cubicBezTo>
              </a:path>
              <a:path w="6542" h="2573">
                <a:moveTo>
                  <a:pt x="14764" y="6858"/>
                </a:moveTo>
                <a:cubicBezTo>
                  <a:pt x="14963" y="7082"/>
                  <a:pt x="15104" y="7276"/>
                  <a:pt x="15113" y="7588"/>
                </a:cubicBezTo>
                <a:cubicBezTo>
                  <a:pt x="15121" y="7882"/>
                  <a:pt x="14998" y="7909"/>
                  <a:pt x="14796" y="806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3429000" y="3017880"/>
            <a:ext cx="263520" cy="193680"/>
          </a:xfrm>
          <a:custGeom>
            <a:avLst/>
            <a:gdLst/>
            <a:ahLst/>
            <a:rect l="l" t="t" r="r" b="b"/>
            <a:pathLst>
              <a:path w="731" h="541">
                <a:moveTo>
                  <a:pt x="9874" y="8382"/>
                </a:moveTo>
                <a:cubicBezTo>
                  <a:pt x="9813" y="8535"/>
                  <a:pt x="9654" y="8682"/>
                  <a:pt x="9557" y="8826"/>
                </a:cubicBezTo>
                <a:cubicBezTo>
                  <a:pt x="9531" y="8878"/>
                  <a:pt x="9507" y="8900"/>
                  <a:pt x="9557" y="8890"/>
                </a:cubicBezTo>
              </a:path>
              <a:path w="731" h="541">
                <a:moveTo>
                  <a:pt x="10065" y="8414"/>
                </a:moveTo>
                <a:cubicBezTo>
                  <a:pt x="10001" y="8494"/>
                  <a:pt x="9685" y="8845"/>
                  <a:pt x="9938" y="8890"/>
                </a:cubicBezTo>
                <a:cubicBezTo>
                  <a:pt x="10068" y="8857"/>
                  <a:pt x="10114" y="8845"/>
                  <a:pt x="10192" y="8795"/>
                </a:cubicBezTo>
                <a:cubicBezTo>
                  <a:pt x="10241" y="8745"/>
                  <a:pt x="10262" y="8743"/>
                  <a:pt x="10255" y="8700"/>
                </a:cubicBezTo>
                <a:cubicBezTo>
                  <a:pt x="10177" y="8744"/>
                  <a:pt x="9789" y="8925"/>
                  <a:pt x="10033" y="889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183200" y="2982960"/>
            <a:ext cx="137880" cy="138240"/>
          </a:xfrm>
          <a:custGeom>
            <a:avLst/>
            <a:gdLst/>
            <a:ahLst/>
            <a:rect l="l" t="t" r="r" b="b"/>
            <a:pathLst>
              <a:path w="383" h="382">
                <a:moveTo>
                  <a:pt x="11811" y="8318"/>
                </a:moveTo>
                <a:cubicBezTo>
                  <a:pt x="11811" y="8252"/>
                  <a:pt x="11735" y="8508"/>
                  <a:pt x="11716" y="8541"/>
                </a:cubicBezTo>
                <a:cubicBezTo>
                  <a:pt x="11665" y="8617"/>
                  <a:pt x="11660" y="8632"/>
                  <a:pt x="11620" y="8668"/>
                </a:cubicBezTo>
              </a:path>
              <a:path w="383" h="382">
                <a:moveTo>
                  <a:pt x="11811" y="8446"/>
                </a:moveTo>
                <a:cubicBezTo>
                  <a:pt x="11901" y="8425"/>
                  <a:pt x="11926" y="8414"/>
                  <a:pt x="12002" y="841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4835520" y="2925720"/>
            <a:ext cx="136440" cy="195480"/>
          </a:xfrm>
          <a:custGeom>
            <a:avLst/>
            <a:gdLst/>
            <a:ahLst/>
            <a:rect l="l" t="t" r="r" b="b"/>
            <a:pathLst>
              <a:path w="382" h="541">
                <a:moveTo>
                  <a:pt x="13748" y="8160"/>
                </a:moveTo>
                <a:cubicBezTo>
                  <a:pt x="13675" y="8123"/>
                  <a:pt x="13536" y="8193"/>
                  <a:pt x="13430" y="8223"/>
                </a:cubicBezTo>
                <a:cubicBezTo>
                  <a:pt x="13500" y="8321"/>
                  <a:pt x="13827" y="8484"/>
                  <a:pt x="13652" y="8636"/>
                </a:cubicBezTo>
                <a:cubicBezTo>
                  <a:pt x="13610" y="8647"/>
                  <a:pt x="13568" y="8657"/>
                  <a:pt x="13526" y="8668"/>
                </a:cubicBezTo>
                <a:cubicBezTo>
                  <a:pt x="13433" y="8484"/>
                  <a:pt x="13622" y="8404"/>
                  <a:pt x="13748" y="8287"/>
                </a:cubicBezTo>
                <a:cubicBezTo>
                  <a:pt x="13769" y="8266"/>
                  <a:pt x="13790" y="8244"/>
                  <a:pt x="13811" y="822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429160" y="2936880"/>
            <a:ext cx="138240" cy="92160"/>
          </a:xfrm>
          <a:custGeom>
            <a:avLst/>
            <a:gdLst/>
            <a:ahLst/>
            <a:rect l="l" t="t" r="r" b="b"/>
            <a:pathLst>
              <a:path w="382" h="255">
                <a:moveTo>
                  <a:pt x="15113" y="8287"/>
                </a:moveTo>
                <a:cubicBezTo>
                  <a:pt x="15219" y="8234"/>
                  <a:pt x="15393" y="8145"/>
                  <a:pt x="15462" y="8192"/>
                </a:cubicBezTo>
              </a:path>
              <a:path w="382" h="255">
                <a:moveTo>
                  <a:pt x="15081" y="8414"/>
                </a:moveTo>
                <a:cubicBezTo>
                  <a:pt x="15182" y="8391"/>
                  <a:pt x="15262" y="8382"/>
                  <a:pt x="15367" y="8382"/>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 name=""/>
          <p:cNvSpPr/>
          <p:nvPr/>
        </p:nvSpPr>
        <p:spPr>
          <a:xfrm>
            <a:off x="5886360" y="2914560"/>
            <a:ext cx="378000" cy="171720"/>
          </a:xfrm>
          <a:custGeom>
            <a:avLst/>
            <a:gdLst/>
            <a:ahLst/>
            <a:rect l="l" t="t" r="r" b="b"/>
            <a:pathLst>
              <a:path w="1049" h="477">
                <a:moveTo>
                  <a:pt x="16446" y="8287"/>
                </a:moveTo>
                <a:cubicBezTo>
                  <a:pt x="16467" y="8223"/>
                  <a:pt x="16549" y="8210"/>
                  <a:pt x="16637" y="8223"/>
                </a:cubicBezTo>
                <a:cubicBezTo>
                  <a:pt x="16669" y="8234"/>
                  <a:pt x="16700" y="8244"/>
                  <a:pt x="16732" y="8255"/>
                </a:cubicBezTo>
                <a:cubicBezTo>
                  <a:pt x="16671" y="8387"/>
                  <a:pt x="16555" y="8597"/>
                  <a:pt x="16351" y="8541"/>
                </a:cubicBezTo>
                <a:cubicBezTo>
                  <a:pt x="16351" y="8530"/>
                  <a:pt x="16351" y="8520"/>
                  <a:pt x="16351" y="8509"/>
                </a:cubicBezTo>
                <a:cubicBezTo>
                  <a:pt x="16503" y="8421"/>
                  <a:pt x="16526" y="8390"/>
                  <a:pt x="16669" y="8509"/>
                </a:cubicBezTo>
              </a:path>
              <a:path w="1049" h="477">
                <a:moveTo>
                  <a:pt x="17018" y="8128"/>
                </a:moveTo>
                <a:cubicBezTo>
                  <a:pt x="17030" y="8231"/>
                  <a:pt x="17045" y="8384"/>
                  <a:pt x="17208" y="8350"/>
                </a:cubicBezTo>
                <a:cubicBezTo>
                  <a:pt x="17324" y="8274"/>
                  <a:pt x="17368" y="8233"/>
                  <a:pt x="17399" y="8128"/>
                </a:cubicBezTo>
              </a:path>
              <a:path w="1049" h="477">
                <a:moveTo>
                  <a:pt x="17367" y="8096"/>
                </a:moveTo>
                <a:cubicBezTo>
                  <a:pt x="17305" y="8251"/>
                  <a:pt x="17256" y="8433"/>
                  <a:pt x="17177" y="8572"/>
                </a:cubicBezTo>
              </a:path>
              <a:path w="1049" h="477">
                <a:moveTo>
                  <a:pt x="17177" y="8572"/>
                </a:moveTo>
                <a:lnTo>
                  <a:pt x="17177" y="8572"/>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805040" y="1978200"/>
            <a:ext cx="2481120" cy="1096920"/>
          </a:xfrm>
          <a:custGeom>
            <a:avLst/>
            <a:gdLst/>
            <a:ahLst/>
            <a:rect l="l" t="t" r="r" b="b"/>
            <a:pathLst>
              <a:path w="6891" h="3049">
                <a:moveTo>
                  <a:pt x="11906" y="8446"/>
                </a:moveTo>
                <a:cubicBezTo>
                  <a:pt x="11883" y="8514"/>
                  <a:pt x="11789" y="8460"/>
                  <a:pt x="11716" y="8477"/>
                </a:cubicBezTo>
                <a:cubicBezTo>
                  <a:pt x="11659" y="8491"/>
                  <a:pt x="11614" y="8529"/>
                  <a:pt x="11557" y="8541"/>
                </a:cubicBezTo>
              </a:path>
              <a:path w="6891" h="3049">
                <a:moveTo>
                  <a:pt x="5016" y="5683"/>
                </a:moveTo>
                <a:cubicBezTo>
                  <a:pt x="5450" y="5683"/>
                  <a:pt x="5891" y="5698"/>
                  <a:pt x="6318" y="5652"/>
                </a:cubicBezTo>
                <a:cubicBezTo>
                  <a:pt x="6527" y="5629"/>
                  <a:pt x="6819" y="5610"/>
                  <a:pt x="7017" y="5620"/>
                </a:cubicBezTo>
                <a:cubicBezTo>
                  <a:pt x="7115" y="5625"/>
                  <a:pt x="7202" y="5649"/>
                  <a:pt x="7302" y="5652"/>
                </a:cubicBezTo>
                <a:cubicBezTo>
                  <a:pt x="7426" y="5656"/>
                  <a:pt x="7532" y="5679"/>
                  <a:pt x="7652" y="5683"/>
                </a:cubicBezTo>
                <a:cubicBezTo>
                  <a:pt x="7753" y="5686"/>
                  <a:pt x="7835" y="5655"/>
                  <a:pt x="7938" y="5652"/>
                </a:cubicBezTo>
                <a:cubicBezTo>
                  <a:pt x="8023" y="5649"/>
                  <a:pt x="8077" y="5629"/>
                  <a:pt x="8160" y="5620"/>
                </a:cubicBezTo>
                <a:cubicBezTo>
                  <a:pt x="8307" y="5604"/>
                  <a:pt x="8459" y="5616"/>
                  <a:pt x="8604" y="5588"/>
                </a:cubicBezTo>
                <a:cubicBezTo>
                  <a:pt x="8712" y="5567"/>
                  <a:pt x="8818" y="5548"/>
                  <a:pt x="8922" y="5524"/>
                </a:cubicBezTo>
                <a:cubicBezTo>
                  <a:pt x="9021" y="5502"/>
                  <a:pt x="9101" y="5496"/>
                  <a:pt x="9208" y="5493"/>
                </a:cubicBezTo>
                <a:cubicBezTo>
                  <a:pt x="9345" y="5489"/>
                  <a:pt x="9483" y="5493"/>
                  <a:pt x="9620" y="549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96960" y="4606920"/>
            <a:ext cx="423720" cy="376200"/>
          </a:xfrm>
          <a:custGeom>
            <a:avLst/>
            <a:gdLst/>
            <a:ahLst/>
            <a:rect l="l" t="t" r="r" b="b"/>
            <a:pathLst>
              <a:path w="1176" h="1049">
                <a:moveTo>
                  <a:pt x="2159" y="13621"/>
                </a:moveTo>
                <a:cubicBezTo>
                  <a:pt x="2190" y="13652"/>
                  <a:pt x="2263" y="13706"/>
                  <a:pt x="2318" y="13748"/>
                </a:cubicBezTo>
                <a:cubicBezTo>
                  <a:pt x="2380" y="13796"/>
                  <a:pt x="2497" y="13849"/>
                  <a:pt x="2572" y="13843"/>
                </a:cubicBezTo>
                <a:cubicBezTo>
                  <a:pt x="2627" y="13838"/>
                  <a:pt x="2708" y="13826"/>
                  <a:pt x="2762" y="13811"/>
                </a:cubicBezTo>
                <a:cubicBezTo>
                  <a:pt x="2824" y="13794"/>
                  <a:pt x="2907" y="13754"/>
                  <a:pt x="2953" y="13716"/>
                </a:cubicBezTo>
                <a:cubicBezTo>
                  <a:pt x="3042" y="13642"/>
                  <a:pt x="3054" y="13594"/>
                  <a:pt x="3080" y="13494"/>
                </a:cubicBezTo>
                <a:cubicBezTo>
                  <a:pt x="3103" y="13406"/>
                  <a:pt x="3141" y="13270"/>
                  <a:pt x="3112" y="13176"/>
                </a:cubicBezTo>
                <a:cubicBezTo>
                  <a:pt x="3094" y="13119"/>
                  <a:pt x="3043" y="13024"/>
                  <a:pt x="2984" y="12986"/>
                </a:cubicBezTo>
                <a:cubicBezTo>
                  <a:pt x="2935" y="12954"/>
                  <a:pt x="2887" y="12875"/>
                  <a:pt x="2826" y="12859"/>
                </a:cubicBezTo>
                <a:cubicBezTo>
                  <a:pt x="2735" y="12835"/>
                  <a:pt x="2637" y="12799"/>
                  <a:pt x="2540" y="12795"/>
                </a:cubicBezTo>
                <a:cubicBezTo>
                  <a:pt x="2432" y="12790"/>
                  <a:pt x="2352" y="12793"/>
                  <a:pt x="2254" y="12827"/>
                </a:cubicBezTo>
                <a:cubicBezTo>
                  <a:pt x="2188" y="12850"/>
                  <a:pt x="2123" y="12877"/>
                  <a:pt x="2064" y="12922"/>
                </a:cubicBezTo>
                <a:cubicBezTo>
                  <a:pt x="2025" y="12952"/>
                  <a:pt x="1992" y="13035"/>
                  <a:pt x="1968" y="13081"/>
                </a:cubicBezTo>
                <a:cubicBezTo>
                  <a:pt x="1907" y="13196"/>
                  <a:pt x="1953" y="13253"/>
                  <a:pt x="1968" y="13367"/>
                </a:cubicBezTo>
                <a:cubicBezTo>
                  <a:pt x="1978" y="13443"/>
                  <a:pt x="1952" y="13467"/>
                  <a:pt x="2000" y="13526"/>
                </a:cubicBezTo>
                <a:cubicBezTo>
                  <a:pt x="2030" y="13563"/>
                  <a:pt x="2107" y="13638"/>
                  <a:pt x="2127" y="13652"/>
                </a:cubicBezTo>
                <a:cubicBezTo>
                  <a:pt x="2151" y="13669"/>
                  <a:pt x="2251" y="13747"/>
                  <a:pt x="2254" y="13748"/>
                </a:cubicBezTo>
                <a:cubicBezTo>
                  <a:pt x="2265" y="13748"/>
                  <a:pt x="2275" y="13748"/>
                  <a:pt x="2286" y="137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0-#ppt_w/2"/>
                                          </p:val>
                                        </p:tav>
                                        <p:tav tm="100000">
                                          <p:val>
                                            <p:strVal val="#ppt_x"/>
                                          </p:val>
                                        </p:tav>
                                      </p:tavLst>
                                    </p:anim>
                                    <p:anim calcmode="lin" valueType="num">
                                      <p:cBhvr additive="base">
                                        <p:cTn id="8"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0-#ppt_w/2"/>
                                          </p:val>
                                        </p:tav>
                                        <p:tav tm="100000">
                                          <p:val>
                                            <p:strVal val="#ppt_x"/>
                                          </p:val>
                                        </p:tav>
                                      </p:tavLst>
                                    </p:anim>
                                    <p:anim calcmode="lin" valueType="num">
                                      <p:cBhvr additive="base">
                                        <p:cTn id="14"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880" y="304920"/>
            <a:ext cx="8382240" cy="7617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p:txBody>
      </p:sp>
      <p:sp>
        <p:nvSpPr>
          <p:cNvPr id="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720" y="159660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7" name=""/>
          <p:cNvSpPr/>
          <p:nvPr/>
        </p:nvSpPr>
        <p:spPr>
          <a:xfrm>
            <a:off x="685800" y="1251000"/>
            <a:ext cx="7846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ich operation sign goes in the blank to make the number sentence tru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5 x (28 - 17) = 35 x 28 ___ 35 x 17</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C.  X</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D. ÷</a:t>
            </a:r>
            <a:endParaRPr b="0" lang="en-US" sz="2000" spc="-1" strike="noStrike">
              <a:solidFill>
                <a:srgbClr val="000000"/>
              </a:solidFill>
              <a:latin typeface="Arial"/>
            </a:endParaRPr>
          </a:p>
        </p:txBody>
      </p:sp>
      <p:sp>
        <p:nvSpPr>
          <p:cNvPr id="58" name=""/>
          <p:cNvSpPr/>
          <p:nvPr/>
        </p:nvSpPr>
        <p:spPr>
          <a:xfrm>
            <a:off x="495360" y="3429000"/>
            <a:ext cx="8153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 yard sale, Sarah sold 15 books in the morning and 35 books in the afternoon.  Each book sold for $4.  What was the total amount of money Sarah earned?</a:t>
            </a:r>
            <a:endParaRPr b="0" lang="en-US" sz="2800" spc="-1" strike="noStrike">
              <a:solidFill>
                <a:srgbClr val="000000"/>
              </a:solidFill>
              <a:latin typeface="Arial"/>
            </a:endParaRPr>
          </a:p>
        </p:txBody>
      </p:sp>
      <p:sp>
        <p:nvSpPr>
          <p:cNvPr id="59" name=""/>
          <p:cNvSpPr/>
          <p:nvPr/>
        </p:nvSpPr>
        <p:spPr>
          <a:xfrm>
            <a:off x="2400480" y="2000160"/>
            <a:ext cx="857160" cy="800280"/>
          </a:xfrm>
          <a:custGeom>
            <a:avLst/>
            <a:gdLst/>
            <a:ahLst/>
            <a:rect l="l" t="t" r="r" b="b"/>
            <a:pathLst>
              <a:path w="2382" h="2224">
                <a:moveTo>
                  <a:pt x="7080" y="7620"/>
                </a:moveTo>
                <a:cubicBezTo>
                  <a:pt x="7234" y="7620"/>
                  <a:pt x="7343" y="7586"/>
                  <a:pt x="7493" y="7556"/>
                </a:cubicBezTo>
                <a:cubicBezTo>
                  <a:pt x="7783" y="7499"/>
                  <a:pt x="8066" y="7440"/>
                  <a:pt x="8350" y="7366"/>
                </a:cubicBezTo>
                <a:cubicBezTo>
                  <a:pt x="8542" y="7316"/>
                  <a:pt x="8716" y="7246"/>
                  <a:pt x="8890" y="7144"/>
                </a:cubicBezTo>
                <a:cubicBezTo>
                  <a:pt x="9017" y="7070"/>
                  <a:pt x="9078" y="6975"/>
                  <a:pt x="9049" y="6826"/>
                </a:cubicBezTo>
                <a:cubicBezTo>
                  <a:pt x="9021" y="6683"/>
                  <a:pt x="8912" y="6560"/>
                  <a:pt x="8763" y="6540"/>
                </a:cubicBezTo>
                <a:cubicBezTo>
                  <a:pt x="8413" y="6492"/>
                  <a:pt x="7999" y="6525"/>
                  <a:pt x="7652" y="6572"/>
                </a:cubicBezTo>
                <a:cubicBezTo>
                  <a:pt x="7414" y="6605"/>
                  <a:pt x="7144" y="6612"/>
                  <a:pt x="6953" y="6763"/>
                </a:cubicBezTo>
                <a:cubicBezTo>
                  <a:pt x="6696" y="6965"/>
                  <a:pt x="6521" y="7424"/>
                  <a:pt x="6794" y="7684"/>
                </a:cubicBezTo>
                <a:cubicBezTo>
                  <a:pt x="7075" y="7952"/>
                  <a:pt x="7349" y="7705"/>
                  <a:pt x="7556" y="7525"/>
                </a:cubicBezTo>
              </a:path>
              <a:path w="2382" h="2224">
                <a:moveTo>
                  <a:pt x="7938" y="6096"/>
                </a:moveTo>
                <a:cubicBezTo>
                  <a:pt x="7961" y="6212"/>
                  <a:pt x="8016" y="6250"/>
                  <a:pt x="8128" y="6286"/>
                </a:cubicBezTo>
                <a:cubicBezTo>
                  <a:pt x="8263" y="6330"/>
                  <a:pt x="8435" y="6298"/>
                  <a:pt x="8541" y="6191"/>
                </a:cubicBezTo>
                <a:cubicBezTo>
                  <a:pt x="8643" y="6089"/>
                  <a:pt x="8629" y="5870"/>
                  <a:pt x="8572" y="5747"/>
                </a:cubicBezTo>
                <a:cubicBezTo>
                  <a:pt x="8498" y="5588"/>
                  <a:pt x="8325" y="5535"/>
                  <a:pt x="8160" y="5556"/>
                </a:cubicBezTo>
                <a:cubicBezTo>
                  <a:pt x="7988" y="5578"/>
                  <a:pt x="7917" y="5697"/>
                  <a:pt x="7874" y="5842"/>
                </a:cubicBezTo>
                <a:cubicBezTo>
                  <a:pt x="7842" y="5949"/>
                  <a:pt x="7803" y="6194"/>
                  <a:pt x="7906" y="6286"/>
                </a:cubicBezTo>
                <a:cubicBezTo>
                  <a:pt x="8008" y="6378"/>
                  <a:pt x="8143" y="6338"/>
                  <a:pt x="8255" y="6318"/>
                </a:cubicBezTo>
                <a:cubicBezTo>
                  <a:pt x="8266" y="6318"/>
                  <a:pt x="8276" y="6318"/>
                  <a:pt x="8287" y="63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919840" y="2125800"/>
            <a:ext cx="183960" cy="12600"/>
          </a:xfrm>
          <a:custGeom>
            <a:avLst/>
            <a:gdLst/>
            <a:ahLst/>
            <a:rect l="l" t="t" r="r" b="b"/>
            <a:pathLst>
              <a:path w="509" h="32">
                <a:moveTo>
                  <a:pt x="16446" y="5937"/>
                </a:moveTo>
                <a:cubicBezTo>
                  <a:pt x="16578" y="5937"/>
                  <a:pt x="16698" y="5911"/>
                  <a:pt x="16828" y="5906"/>
                </a:cubicBezTo>
                <a:cubicBezTo>
                  <a:pt x="16902" y="5906"/>
                  <a:pt x="16912" y="5906"/>
                  <a:pt x="16954" y="5906"/>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3017880" y="5097600"/>
            <a:ext cx="1600200" cy="503280"/>
          </a:xfrm>
          <a:custGeom>
            <a:avLst/>
            <a:gdLst/>
            <a:ahLst/>
            <a:rect l="l" t="t" r="r" b="b"/>
            <a:pathLst>
              <a:path w="4446" h="1399">
                <a:moveTo>
                  <a:pt x="8414" y="14605"/>
                </a:moveTo>
                <a:cubicBezTo>
                  <a:pt x="8414" y="14594"/>
                  <a:pt x="8414" y="14584"/>
                  <a:pt x="8414" y="14573"/>
                </a:cubicBezTo>
                <a:cubicBezTo>
                  <a:pt x="8488" y="14646"/>
                  <a:pt x="8411" y="14751"/>
                  <a:pt x="8382" y="14859"/>
                </a:cubicBezTo>
                <a:cubicBezTo>
                  <a:pt x="8382" y="14870"/>
                  <a:pt x="8382" y="14880"/>
                  <a:pt x="8382" y="14891"/>
                </a:cubicBezTo>
                <a:cubicBezTo>
                  <a:pt x="8517" y="14850"/>
                  <a:pt x="8651" y="14859"/>
                  <a:pt x="8795" y="14859"/>
                </a:cubicBezTo>
              </a:path>
              <a:path w="4446" h="1399">
                <a:moveTo>
                  <a:pt x="8763" y="14446"/>
                </a:moveTo>
                <a:cubicBezTo>
                  <a:pt x="8739" y="14656"/>
                  <a:pt x="8713" y="14869"/>
                  <a:pt x="8700" y="15081"/>
                </a:cubicBezTo>
                <a:cubicBezTo>
                  <a:pt x="8695" y="15155"/>
                  <a:pt x="8700" y="15314"/>
                  <a:pt x="8700" y="15240"/>
                </a:cubicBezTo>
              </a:path>
              <a:path w="4446" h="1399">
                <a:moveTo>
                  <a:pt x="9334" y="14383"/>
                </a:moveTo>
                <a:cubicBezTo>
                  <a:pt x="9299" y="14275"/>
                  <a:pt x="9218" y="14484"/>
                  <a:pt x="9208" y="14510"/>
                </a:cubicBezTo>
                <a:cubicBezTo>
                  <a:pt x="9109" y="14759"/>
                  <a:pt x="8959" y="15057"/>
                  <a:pt x="9017" y="15335"/>
                </a:cubicBezTo>
                <a:cubicBezTo>
                  <a:pt x="9045" y="15470"/>
                  <a:pt x="9135" y="15500"/>
                  <a:pt x="9239" y="15558"/>
                </a:cubicBezTo>
              </a:path>
              <a:path w="4446" h="1399">
                <a:moveTo>
                  <a:pt x="9588" y="14700"/>
                </a:moveTo>
                <a:cubicBezTo>
                  <a:pt x="9588" y="14884"/>
                  <a:pt x="9570" y="15058"/>
                  <a:pt x="9557" y="15240"/>
                </a:cubicBezTo>
                <a:cubicBezTo>
                  <a:pt x="9557" y="15272"/>
                  <a:pt x="9557" y="15303"/>
                  <a:pt x="9557" y="15335"/>
                </a:cubicBezTo>
              </a:path>
              <a:path w="4446" h="1399">
                <a:moveTo>
                  <a:pt x="10160" y="14668"/>
                </a:moveTo>
                <a:cubicBezTo>
                  <a:pt x="9989" y="14735"/>
                  <a:pt x="9920" y="14735"/>
                  <a:pt x="9842" y="14891"/>
                </a:cubicBezTo>
                <a:cubicBezTo>
                  <a:pt x="9970" y="14891"/>
                  <a:pt x="10233" y="14833"/>
                  <a:pt x="10319" y="14954"/>
                </a:cubicBezTo>
                <a:cubicBezTo>
                  <a:pt x="10488" y="15193"/>
                  <a:pt x="10113" y="15364"/>
                  <a:pt x="9938" y="15335"/>
                </a:cubicBezTo>
                <a:cubicBezTo>
                  <a:pt x="9825" y="15279"/>
                  <a:pt x="9782" y="15273"/>
                  <a:pt x="9811" y="15176"/>
                </a:cubicBezTo>
              </a:path>
              <a:path w="4446" h="1399">
                <a:moveTo>
                  <a:pt x="10763" y="14796"/>
                </a:moveTo>
                <a:cubicBezTo>
                  <a:pt x="10763" y="14961"/>
                  <a:pt x="10758" y="15113"/>
                  <a:pt x="10732" y="15272"/>
                </a:cubicBezTo>
              </a:path>
              <a:path w="4446" h="1399">
                <a:moveTo>
                  <a:pt x="10541" y="14954"/>
                </a:moveTo>
                <a:cubicBezTo>
                  <a:pt x="10743" y="14926"/>
                  <a:pt x="10941" y="14901"/>
                  <a:pt x="11144" y="14891"/>
                </a:cubicBezTo>
              </a:path>
              <a:path w="4446" h="1399">
                <a:moveTo>
                  <a:pt x="11271" y="14668"/>
                </a:moveTo>
                <a:cubicBezTo>
                  <a:pt x="11333" y="14634"/>
                  <a:pt x="11674" y="14519"/>
                  <a:pt x="11589" y="14732"/>
                </a:cubicBezTo>
                <a:cubicBezTo>
                  <a:pt x="11541" y="14853"/>
                  <a:pt x="11438" y="14897"/>
                  <a:pt x="11335" y="14954"/>
                </a:cubicBezTo>
                <a:cubicBezTo>
                  <a:pt x="11335" y="14943"/>
                  <a:pt x="11335" y="14933"/>
                  <a:pt x="11335" y="14922"/>
                </a:cubicBezTo>
                <a:cubicBezTo>
                  <a:pt x="11529" y="14898"/>
                  <a:pt x="11719" y="14933"/>
                  <a:pt x="11620" y="15208"/>
                </a:cubicBezTo>
                <a:cubicBezTo>
                  <a:pt x="11575" y="15333"/>
                  <a:pt x="11311" y="15515"/>
                  <a:pt x="11208" y="15335"/>
                </a:cubicBezTo>
                <a:cubicBezTo>
                  <a:pt x="11208" y="15303"/>
                  <a:pt x="11208" y="15272"/>
                  <a:pt x="11208" y="15240"/>
                </a:cubicBezTo>
              </a:path>
              <a:path w="4446" h="1399">
                <a:moveTo>
                  <a:pt x="12256" y="14668"/>
                </a:moveTo>
                <a:cubicBezTo>
                  <a:pt x="12195" y="14668"/>
                  <a:pt x="12041" y="14635"/>
                  <a:pt x="12033" y="14700"/>
                </a:cubicBezTo>
                <a:cubicBezTo>
                  <a:pt x="12023" y="14783"/>
                  <a:pt x="11969" y="14873"/>
                  <a:pt x="11938" y="14954"/>
                </a:cubicBezTo>
                <a:cubicBezTo>
                  <a:pt x="12084" y="14933"/>
                  <a:pt x="12237" y="14884"/>
                  <a:pt x="12382" y="14954"/>
                </a:cubicBezTo>
                <a:cubicBezTo>
                  <a:pt x="12617" y="15068"/>
                  <a:pt x="12248" y="15298"/>
                  <a:pt x="12128" y="15304"/>
                </a:cubicBezTo>
                <a:cubicBezTo>
                  <a:pt x="12007" y="15273"/>
                  <a:pt x="11967" y="15267"/>
                  <a:pt x="11938" y="15176"/>
                </a:cubicBezTo>
              </a:path>
              <a:path w="4446" h="1399">
                <a:moveTo>
                  <a:pt x="12446" y="14160"/>
                </a:moveTo>
                <a:cubicBezTo>
                  <a:pt x="12668" y="14227"/>
                  <a:pt x="12787" y="14465"/>
                  <a:pt x="12827" y="14700"/>
                </a:cubicBezTo>
                <a:cubicBezTo>
                  <a:pt x="12882" y="15022"/>
                  <a:pt x="12722" y="15261"/>
                  <a:pt x="12446" y="15399"/>
                </a:cubicBezTo>
                <a:cubicBezTo>
                  <a:pt x="12435" y="15399"/>
                  <a:pt x="12425" y="15399"/>
                  <a:pt x="12414" y="153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633840" y="6126120"/>
            <a:ext cx="195120" cy="138240"/>
          </a:xfrm>
          <a:custGeom>
            <a:avLst/>
            <a:gdLst/>
            <a:ahLst/>
            <a:rect l="l" t="t" r="r" b="b"/>
            <a:pathLst>
              <a:path w="541" h="382">
                <a:moveTo>
                  <a:pt x="10287" y="17018"/>
                </a:moveTo>
                <a:cubicBezTo>
                  <a:pt x="10320" y="17149"/>
                  <a:pt x="10350" y="17264"/>
                  <a:pt x="10350" y="17399"/>
                </a:cubicBezTo>
              </a:path>
              <a:path w="541" h="382">
                <a:moveTo>
                  <a:pt x="10096" y="17240"/>
                </a:moveTo>
                <a:cubicBezTo>
                  <a:pt x="10278" y="17197"/>
                  <a:pt x="10458" y="17158"/>
                  <a:pt x="10636" y="1711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681360" y="5211720"/>
            <a:ext cx="399960" cy="674640"/>
          </a:xfrm>
          <a:custGeom>
            <a:avLst/>
            <a:gdLst/>
            <a:ahLst/>
            <a:rect l="l" t="t" r="r" b="b"/>
            <a:pathLst>
              <a:path w="1112" h="1874">
                <a:moveTo>
                  <a:pt x="10382" y="15938"/>
                </a:moveTo>
                <a:cubicBezTo>
                  <a:pt x="10406" y="16056"/>
                  <a:pt x="10414" y="16161"/>
                  <a:pt x="10414" y="16288"/>
                </a:cubicBezTo>
                <a:cubicBezTo>
                  <a:pt x="10414" y="16341"/>
                  <a:pt x="10424" y="16362"/>
                  <a:pt x="10382" y="16351"/>
                </a:cubicBezTo>
              </a:path>
              <a:path w="1112" h="1874">
                <a:moveTo>
                  <a:pt x="10224" y="16129"/>
                </a:moveTo>
                <a:cubicBezTo>
                  <a:pt x="10420" y="16171"/>
                  <a:pt x="10540" y="16129"/>
                  <a:pt x="10732" y="16097"/>
                </a:cubicBezTo>
                <a:cubicBezTo>
                  <a:pt x="10823" y="16082"/>
                  <a:pt x="10803" y="16095"/>
                  <a:pt x="10763" y="16002"/>
                </a:cubicBezTo>
              </a:path>
              <a:path w="1112" h="1874">
                <a:moveTo>
                  <a:pt x="10573" y="15462"/>
                </a:moveTo>
                <a:cubicBezTo>
                  <a:pt x="10626" y="15608"/>
                  <a:pt x="10700" y="15688"/>
                  <a:pt x="10922" y="15621"/>
                </a:cubicBezTo>
                <a:cubicBezTo>
                  <a:pt x="11292" y="15510"/>
                  <a:pt x="11466" y="15052"/>
                  <a:pt x="11240" y="14732"/>
                </a:cubicBezTo>
                <a:cubicBezTo>
                  <a:pt x="10964" y="14342"/>
                  <a:pt x="10536" y="14437"/>
                  <a:pt x="10350" y="14827"/>
                </a:cubicBezTo>
                <a:cubicBezTo>
                  <a:pt x="10045" y="15466"/>
                  <a:pt x="10532" y="15441"/>
                  <a:pt x="10986" y="1543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19440" y="5622840"/>
            <a:ext cx="927000" cy="674640"/>
          </a:xfrm>
          <a:custGeom>
            <a:avLst/>
            <a:gdLst/>
            <a:ahLst/>
            <a:rect l="l" t="t" r="r" b="b"/>
            <a:pathLst>
              <a:path w="2573" h="1874">
                <a:moveTo>
                  <a:pt x="8001" y="15970"/>
                </a:moveTo>
                <a:cubicBezTo>
                  <a:pt x="8001" y="16062"/>
                  <a:pt x="7989" y="16116"/>
                  <a:pt x="7938" y="16192"/>
                </a:cubicBezTo>
                <a:cubicBezTo>
                  <a:pt x="8123" y="16192"/>
                  <a:pt x="8312" y="16268"/>
                  <a:pt x="8350" y="16097"/>
                </a:cubicBezTo>
              </a:path>
              <a:path w="2573" h="1874">
                <a:moveTo>
                  <a:pt x="8287" y="15843"/>
                </a:moveTo>
                <a:cubicBezTo>
                  <a:pt x="8287" y="16044"/>
                  <a:pt x="8287" y="16584"/>
                  <a:pt x="8287" y="16383"/>
                </a:cubicBezTo>
              </a:path>
              <a:path w="2573" h="1874">
                <a:moveTo>
                  <a:pt x="8572" y="15970"/>
                </a:moveTo>
                <a:cubicBezTo>
                  <a:pt x="8605" y="16102"/>
                  <a:pt x="8715" y="16257"/>
                  <a:pt x="8795" y="16383"/>
                </a:cubicBezTo>
                <a:cubicBezTo>
                  <a:pt x="8823" y="16412"/>
                  <a:pt x="8833" y="16427"/>
                  <a:pt x="8826" y="16383"/>
                </a:cubicBezTo>
              </a:path>
              <a:path w="2573" h="1874">
                <a:moveTo>
                  <a:pt x="8826" y="16034"/>
                </a:moveTo>
                <a:cubicBezTo>
                  <a:pt x="8786" y="16096"/>
                  <a:pt x="8538" y="16410"/>
                  <a:pt x="8572" y="16478"/>
                </a:cubicBezTo>
                <a:cubicBezTo>
                  <a:pt x="8593" y="16478"/>
                  <a:pt x="8615" y="16478"/>
                  <a:pt x="8636" y="16478"/>
                </a:cubicBezTo>
              </a:path>
              <a:path w="2573" h="1874">
                <a:moveTo>
                  <a:pt x="9239" y="15907"/>
                </a:moveTo>
                <a:cubicBezTo>
                  <a:pt x="9239" y="16005"/>
                  <a:pt x="9201" y="16097"/>
                  <a:pt x="9176" y="16192"/>
                </a:cubicBezTo>
                <a:cubicBezTo>
                  <a:pt x="9154" y="16276"/>
                  <a:pt x="9126" y="16362"/>
                  <a:pt x="9112" y="16446"/>
                </a:cubicBezTo>
              </a:path>
              <a:path w="2573" h="1874">
                <a:moveTo>
                  <a:pt x="9716" y="15875"/>
                </a:moveTo>
                <a:cubicBezTo>
                  <a:pt x="9670" y="15883"/>
                  <a:pt x="9553" y="15904"/>
                  <a:pt x="9525" y="15938"/>
                </a:cubicBezTo>
                <a:cubicBezTo>
                  <a:pt x="9497" y="15994"/>
                  <a:pt x="9493" y="16009"/>
                  <a:pt x="9462" y="16034"/>
                </a:cubicBezTo>
                <a:cubicBezTo>
                  <a:pt x="9526" y="16056"/>
                  <a:pt x="9578" y="16021"/>
                  <a:pt x="9684" y="16034"/>
                </a:cubicBezTo>
                <a:cubicBezTo>
                  <a:pt x="9875" y="16058"/>
                  <a:pt x="9892" y="16270"/>
                  <a:pt x="9747" y="16383"/>
                </a:cubicBezTo>
                <a:cubicBezTo>
                  <a:pt x="9568" y="16521"/>
                  <a:pt x="9538" y="16326"/>
                  <a:pt x="9493" y="16224"/>
                </a:cubicBezTo>
              </a:path>
              <a:path w="2573" h="1874">
                <a:moveTo>
                  <a:pt x="9874" y="15621"/>
                </a:moveTo>
                <a:cubicBezTo>
                  <a:pt x="9994" y="15860"/>
                  <a:pt x="10200" y="16135"/>
                  <a:pt x="10096" y="16415"/>
                </a:cubicBezTo>
                <a:cubicBezTo>
                  <a:pt x="10018" y="16624"/>
                  <a:pt x="9825" y="16590"/>
                  <a:pt x="9652" y="16605"/>
                </a:cubicBezTo>
              </a:path>
              <a:path w="2573" h="1874">
                <a:moveTo>
                  <a:pt x="7747" y="15780"/>
                </a:moveTo>
                <a:cubicBezTo>
                  <a:pt x="7748" y="16001"/>
                  <a:pt x="7535" y="16277"/>
                  <a:pt x="7556" y="16542"/>
                </a:cubicBezTo>
                <a:cubicBezTo>
                  <a:pt x="7576" y="16787"/>
                  <a:pt x="7828" y="16706"/>
                  <a:pt x="7969" y="16700"/>
                </a:cubicBezTo>
              </a:path>
              <a:path w="2573" h="1874">
                <a:moveTo>
                  <a:pt x="8541" y="16891"/>
                </a:moveTo>
                <a:cubicBezTo>
                  <a:pt x="8450" y="17005"/>
                  <a:pt x="8378" y="17194"/>
                  <a:pt x="8350" y="17336"/>
                </a:cubicBezTo>
                <a:cubicBezTo>
                  <a:pt x="8350" y="17378"/>
                  <a:pt x="8350" y="17420"/>
                  <a:pt x="8350" y="17462"/>
                </a:cubicBezTo>
                <a:cubicBezTo>
                  <a:pt x="8572" y="17523"/>
                  <a:pt x="8679" y="17467"/>
                  <a:pt x="8858" y="17336"/>
                </a:cubicBezTo>
                <a:cubicBezTo>
                  <a:pt x="8810" y="17167"/>
                  <a:pt x="8650" y="17263"/>
                  <a:pt x="8541" y="17367"/>
                </a:cubicBezTo>
                <a:cubicBezTo>
                  <a:pt x="8434" y="17469"/>
                  <a:pt x="8690" y="17423"/>
                  <a:pt x="8826" y="17367"/>
                </a:cubicBezTo>
              </a:path>
              <a:path w="2573" h="1874">
                <a:moveTo>
                  <a:pt x="9144" y="16954"/>
                </a:moveTo>
                <a:cubicBezTo>
                  <a:pt x="8948" y="17091"/>
                  <a:pt x="8887" y="17125"/>
                  <a:pt x="8922" y="17367"/>
                </a:cubicBezTo>
                <a:cubicBezTo>
                  <a:pt x="9121" y="17421"/>
                  <a:pt x="9352" y="17393"/>
                  <a:pt x="9366" y="17113"/>
                </a:cubicBezTo>
                <a:cubicBezTo>
                  <a:pt x="9376" y="16915"/>
                  <a:pt x="9212" y="16964"/>
                  <a:pt x="9080" y="1695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921120" y="5578560"/>
            <a:ext cx="993960" cy="388800"/>
          </a:xfrm>
          <a:custGeom>
            <a:avLst/>
            <a:gdLst/>
            <a:ahLst/>
            <a:rect l="l" t="t" r="r" b="b"/>
            <a:pathLst>
              <a:path w="2763" h="1081">
                <a:moveTo>
                  <a:pt x="11112" y="15780"/>
                </a:moveTo>
                <a:cubicBezTo>
                  <a:pt x="11052" y="15937"/>
                  <a:pt x="10762" y="16374"/>
                  <a:pt x="10922" y="16542"/>
                </a:cubicBezTo>
                <a:cubicBezTo>
                  <a:pt x="11022" y="16647"/>
                  <a:pt x="11215" y="16517"/>
                  <a:pt x="11303" y="16478"/>
                </a:cubicBezTo>
              </a:path>
              <a:path w="2763" h="1081">
                <a:moveTo>
                  <a:pt x="11430" y="15970"/>
                </a:moveTo>
                <a:cubicBezTo>
                  <a:pt x="11393" y="15995"/>
                  <a:pt x="11379" y="16063"/>
                  <a:pt x="11366" y="16129"/>
                </a:cubicBezTo>
                <a:cubicBezTo>
                  <a:pt x="11480" y="16129"/>
                  <a:pt x="11575" y="16109"/>
                  <a:pt x="11684" y="16097"/>
                </a:cubicBezTo>
              </a:path>
              <a:path w="2763" h="1081">
                <a:moveTo>
                  <a:pt x="11620" y="15875"/>
                </a:moveTo>
                <a:cubicBezTo>
                  <a:pt x="11610" y="15943"/>
                  <a:pt x="11519" y="16358"/>
                  <a:pt x="11620" y="16383"/>
                </a:cubicBezTo>
                <a:cubicBezTo>
                  <a:pt x="11631" y="16372"/>
                  <a:pt x="11641" y="16362"/>
                  <a:pt x="11652" y="16351"/>
                </a:cubicBezTo>
              </a:path>
              <a:path w="2763" h="1081">
                <a:moveTo>
                  <a:pt x="11811" y="16066"/>
                </a:moveTo>
                <a:cubicBezTo>
                  <a:pt x="11831" y="16098"/>
                  <a:pt x="12086" y="16424"/>
                  <a:pt x="12097" y="16383"/>
                </a:cubicBezTo>
                <a:cubicBezTo>
                  <a:pt x="12097" y="16341"/>
                  <a:pt x="12097" y="16298"/>
                  <a:pt x="12097" y="16256"/>
                </a:cubicBezTo>
              </a:path>
              <a:path w="2763" h="1081">
                <a:moveTo>
                  <a:pt x="12002" y="16192"/>
                </a:moveTo>
                <a:cubicBezTo>
                  <a:pt x="11947" y="16338"/>
                  <a:pt x="11877" y="16422"/>
                  <a:pt x="12002" y="16320"/>
                </a:cubicBezTo>
              </a:path>
              <a:path w="2763" h="1081">
                <a:moveTo>
                  <a:pt x="12319" y="15875"/>
                </a:moveTo>
                <a:cubicBezTo>
                  <a:pt x="12406" y="15875"/>
                  <a:pt x="12640" y="15832"/>
                  <a:pt x="12573" y="16002"/>
                </a:cubicBezTo>
                <a:cubicBezTo>
                  <a:pt x="12507" y="16069"/>
                  <a:pt x="12483" y="16091"/>
                  <a:pt x="12414" y="16097"/>
                </a:cubicBezTo>
                <a:cubicBezTo>
                  <a:pt x="12447" y="15968"/>
                  <a:pt x="12620" y="16036"/>
                  <a:pt x="12700" y="16097"/>
                </a:cubicBezTo>
                <a:cubicBezTo>
                  <a:pt x="12711" y="16118"/>
                  <a:pt x="12721" y="16140"/>
                  <a:pt x="12732" y="16161"/>
                </a:cubicBezTo>
                <a:cubicBezTo>
                  <a:pt x="12556" y="16296"/>
                  <a:pt x="12482" y="16340"/>
                  <a:pt x="12319" y="16192"/>
                </a:cubicBezTo>
              </a:path>
              <a:path w="2763" h="1081">
                <a:moveTo>
                  <a:pt x="12986" y="15748"/>
                </a:moveTo>
                <a:cubicBezTo>
                  <a:pt x="12928" y="15758"/>
                  <a:pt x="12801" y="15763"/>
                  <a:pt x="12795" y="15812"/>
                </a:cubicBezTo>
                <a:cubicBezTo>
                  <a:pt x="12787" y="15884"/>
                  <a:pt x="12795" y="15962"/>
                  <a:pt x="12795" y="16034"/>
                </a:cubicBezTo>
                <a:cubicBezTo>
                  <a:pt x="12927" y="16012"/>
                  <a:pt x="13040" y="15886"/>
                  <a:pt x="13176" y="15970"/>
                </a:cubicBezTo>
                <a:cubicBezTo>
                  <a:pt x="13197" y="16002"/>
                  <a:pt x="13219" y="16034"/>
                  <a:pt x="13240" y="16066"/>
                </a:cubicBezTo>
                <a:cubicBezTo>
                  <a:pt x="13206" y="16202"/>
                  <a:pt x="12986" y="16446"/>
                  <a:pt x="12827" y="16224"/>
                </a:cubicBezTo>
                <a:cubicBezTo>
                  <a:pt x="12816" y="16161"/>
                  <a:pt x="12806" y="16097"/>
                  <a:pt x="12795" y="16034"/>
                </a:cubicBezTo>
              </a:path>
              <a:path w="2763" h="1081">
                <a:moveTo>
                  <a:pt x="13240" y="15494"/>
                </a:moveTo>
                <a:cubicBezTo>
                  <a:pt x="13435" y="15740"/>
                  <a:pt x="13816" y="16083"/>
                  <a:pt x="13557" y="16415"/>
                </a:cubicBezTo>
                <a:cubicBezTo>
                  <a:pt x="13378" y="16522"/>
                  <a:pt x="13302" y="16553"/>
                  <a:pt x="13144" y="1651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218120" y="6068880"/>
            <a:ext cx="457200" cy="241560"/>
          </a:xfrm>
          <a:custGeom>
            <a:avLst/>
            <a:gdLst/>
            <a:ahLst/>
            <a:rect l="l" t="t" r="r" b="b"/>
            <a:pathLst>
              <a:path w="1271" h="668">
                <a:moveTo>
                  <a:pt x="11716" y="16954"/>
                </a:moveTo>
                <a:cubicBezTo>
                  <a:pt x="11744" y="17147"/>
                  <a:pt x="11748" y="17330"/>
                  <a:pt x="11748" y="17526"/>
                </a:cubicBezTo>
                <a:cubicBezTo>
                  <a:pt x="11748" y="17505"/>
                  <a:pt x="11748" y="17483"/>
                  <a:pt x="11748" y="17462"/>
                </a:cubicBezTo>
              </a:path>
              <a:path w="1271" h="668">
                <a:moveTo>
                  <a:pt x="12097" y="16923"/>
                </a:moveTo>
                <a:cubicBezTo>
                  <a:pt x="12097" y="16980"/>
                  <a:pt x="12066" y="17110"/>
                  <a:pt x="12128" y="17145"/>
                </a:cubicBezTo>
                <a:cubicBezTo>
                  <a:pt x="12318" y="17251"/>
                  <a:pt x="12414" y="17156"/>
                  <a:pt x="12510" y="17018"/>
                </a:cubicBezTo>
              </a:path>
              <a:path w="1271" h="668">
                <a:moveTo>
                  <a:pt x="12478" y="16859"/>
                </a:moveTo>
                <a:cubicBezTo>
                  <a:pt x="12432" y="17021"/>
                  <a:pt x="12303" y="17322"/>
                  <a:pt x="12382" y="17494"/>
                </a:cubicBezTo>
                <a:cubicBezTo>
                  <a:pt x="12393" y="17494"/>
                  <a:pt x="12403" y="17494"/>
                  <a:pt x="12414" y="17494"/>
                </a:cubicBezTo>
              </a:path>
              <a:path w="1271" h="668">
                <a:moveTo>
                  <a:pt x="12764" y="16891"/>
                </a:moveTo>
                <a:cubicBezTo>
                  <a:pt x="12696" y="17092"/>
                  <a:pt x="12607" y="17242"/>
                  <a:pt x="12764" y="17399"/>
                </a:cubicBezTo>
                <a:cubicBezTo>
                  <a:pt x="12852" y="17340"/>
                  <a:pt x="13160" y="17129"/>
                  <a:pt x="12954" y="16986"/>
                </a:cubicBezTo>
                <a:cubicBezTo>
                  <a:pt x="12827" y="16954"/>
                  <a:pt x="12785" y="16943"/>
                  <a:pt x="12700" y="1692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937040" y="5919840"/>
            <a:ext cx="1189080" cy="333360"/>
          </a:xfrm>
          <a:custGeom>
            <a:avLst/>
            <a:gdLst/>
            <a:ahLst/>
            <a:rect l="l" t="t" r="r" b="b"/>
            <a:pathLst>
              <a:path w="3303" h="922">
                <a:moveTo>
                  <a:pt x="13716" y="17050"/>
                </a:moveTo>
                <a:cubicBezTo>
                  <a:pt x="13832" y="17050"/>
                  <a:pt x="13949" y="17050"/>
                  <a:pt x="14065" y="17050"/>
                </a:cubicBezTo>
              </a:path>
              <a:path w="3303" h="922">
                <a:moveTo>
                  <a:pt x="13811" y="17177"/>
                </a:moveTo>
                <a:cubicBezTo>
                  <a:pt x="13956" y="17177"/>
                  <a:pt x="14081" y="17167"/>
                  <a:pt x="14224" y="17145"/>
                </a:cubicBezTo>
              </a:path>
              <a:path w="3303" h="922">
                <a:moveTo>
                  <a:pt x="15145" y="16796"/>
                </a:moveTo>
                <a:cubicBezTo>
                  <a:pt x="15050" y="16828"/>
                  <a:pt x="15156" y="16817"/>
                  <a:pt x="15176" y="16796"/>
                </a:cubicBezTo>
                <a:cubicBezTo>
                  <a:pt x="15213" y="16758"/>
                  <a:pt x="15318" y="16720"/>
                  <a:pt x="15367" y="16828"/>
                </a:cubicBezTo>
                <a:cubicBezTo>
                  <a:pt x="15482" y="17083"/>
                  <a:pt x="15375" y="17279"/>
                  <a:pt x="15113" y="17336"/>
                </a:cubicBezTo>
                <a:cubicBezTo>
                  <a:pt x="14962" y="17369"/>
                  <a:pt x="14880" y="17334"/>
                  <a:pt x="14827" y="17240"/>
                </a:cubicBezTo>
                <a:cubicBezTo>
                  <a:pt x="15000" y="17120"/>
                  <a:pt x="15108" y="17128"/>
                  <a:pt x="15304" y="17208"/>
                </a:cubicBezTo>
                <a:cubicBezTo>
                  <a:pt x="15365" y="17233"/>
                  <a:pt x="15385" y="17263"/>
                  <a:pt x="15399" y="17304"/>
                </a:cubicBezTo>
              </a:path>
              <a:path w="3303" h="922">
                <a:moveTo>
                  <a:pt x="16288" y="16986"/>
                </a:moveTo>
                <a:cubicBezTo>
                  <a:pt x="16288" y="16941"/>
                  <a:pt x="16276" y="16925"/>
                  <a:pt x="16224" y="16923"/>
                </a:cubicBezTo>
              </a:path>
              <a:path w="3303" h="922">
                <a:moveTo>
                  <a:pt x="16066" y="16700"/>
                </a:moveTo>
                <a:cubicBezTo>
                  <a:pt x="15997" y="16650"/>
                  <a:pt x="15970" y="16624"/>
                  <a:pt x="15875" y="16669"/>
                </a:cubicBezTo>
                <a:cubicBezTo>
                  <a:pt x="15631" y="16786"/>
                  <a:pt x="15585" y="16930"/>
                  <a:pt x="15558" y="17177"/>
                </a:cubicBezTo>
                <a:cubicBezTo>
                  <a:pt x="15815" y="17226"/>
                  <a:pt x="16146" y="17304"/>
                  <a:pt x="16161" y="16923"/>
                </a:cubicBezTo>
                <a:cubicBezTo>
                  <a:pt x="16171" y="16673"/>
                  <a:pt x="15939" y="16538"/>
                  <a:pt x="15716" y="16637"/>
                </a:cubicBezTo>
                <a:cubicBezTo>
                  <a:pt x="15647" y="16706"/>
                  <a:pt x="15633" y="16732"/>
                  <a:pt x="15748" y="16764"/>
                </a:cubicBezTo>
              </a:path>
              <a:path w="3303" h="922">
                <a:moveTo>
                  <a:pt x="16796" y="16796"/>
                </a:moveTo>
                <a:cubicBezTo>
                  <a:pt x="16630" y="16775"/>
                  <a:pt x="16523" y="16819"/>
                  <a:pt x="16415" y="16986"/>
                </a:cubicBezTo>
                <a:cubicBezTo>
                  <a:pt x="16352" y="17142"/>
                  <a:pt x="16330" y="17192"/>
                  <a:pt x="16383" y="17304"/>
                </a:cubicBezTo>
                <a:cubicBezTo>
                  <a:pt x="16672" y="17382"/>
                  <a:pt x="16954" y="17414"/>
                  <a:pt x="17018" y="17018"/>
                </a:cubicBezTo>
                <a:cubicBezTo>
                  <a:pt x="17080" y="16638"/>
                  <a:pt x="16564" y="16716"/>
                  <a:pt x="16351" y="16732"/>
                </a:cubicBezTo>
              </a:path>
              <a:path w="3303" h="922">
                <a:moveTo>
                  <a:pt x="14700" y="16542"/>
                </a:moveTo>
                <a:cubicBezTo>
                  <a:pt x="14597" y="16574"/>
                  <a:pt x="14444" y="16583"/>
                  <a:pt x="14414" y="16700"/>
                </a:cubicBezTo>
                <a:cubicBezTo>
                  <a:pt x="14516" y="16770"/>
                  <a:pt x="14595" y="16828"/>
                  <a:pt x="14668" y="16923"/>
                </a:cubicBezTo>
                <a:cubicBezTo>
                  <a:pt x="14547" y="17045"/>
                  <a:pt x="14396" y="17071"/>
                  <a:pt x="14351" y="16859"/>
                </a:cubicBezTo>
                <a:cubicBezTo>
                  <a:pt x="14351" y="16817"/>
                  <a:pt x="14351" y="16774"/>
                  <a:pt x="14351" y="16732"/>
                </a:cubicBezTo>
              </a:path>
              <a:path w="3303" h="922">
                <a:moveTo>
                  <a:pt x="14478" y="16446"/>
                </a:moveTo>
                <a:cubicBezTo>
                  <a:pt x="14511" y="16611"/>
                  <a:pt x="14510" y="16779"/>
                  <a:pt x="14510" y="16954"/>
                </a:cubicBezTo>
                <a:cubicBezTo>
                  <a:pt x="14510" y="17054"/>
                  <a:pt x="14530" y="17077"/>
                  <a:pt x="14478" y="1711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0-#ppt_w/2"/>
                                          </p:val>
                                        </p:tav>
                                        <p:tav tm="100000">
                                          <p:val>
                                            <p:strVal val="#ppt_x"/>
                                          </p:val>
                                        </p:tav>
                                      </p:tavLst>
                                    </p:anim>
                                    <p:anim calcmode="lin" valueType="num">
                                      <p:cBhvr additive="base">
                                        <p:cTn id="2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8"/>
                                        </p:tgtEl>
                                        <p:attrNameLst>
                                          <p:attrName>style.visibility</p:attrName>
                                        </p:attrNameLst>
                                      </p:cBhvr>
                                      <p:to>
                                        <p:strVal val="visible"/>
                                      </p:to>
                                    </p:set>
                                    <p:anim calcmode="lin" valueType="num">
                                      <p:cBhvr additive="base">
                                        <p:cTn id="27" dur="500" fill="hold"/>
                                        <p:tgtEl>
                                          <p:spTgt spid="58"/>
                                        </p:tgtEl>
                                        <p:attrNameLst>
                                          <p:attrName>ppt_x</p:attrName>
                                        </p:attrNameLst>
                                      </p:cBhvr>
                                      <p:tavLst>
                                        <p:tav tm="0">
                                          <p:val>
                                            <p:strVal val="0-#ppt_w/2"/>
                                          </p:val>
                                        </p:tav>
                                        <p:tav tm="100000">
                                          <p:val>
                                            <p:strVal val="#ppt_x"/>
                                          </p:val>
                                        </p:tav>
                                      </p:tavLst>
                                    </p:anim>
                                    <p:anim calcmode="lin" valueType="num">
                                      <p:cBhvr additive="base">
                                        <p:cTn id="28"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456840"/>
            <a:ext cx="8229600" cy="762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p:txBody>
      </p:sp>
      <p:sp>
        <p:nvSpPr>
          <p:cNvPr id="69" name=""/>
          <p:cNvSpPr/>
          <p:nvPr/>
        </p:nvSpPr>
        <p:spPr>
          <a:xfrm>
            <a:off x="609480" y="1314360"/>
            <a:ext cx="7648560" cy="149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ich expression is equivalent to the given problem?</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2(18 + 42)</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2 x 18 + 42</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C. (22 x 18) - (22 x 42)</a:t>
            </a:r>
            <a:endParaRPr b="0" lang="en-US" sz="20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2 x 18) + (22 x 42)</a:t>
            </a:r>
            <a:r>
              <a:rPr b="0" lang="en-US" sz="2000" spc="-1" strike="noStrike">
                <a:solidFill>
                  <a:srgbClr val="000000"/>
                </a:solidFill>
                <a:latin typeface="Comic Sans MS"/>
              </a:rPr>
              <a:t>	</a:t>
            </a:r>
            <a:r>
              <a:rPr b="0" lang="en-US" sz="2000" spc="-1" strike="noStrike">
                <a:solidFill>
                  <a:srgbClr val="000000"/>
                </a:solidFill>
                <a:latin typeface="Comic Sans MS"/>
              </a:rPr>
              <a:t>D. 22 x 18 x 22 x 42</a:t>
            </a:r>
            <a:endParaRPr b="0" lang="en-US" sz="2000" spc="-1" strike="noStrike">
              <a:solidFill>
                <a:srgbClr val="000000"/>
              </a:solidFill>
              <a:latin typeface="Arial"/>
            </a:endParaRPr>
          </a:p>
        </p:txBody>
      </p:sp>
      <p:sp>
        <p:nvSpPr>
          <p:cNvPr id="70" name=""/>
          <p:cNvSpPr/>
          <p:nvPr/>
        </p:nvSpPr>
        <p:spPr>
          <a:xfrm>
            <a:off x="2034720" y="3962520"/>
            <a:ext cx="50742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the distributive property to evalu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0 x (7 - 4) =</a:t>
            </a:r>
            <a:endParaRPr b="0" lang="en-US" sz="3200" spc="-1" strike="noStrike">
              <a:solidFill>
                <a:srgbClr val="000000"/>
              </a:solidFill>
              <a:latin typeface="Arial"/>
            </a:endParaRPr>
          </a:p>
        </p:txBody>
      </p:sp>
      <p:sp>
        <p:nvSpPr>
          <p:cNvPr id="71" name=""/>
          <p:cNvSpPr/>
          <p:nvPr/>
        </p:nvSpPr>
        <p:spPr>
          <a:xfrm>
            <a:off x="3726000" y="1440000"/>
            <a:ext cx="1257120" cy="298440"/>
          </a:xfrm>
          <a:custGeom>
            <a:avLst/>
            <a:gdLst/>
            <a:ahLst/>
            <a:rect l="l" t="t" r="r" b="b"/>
            <a:pathLst>
              <a:path w="3494" h="827">
                <a:moveTo>
                  <a:pt x="10478" y="4731"/>
                </a:moveTo>
                <a:cubicBezTo>
                  <a:pt x="10446" y="4731"/>
                  <a:pt x="10435" y="4731"/>
                  <a:pt x="10446" y="4699"/>
                </a:cubicBezTo>
                <a:cubicBezTo>
                  <a:pt x="10502" y="4606"/>
                  <a:pt x="10646" y="4487"/>
                  <a:pt x="10763" y="4445"/>
                </a:cubicBezTo>
                <a:cubicBezTo>
                  <a:pt x="10858" y="4411"/>
                  <a:pt x="10957" y="4404"/>
                  <a:pt x="11049" y="4445"/>
                </a:cubicBezTo>
                <a:cubicBezTo>
                  <a:pt x="11107" y="4471"/>
                  <a:pt x="11157" y="4486"/>
                  <a:pt x="11208" y="4508"/>
                </a:cubicBezTo>
                <a:cubicBezTo>
                  <a:pt x="11290" y="4543"/>
                  <a:pt x="11254" y="4603"/>
                  <a:pt x="11303" y="4636"/>
                </a:cubicBezTo>
                <a:cubicBezTo>
                  <a:pt x="11335" y="4636"/>
                  <a:pt x="11345" y="4636"/>
                  <a:pt x="11335" y="4667"/>
                </a:cubicBezTo>
              </a:path>
              <a:path w="3494" h="827">
                <a:moveTo>
                  <a:pt x="10350" y="4826"/>
                </a:moveTo>
                <a:cubicBezTo>
                  <a:pt x="10387" y="4717"/>
                  <a:pt x="10415" y="4598"/>
                  <a:pt x="10509" y="4508"/>
                </a:cubicBezTo>
                <a:cubicBezTo>
                  <a:pt x="10616" y="4406"/>
                  <a:pt x="10720" y="4315"/>
                  <a:pt x="10858" y="4254"/>
                </a:cubicBezTo>
                <a:cubicBezTo>
                  <a:pt x="11112" y="4142"/>
                  <a:pt x="11416" y="4129"/>
                  <a:pt x="11684" y="4096"/>
                </a:cubicBezTo>
                <a:cubicBezTo>
                  <a:pt x="11942" y="4064"/>
                  <a:pt x="12185" y="4005"/>
                  <a:pt x="12446" y="4000"/>
                </a:cubicBezTo>
                <a:cubicBezTo>
                  <a:pt x="12644" y="3996"/>
                  <a:pt x="12856" y="3994"/>
                  <a:pt x="13049" y="4032"/>
                </a:cubicBezTo>
                <a:cubicBezTo>
                  <a:pt x="13159" y="4053"/>
                  <a:pt x="13301" y="4102"/>
                  <a:pt x="13398" y="4159"/>
                </a:cubicBezTo>
                <a:cubicBezTo>
                  <a:pt x="13463" y="4197"/>
                  <a:pt x="13568" y="4262"/>
                  <a:pt x="13621" y="4318"/>
                </a:cubicBezTo>
                <a:cubicBezTo>
                  <a:pt x="13673" y="4374"/>
                  <a:pt x="13713" y="4471"/>
                  <a:pt x="13748" y="4540"/>
                </a:cubicBezTo>
                <a:cubicBezTo>
                  <a:pt x="13783" y="4610"/>
                  <a:pt x="13808" y="4660"/>
                  <a:pt x="13843" y="473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82480" y="2422440"/>
            <a:ext cx="366840" cy="378000"/>
          </a:xfrm>
          <a:custGeom>
            <a:avLst/>
            <a:gdLst/>
            <a:ahLst/>
            <a:rect l="l" t="t" r="r" b="b"/>
            <a:pathLst>
              <a:path w="1017" h="1049">
                <a:moveTo>
                  <a:pt x="2318" y="6922"/>
                </a:moveTo>
                <a:cubicBezTo>
                  <a:pt x="2308" y="6850"/>
                  <a:pt x="2306" y="6818"/>
                  <a:pt x="2254" y="6794"/>
                </a:cubicBezTo>
                <a:cubicBezTo>
                  <a:pt x="2073" y="6711"/>
                  <a:pt x="2016" y="6744"/>
                  <a:pt x="1842" y="6858"/>
                </a:cubicBezTo>
                <a:cubicBezTo>
                  <a:pt x="1649" y="6984"/>
                  <a:pt x="1596" y="7109"/>
                  <a:pt x="1651" y="7334"/>
                </a:cubicBezTo>
                <a:cubicBezTo>
                  <a:pt x="1700" y="7535"/>
                  <a:pt x="1768" y="7820"/>
                  <a:pt x="2032" y="7779"/>
                </a:cubicBezTo>
                <a:cubicBezTo>
                  <a:pt x="2222" y="7750"/>
                  <a:pt x="2449" y="7609"/>
                  <a:pt x="2572" y="7461"/>
                </a:cubicBezTo>
                <a:cubicBezTo>
                  <a:pt x="2652" y="7365"/>
                  <a:pt x="2660" y="7203"/>
                  <a:pt x="2635" y="7080"/>
                </a:cubicBezTo>
                <a:cubicBezTo>
                  <a:pt x="2609" y="6954"/>
                  <a:pt x="2546" y="6852"/>
                  <a:pt x="2413" y="6826"/>
                </a:cubicBezTo>
                <a:cubicBezTo>
                  <a:pt x="2311" y="6806"/>
                  <a:pt x="2159" y="6774"/>
                  <a:pt x="2064" y="6826"/>
                </a:cubicBezTo>
                <a:cubicBezTo>
                  <a:pt x="2053" y="6837"/>
                  <a:pt x="2043" y="6847"/>
                  <a:pt x="2032" y="68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89000" y="4778280"/>
            <a:ext cx="1017720" cy="789120"/>
          </a:xfrm>
          <a:custGeom>
            <a:avLst/>
            <a:gdLst/>
            <a:ahLst/>
            <a:rect l="l" t="t" r="r" b="b"/>
            <a:pathLst>
              <a:path w="2827" h="2191">
                <a:moveTo>
                  <a:pt x="5842" y="13272"/>
                </a:moveTo>
                <a:cubicBezTo>
                  <a:pt x="5768" y="13454"/>
                  <a:pt x="5616" y="13674"/>
                  <a:pt x="5556" y="13875"/>
                </a:cubicBezTo>
                <a:cubicBezTo>
                  <a:pt x="5483" y="14119"/>
                  <a:pt x="5554" y="14287"/>
                  <a:pt x="5778" y="14288"/>
                </a:cubicBezTo>
              </a:path>
              <a:path w="2827" h="2191">
                <a:moveTo>
                  <a:pt x="5937" y="13716"/>
                </a:moveTo>
                <a:cubicBezTo>
                  <a:pt x="5920" y="13854"/>
                  <a:pt x="5866" y="14144"/>
                  <a:pt x="5906" y="14224"/>
                </a:cubicBezTo>
              </a:path>
              <a:path w="2827" h="2191">
                <a:moveTo>
                  <a:pt x="6064" y="13780"/>
                </a:moveTo>
                <a:cubicBezTo>
                  <a:pt x="5973" y="13982"/>
                  <a:pt x="5962" y="14006"/>
                  <a:pt x="6001" y="14224"/>
                </a:cubicBezTo>
                <a:cubicBezTo>
                  <a:pt x="6195" y="14238"/>
                  <a:pt x="6417" y="14142"/>
                  <a:pt x="6318" y="13875"/>
                </a:cubicBezTo>
                <a:cubicBezTo>
                  <a:pt x="6244" y="13801"/>
                  <a:pt x="6233" y="13790"/>
                  <a:pt x="6191" y="13748"/>
                </a:cubicBezTo>
              </a:path>
              <a:path w="2827" h="2191">
                <a:moveTo>
                  <a:pt x="6699" y="13811"/>
                </a:moveTo>
                <a:cubicBezTo>
                  <a:pt x="6774" y="13961"/>
                  <a:pt x="6889" y="14125"/>
                  <a:pt x="6922" y="14288"/>
                </a:cubicBezTo>
              </a:path>
              <a:path w="2827" h="2191">
                <a:moveTo>
                  <a:pt x="6953" y="13843"/>
                </a:moveTo>
                <a:cubicBezTo>
                  <a:pt x="6937" y="13874"/>
                  <a:pt x="6709" y="14319"/>
                  <a:pt x="6763" y="14319"/>
                </a:cubicBezTo>
                <a:cubicBezTo>
                  <a:pt x="6784" y="14298"/>
                  <a:pt x="6805" y="14277"/>
                  <a:pt x="6826" y="14256"/>
                </a:cubicBezTo>
              </a:path>
              <a:path w="2827" h="2191">
                <a:moveTo>
                  <a:pt x="7017" y="13716"/>
                </a:moveTo>
                <a:cubicBezTo>
                  <a:pt x="7160" y="13743"/>
                  <a:pt x="7283" y="13748"/>
                  <a:pt x="7430" y="13748"/>
                </a:cubicBezTo>
                <a:cubicBezTo>
                  <a:pt x="7409" y="13897"/>
                  <a:pt x="7361" y="14043"/>
                  <a:pt x="7334" y="14192"/>
                </a:cubicBezTo>
                <a:cubicBezTo>
                  <a:pt x="7334" y="14237"/>
                  <a:pt x="7340" y="14236"/>
                  <a:pt x="7366" y="14160"/>
                </a:cubicBezTo>
              </a:path>
              <a:path w="2827" h="2191">
                <a:moveTo>
                  <a:pt x="7493" y="13335"/>
                </a:moveTo>
                <a:cubicBezTo>
                  <a:pt x="7698" y="13647"/>
                  <a:pt x="7918" y="13928"/>
                  <a:pt x="7747" y="14319"/>
                </a:cubicBezTo>
                <a:cubicBezTo>
                  <a:pt x="7712" y="14400"/>
                  <a:pt x="7558" y="14629"/>
                  <a:pt x="7556" y="14478"/>
                </a:cubicBezTo>
              </a:path>
              <a:path w="2827" h="2191">
                <a:moveTo>
                  <a:pt x="6064" y="14764"/>
                </a:moveTo>
                <a:cubicBezTo>
                  <a:pt x="6239" y="14805"/>
                  <a:pt x="6392" y="14827"/>
                  <a:pt x="6572" y="14827"/>
                </a:cubicBezTo>
                <a:cubicBezTo>
                  <a:pt x="6512" y="15008"/>
                  <a:pt x="6425" y="15223"/>
                  <a:pt x="6350" y="15399"/>
                </a:cubicBezTo>
                <a:cubicBezTo>
                  <a:pt x="6307" y="15501"/>
                  <a:pt x="6457" y="15345"/>
                  <a:pt x="6540" y="15272"/>
                </a:cubicBezTo>
              </a:path>
              <a:path w="2827" h="2191">
                <a:moveTo>
                  <a:pt x="6922" y="14986"/>
                </a:moveTo>
                <a:cubicBezTo>
                  <a:pt x="6792" y="15099"/>
                  <a:pt x="6756" y="15225"/>
                  <a:pt x="6731" y="15399"/>
                </a:cubicBezTo>
                <a:cubicBezTo>
                  <a:pt x="6888" y="15455"/>
                  <a:pt x="7171" y="15452"/>
                  <a:pt x="7144" y="15176"/>
                </a:cubicBezTo>
                <a:cubicBezTo>
                  <a:pt x="7129" y="15028"/>
                  <a:pt x="7016" y="15108"/>
                  <a:pt x="7017" y="15018"/>
                </a:cubicBezTo>
              </a:path>
              <a:path w="2827" h="2191">
                <a:moveTo>
                  <a:pt x="8192" y="14034"/>
                </a:moveTo>
                <a:cubicBezTo>
                  <a:pt x="8245" y="14025"/>
                  <a:pt x="8297" y="14011"/>
                  <a:pt x="8350" y="14002"/>
                </a:cubicBezTo>
              </a:path>
              <a:path w="2827" h="2191">
                <a:moveTo>
                  <a:pt x="7938" y="15081"/>
                </a:moveTo>
                <a:cubicBezTo>
                  <a:pt x="8040" y="15116"/>
                  <a:pt x="8110" y="15113"/>
                  <a:pt x="8223" y="1511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200400" y="4400640"/>
            <a:ext cx="1828800" cy="1085760"/>
          </a:xfrm>
          <a:custGeom>
            <a:avLst/>
            <a:gdLst/>
            <a:ahLst/>
            <a:rect l="l" t="t" r="r" b="b"/>
            <a:pathLst>
              <a:path w="5081" h="3017">
                <a:moveTo>
                  <a:pt x="9049" y="13462"/>
                </a:moveTo>
                <a:cubicBezTo>
                  <a:pt x="9049" y="13325"/>
                  <a:pt x="8951" y="13646"/>
                  <a:pt x="8922" y="13780"/>
                </a:cubicBezTo>
                <a:cubicBezTo>
                  <a:pt x="8872" y="14006"/>
                  <a:pt x="8921" y="14122"/>
                  <a:pt x="8985" y="14319"/>
                </a:cubicBezTo>
                <a:cubicBezTo>
                  <a:pt x="8985" y="14351"/>
                  <a:pt x="8985" y="14362"/>
                  <a:pt x="9017" y="14351"/>
                </a:cubicBezTo>
              </a:path>
              <a:path w="5081" h="3017">
                <a:moveTo>
                  <a:pt x="9271" y="13684"/>
                </a:moveTo>
                <a:cubicBezTo>
                  <a:pt x="9178" y="13684"/>
                  <a:pt x="9503" y="13684"/>
                  <a:pt x="9525" y="13684"/>
                </a:cubicBezTo>
                <a:cubicBezTo>
                  <a:pt x="9546" y="13684"/>
                  <a:pt x="9567" y="13684"/>
                  <a:pt x="9588" y="13684"/>
                </a:cubicBezTo>
                <a:cubicBezTo>
                  <a:pt x="9535" y="13900"/>
                  <a:pt x="9419" y="14022"/>
                  <a:pt x="9334" y="14192"/>
                </a:cubicBezTo>
                <a:cubicBezTo>
                  <a:pt x="9345" y="14192"/>
                  <a:pt x="9355" y="14192"/>
                  <a:pt x="9366" y="14192"/>
                </a:cubicBezTo>
              </a:path>
              <a:path w="5081" h="3017">
                <a:moveTo>
                  <a:pt x="9239" y="13621"/>
                </a:moveTo>
                <a:cubicBezTo>
                  <a:pt x="9135" y="13663"/>
                  <a:pt x="9052" y="13991"/>
                  <a:pt x="8985" y="14160"/>
                </a:cubicBezTo>
                <a:cubicBezTo>
                  <a:pt x="8910" y="14349"/>
                  <a:pt x="9046" y="14169"/>
                  <a:pt x="9112" y="14097"/>
                </a:cubicBezTo>
              </a:path>
              <a:path w="5081" h="3017">
                <a:moveTo>
                  <a:pt x="9493" y="13684"/>
                </a:moveTo>
                <a:cubicBezTo>
                  <a:pt x="9395" y="13857"/>
                  <a:pt x="9348" y="13993"/>
                  <a:pt x="9334" y="14192"/>
                </a:cubicBezTo>
                <a:cubicBezTo>
                  <a:pt x="9529" y="14164"/>
                  <a:pt x="9831" y="14050"/>
                  <a:pt x="9779" y="13780"/>
                </a:cubicBezTo>
                <a:cubicBezTo>
                  <a:pt x="9759" y="13674"/>
                  <a:pt x="9609" y="13652"/>
                  <a:pt x="9525" y="13652"/>
                </a:cubicBezTo>
              </a:path>
              <a:path w="5081" h="3017">
                <a:moveTo>
                  <a:pt x="10065" y="13748"/>
                </a:moveTo>
                <a:cubicBezTo>
                  <a:pt x="10098" y="13883"/>
                  <a:pt x="10226" y="13994"/>
                  <a:pt x="10319" y="14097"/>
                </a:cubicBezTo>
                <a:cubicBezTo>
                  <a:pt x="10329" y="14108"/>
                  <a:pt x="10340" y="14118"/>
                  <a:pt x="10350" y="14129"/>
                </a:cubicBezTo>
              </a:path>
              <a:path w="5081" h="3017">
                <a:moveTo>
                  <a:pt x="10319" y="13652"/>
                </a:moveTo>
                <a:cubicBezTo>
                  <a:pt x="10245" y="13811"/>
                  <a:pt x="10182" y="13988"/>
                  <a:pt x="10128" y="14160"/>
                </a:cubicBezTo>
                <a:cubicBezTo>
                  <a:pt x="10128" y="14220"/>
                  <a:pt x="10143" y="14207"/>
                  <a:pt x="10192" y="14097"/>
                </a:cubicBezTo>
              </a:path>
              <a:path w="5081" h="3017">
                <a:moveTo>
                  <a:pt x="10827" y="13589"/>
                </a:moveTo>
                <a:cubicBezTo>
                  <a:pt x="10886" y="13559"/>
                  <a:pt x="11062" y="13614"/>
                  <a:pt x="11176" y="13621"/>
                </a:cubicBezTo>
                <a:cubicBezTo>
                  <a:pt x="11231" y="13624"/>
                  <a:pt x="11175" y="13603"/>
                  <a:pt x="11112" y="13621"/>
                </a:cubicBezTo>
              </a:path>
              <a:path w="5081" h="3017">
                <a:moveTo>
                  <a:pt x="10827" y="13430"/>
                </a:moveTo>
                <a:cubicBezTo>
                  <a:pt x="10856" y="13548"/>
                  <a:pt x="10823" y="13693"/>
                  <a:pt x="10763" y="13811"/>
                </a:cubicBezTo>
                <a:cubicBezTo>
                  <a:pt x="10914" y="13811"/>
                  <a:pt x="11057" y="13787"/>
                  <a:pt x="11208" y="13780"/>
                </a:cubicBezTo>
                <a:cubicBezTo>
                  <a:pt x="11305" y="13776"/>
                  <a:pt x="11243" y="13770"/>
                  <a:pt x="11240" y="13748"/>
                </a:cubicBezTo>
                <a:cubicBezTo>
                  <a:pt x="11240" y="13609"/>
                  <a:pt x="11238" y="13555"/>
                  <a:pt x="11208" y="13462"/>
                </a:cubicBezTo>
                <a:cubicBezTo>
                  <a:pt x="11208" y="13660"/>
                  <a:pt x="11163" y="13840"/>
                  <a:pt x="11144" y="14034"/>
                </a:cubicBezTo>
                <a:cubicBezTo>
                  <a:pt x="11114" y="14346"/>
                  <a:pt x="11170" y="14027"/>
                  <a:pt x="11176" y="14002"/>
                </a:cubicBezTo>
              </a:path>
              <a:path w="5081" h="3017">
                <a:moveTo>
                  <a:pt x="11271" y="13208"/>
                </a:moveTo>
                <a:cubicBezTo>
                  <a:pt x="11441" y="13509"/>
                  <a:pt x="11618" y="13773"/>
                  <a:pt x="11462" y="14129"/>
                </a:cubicBezTo>
                <a:cubicBezTo>
                  <a:pt x="11342" y="14280"/>
                  <a:pt x="11309" y="14329"/>
                  <a:pt x="11176" y="14351"/>
                </a:cubicBezTo>
              </a:path>
              <a:path w="5081" h="3017">
                <a:moveTo>
                  <a:pt x="11716" y="14922"/>
                </a:moveTo>
                <a:cubicBezTo>
                  <a:pt x="11801" y="14922"/>
                  <a:pt x="11885" y="14922"/>
                  <a:pt x="11970" y="14922"/>
                </a:cubicBezTo>
              </a:path>
              <a:path w="5081" h="3017">
                <a:moveTo>
                  <a:pt x="11716" y="15113"/>
                </a:moveTo>
                <a:cubicBezTo>
                  <a:pt x="11881" y="15113"/>
                  <a:pt x="12027" y="15100"/>
                  <a:pt x="12192" y="15081"/>
                </a:cubicBezTo>
              </a:path>
              <a:path w="5081" h="3017">
                <a:moveTo>
                  <a:pt x="12732" y="14637"/>
                </a:moveTo>
                <a:cubicBezTo>
                  <a:pt x="12835" y="14616"/>
                  <a:pt x="13066" y="14552"/>
                  <a:pt x="13081" y="14732"/>
                </a:cubicBezTo>
                <a:cubicBezTo>
                  <a:pt x="13090" y="14842"/>
                  <a:pt x="12924" y="14876"/>
                  <a:pt x="12859" y="14891"/>
                </a:cubicBezTo>
                <a:cubicBezTo>
                  <a:pt x="13072" y="14916"/>
                  <a:pt x="13076" y="14906"/>
                  <a:pt x="13176" y="15081"/>
                </a:cubicBezTo>
                <a:cubicBezTo>
                  <a:pt x="12902" y="15239"/>
                  <a:pt x="12746" y="15342"/>
                  <a:pt x="12636" y="15050"/>
                </a:cubicBezTo>
              </a:path>
              <a:path w="5081" h="3017">
                <a:moveTo>
                  <a:pt x="13526" y="14605"/>
                </a:moveTo>
                <a:cubicBezTo>
                  <a:pt x="13424" y="14769"/>
                  <a:pt x="13217" y="15210"/>
                  <a:pt x="13652" y="15176"/>
                </a:cubicBezTo>
                <a:cubicBezTo>
                  <a:pt x="13840" y="15082"/>
                  <a:pt x="13902" y="15053"/>
                  <a:pt x="13970" y="14922"/>
                </a:cubicBezTo>
                <a:cubicBezTo>
                  <a:pt x="13803" y="14673"/>
                  <a:pt x="13719" y="14693"/>
                  <a:pt x="13430" y="14637"/>
                </a:cubicBezTo>
              </a:path>
              <a:path w="5081" h="3017">
                <a:moveTo>
                  <a:pt x="9620" y="13049"/>
                </a:moveTo>
                <a:cubicBezTo>
                  <a:pt x="9714" y="13285"/>
                  <a:pt x="9957" y="13383"/>
                  <a:pt x="10224" y="13367"/>
                </a:cubicBezTo>
                <a:cubicBezTo>
                  <a:pt x="10588" y="13345"/>
                  <a:pt x="10805" y="13047"/>
                  <a:pt x="10700" y="12700"/>
                </a:cubicBezTo>
                <a:cubicBezTo>
                  <a:pt x="10580" y="12304"/>
                  <a:pt x="10019" y="12077"/>
                  <a:pt x="9684" y="12351"/>
                </a:cubicBezTo>
                <a:cubicBezTo>
                  <a:pt x="9321" y="12648"/>
                  <a:pt x="9411" y="13275"/>
                  <a:pt x="9906" y="13367"/>
                </a:cubicBezTo>
                <a:cubicBezTo>
                  <a:pt x="10044" y="13356"/>
                  <a:pt x="10181" y="13346"/>
                  <a:pt x="10319" y="1333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417840" y="5268960"/>
            <a:ext cx="422280" cy="285840"/>
          </a:xfrm>
          <a:custGeom>
            <a:avLst/>
            <a:gdLst/>
            <a:ahLst/>
            <a:rect l="l" t="t" r="r" b="b"/>
            <a:pathLst>
              <a:path w="1176" h="794">
                <a:moveTo>
                  <a:pt x="9557" y="14637"/>
                </a:moveTo>
                <a:cubicBezTo>
                  <a:pt x="9535" y="14787"/>
                  <a:pt x="9502" y="14928"/>
                  <a:pt x="9493" y="15081"/>
                </a:cubicBezTo>
                <a:cubicBezTo>
                  <a:pt x="9642" y="15071"/>
                  <a:pt x="9737" y="15043"/>
                  <a:pt x="9874" y="14986"/>
                </a:cubicBezTo>
              </a:path>
              <a:path w="1176" h="794">
                <a:moveTo>
                  <a:pt x="9874" y="14637"/>
                </a:moveTo>
                <a:cubicBezTo>
                  <a:pt x="9829" y="14836"/>
                  <a:pt x="9706" y="15102"/>
                  <a:pt x="9716" y="15304"/>
                </a:cubicBezTo>
                <a:cubicBezTo>
                  <a:pt x="9726" y="15314"/>
                  <a:pt x="9737" y="15325"/>
                  <a:pt x="9747" y="15335"/>
                </a:cubicBezTo>
              </a:path>
              <a:path w="1176" h="794">
                <a:moveTo>
                  <a:pt x="10350" y="14764"/>
                </a:moveTo>
                <a:cubicBezTo>
                  <a:pt x="10145" y="15025"/>
                  <a:pt x="10074" y="15134"/>
                  <a:pt x="10224" y="15430"/>
                </a:cubicBezTo>
                <a:cubicBezTo>
                  <a:pt x="10409" y="15404"/>
                  <a:pt x="10873" y="15258"/>
                  <a:pt x="10636" y="14954"/>
                </a:cubicBezTo>
                <a:cubicBezTo>
                  <a:pt x="10511" y="14904"/>
                  <a:pt x="10494" y="14883"/>
                  <a:pt x="10414" y="148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69"/>
                                        </p:tgtEl>
                                        <p:attrNameLst>
                                          <p:attrName>style.visibility</p:attrName>
                                        </p:attrNameLst>
                                      </p:cBhvr>
                                      <p:to>
                                        <p:strVal val="visible"/>
                                      </p:to>
                                    </p:set>
                                    <p:anim calcmode="lin" valueType="num">
                                      <p:cBhvr additive="base">
                                        <p:cTn id="35" dur="500" fill="hold"/>
                                        <p:tgtEl>
                                          <p:spTgt spid="69"/>
                                        </p:tgtEl>
                                        <p:attrNameLst>
                                          <p:attrName>ppt_x</p:attrName>
                                        </p:attrNameLst>
                                      </p:cBhvr>
                                      <p:tavLst>
                                        <p:tav tm="0">
                                          <p:val>
                                            <p:strVal val="0-#ppt_w/2"/>
                                          </p:val>
                                        </p:tav>
                                        <p:tav tm="100000">
                                          <p:val>
                                            <p:strVal val="#ppt_x"/>
                                          </p:val>
                                        </p:tav>
                                      </p:tavLst>
                                    </p:anim>
                                    <p:anim calcmode="lin" valueType="num">
                                      <p:cBhvr additive="base">
                                        <p:cTn id="3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70"/>
                                        </p:tgtEl>
                                        <p:attrNameLst>
                                          <p:attrName>style.visibility</p:attrName>
                                        </p:attrNameLst>
                                      </p:cBhvr>
                                      <p:to>
                                        <p:strVal val="visible"/>
                                      </p:to>
                                    </p:set>
                                    <p:anim calcmode="lin" valueType="num">
                                      <p:cBhvr additive="base">
                                        <p:cTn id="41" dur="500" fill="hold"/>
                                        <p:tgtEl>
                                          <p:spTgt spid="70"/>
                                        </p:tgtEl>
                                        <p:attrNameLst>
                                          <p:attrName>ppt_x</p:attrName>
                                        </p:attrNameLst>
                                      </p:cBhvr>
                                      <p:tavLst>
                                        <p:tav tm="0">
                                          <p:val>
                                            <p:strVal val="0-#ppt_w/2"/>
                                          </p:val>
                                        </p:tav>
                                        <p:tav tm="100000">
                                          <p:val>
                                            <p:strVal val="#ppt_x"/>
                                          </p:val>
                                        </p:tav>
                                      </p:tavLst>
                                    </p:anim>
                                    <p:anim calcmode="lin" valueType="num">
                                      <p:cBhvr additive="base">
                                        <p:cTn id="42"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219320" y="1765800"/>
            <a:ext cx="64008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quotient of 4 and N is 2.</a:t>
            </a:r>
            <a:endParaRPr b="0" lang="en-US" sz="3200" spc="-1" strike="noStrike">
              <a:solidFill>
                <a:srgbClr val="000000"/>
              </a:solidFill>
              <a:latin typeface="Arial"/>
            </a:endParaRPr>
          </a:p>
        </p:txBody>
      </p:sp>
      <p:sp>
        <p:nvSpPr>
          <p:cNvPr id="77" name="PlaceHolder 1"/>
          <p:cNvSpPr>
            <a:spLocks noGrp="1"/>
          </p:cNvSpPr>
          <p:nvPr>
            <p:ph/>
          </p:nvPr>
        </p:nvSpPr>
        <p:spPr>
          <a:xfrm>
            <a:off x="457200" y="304920"/>
            <a:ext cx="8229600" cy="1218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ite the equation or inequality.</a:t>
            </a:r>
            <a:endParaRPr b="0" lang="en-US" sz="2000" spc="-1" strike="noStrike">
              <a:solidFill>
                <a:srgbClr val="000000"/>
              </a:solidFill>
              <a:latin typeface="Arial"/>
            </a:endParaRPr>
          </a:p>
        </p:txBody>
      </p:sp>
      <p:sp>
        <p:nvSpPr>
          <p:cNvPr id="78" name=""/>
          <p:cNvSpPr/>
          <p:nvPr/>
        </p:nvSpPr>
        <p:spPr>
          <a:xfrm>
            <a:off x="152280" y="309888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ifference of 50 and a number N is 42.</a:t>
            </a:r>
            <a:endParaRPr b="0" lang="en-US" sz="3200" spc="-1" strike="noStrike">
              <a:solidFill>
                <a:srgbClr val="000000"/>
              </a:solidFill>
              <a:latin typeface="Arial"/>
            </a:endParaRPr>
          </a:p>
        </p:txBody>
      </p:sp>
      <p:sp>
        <p:nvSpPr>
          <p:cNvPr id="79" name=""/>
          <p:cNvSpPr/>
          <p:nvPr/>
        </p:nvSpPr>
        <p:spPr>
          <a:xfrm>
            <a:off x="1441080" y="4495680"/>
            <a:ext cx="663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 divided by 5 is greater than 1/2.</a:t>
            </a:r>
            <a:endParaRPr b="0" lang="en-US" sz="3200" spc="-1" strike="noStrike">
              <a:solidFill>
                <a:srgbClr val="000000"/>
              </a:solidFill>
              <a:latin typeface="Arial"/>
            </a:endParaRPr>
          </a:p>
        </p:txBody>
      </p:sp>
      <p:sp>
        <p:nvSpPr>
          <p:cNvPr id="80" name=""/>
          <p:cNvSpPr/>
          <p:nvPr/>
        </p:nvSpPr>
        <p:spPr>
          <a:xfrm>
            <a:off x="2743200" y="1440000"/>
            <a:ext cx="2617920" cy="457200"/>
          </a:xfrm>
          <a:custGeom>
            <a:avLst/>
            <a:gdLst/>
            <a:ahLst/>
            <a:rect l="l" t="t" r="r" b="b"/>
            <a:pathLst>
              <a:path w="7272" h="1271">
                <a:moveTo>
                  <a:pt x="7906" y="4699"/>
                </a:moveTo>
                <a:cubicBezTo>
                  <a:pt x="8063" y="4699"/>
                  <a:pt x="8292" y="4751"/>
                  <a:pt x="8350" y="4636"/>
                </a:cubicBezTo>
              </a:path>
              <a:path w="7272" h="1271">
                <a:moveTo>
                  <a:pt x="8096" y="4254"/>
                </a:moveTo>
                <a:cubicBezTo>
                  <a:pt x="8085" y="4254"/>
                  <a:pt x="8075" y="4254"/>
                  <a:pt x="8064" y="4254"/>
                </a:cubicBezTo>
              </a:path>
              <a:path w="7272" h="1271">
                <a:moveTo>
                  <a:pt x="8223" y="5016"/>
                </a:moveTo>
                <a:cubicBezTo>
                  <a:pt x="8223" y="5027"/>
                  <a:pt x="8223" y="5037"/>
                  <a:pt x="8223" y="5048"/>
                </a:cubicBezTo>
              </a:path>
              <a:path w="7272" h="1271">
                <a:moveTo>
                  <a:pt x="12986" y="4382"/>
                </a:moveTo>
                <a:cubicBezTo>
                  <a:pt x="13004" y="4437"/>
                  <a:pt x="13038" y="4604"/>
                  <a:pt x="13081" y="4636"/>
                </a:cubicBezTo>
                <a:cubicBezTo>
                  <a:pt x="13142" y="4682"/>
                  <a:pt x="13329" y="4611"/>
                  <a:pt x="13398" y="4604"/>
                </a:cubicBezTo>
              </a:path>
              <a:path w="7272" h="1271">
                <a:moveTo>
                  <a:pt x="13240" y="4223"/>
                </a:moveTo>
                <a:cubicBezTo>
                  <a:pt x="13276" y="4390"/>
                  <a:pt x="13279" y="4756"/>
                  <a:pt x="13367" y="4890"/>
                </a:cubicBezTo>
                <a:cubicBezTo>
                  <a:pt x="13377" y="4879"/>
                  <a:pt x="13388" y="4869"/>
                  <a:pt x="13398" y="4858"/>
                </a:cubicBezTo>
              </a:path>
              <a:path w="7272" h="1271">
                <a:moveTo>
                  <a:pt x="7874" y="5080"/>
                </a:moveTo>
                <a:cubicBezTo>
                  <a:pt x="7849" y="5206"/>
                  <a:pt x="7922" y="5200"/>
                  <a:pt x="8128" y="5239"/>
                </a:cubicBezTo>
                <a:cubicBezTo>
                  <a:pt x="8366" y="5284"/>
                  <a:pt x="8816" y="5263"/>
                  <a:pt x="8890" y="4953"/>
                </a:cubicBezTo>
                <a:cubicBezTo>
                  <a:pt x="8963" y="4645"/>
                  <a:pt x="8853" y="4166"/>
                  <a:pt x="8541" y="4032"/>
                </a:cubicBezTo>
                <a:cubicBezTo>
                  <a:pt x="8354" y="3952"/>
                  <a:pt x="7824" y="3984"/>
                  <a:pt x="7684" y="4159"/>
                </a:cubicBezTo>
                <a:cubicBezTo>
                  <a:pt x="7523" y="4361"/>
                  <a:pt x="7583" y="4996"/>
                  <a:pt x="7810" y="5144"/>
                </a:cubicBezTo>
                <a:cubicBezTo>
                  <a:pt x="8052" y="5178"/>
                  <a:pt x="8144" y="5179"/>
                  <a:pt x="8287" y="5048"/>
                </a:cubicBezTo>
              </a:path>
              <a:path w="7272" h="1271">
                <a:moveTo>
                  <a:pt x="9049" y="4477"/>
                </a:moveTo>
                <a:cubicBezTo>
                  <a:pt x="9023" y="4497"/>
                  <a:pt x="8986" y="4519"/>
                  <a:pt x="8954" y="4540"/>
                </a:cubicBezTo>
                <a:cubicBezTo>
                  <a:pt x="8923" y="4560"/>
                  <a:pt x="8952" y="4552"/>
                  <a:pt x="8922" y="4572"/>
                </a:cubicBezTo>
                <a:cubicBezTo>
                  <a:pt x="9097" y="4424"/>
                  <a:pt x="9242" y="4381"/>
                  <a:pt x="9462" y="4318"/>
                </a:cubicBezTo>
                <a:cubicBezTo>
                  <a:pt x="9666" y="4259"/>
                  <a:pt x="9883" y="4205"/>
                  <a:pt x="10096" y="4191"/>
                </a:cubicBezTo>
                <a:cubicBezTo>
                  <a:pt x="10381" y="4172"/>
                  <a:pt x="10669" y="4143"/>
                  <a:pt x="10954" y="4128"/>
                </a:cubicBezTo>
                <a:cubicBezTo>
                  <a:pt x="11217" y="4114"/>
                  <a:pt x="11486" y="4118"/>
                  <a:pt x="11748" y="4096"/>
                </a:cubicBezTo>
                <a:cubicBezTo>
                  <a:pt x="12055" y="4070"/>
                  <a:pt x="12361" y="4087"/>
                  <a:pt x="12668" y="4064"/>
                </a:cubicBezTo>
                <a:cubicBezTo>
                  <a:pt x="12895" y="4047"/>
                  <a:pt x="13142" y="4060"/>
                  <a:pt x="13367" y="4032"/>
                </a:cubicBezTo>
                <a:cubicBezTo>
                  <a:pt x="13531" y="4011"/>
                  <a:pt x="13646" y="4012"/>
                  <a:pt x="13811" y="4032"/>
                </a:cubicBezTo>
                <a:cubicBezTo>
                  <a:pt x="13963" y="4050"/>
                  <a:pt x="14110" y="4092"/>
                  <a:pt x="14256" y="4128"/>
                </a:cubicBezTo>
                <a:cubicBezTo>
                  <a:pt x="14366" y="4155"/>
                  <a:pt x="14423" y="4169"/>
                  <a:pt x="14510" y="4254"/>
                </a:cubicBezTo>
                <a:cubicBezTo>
                  <a:pt x="14578" y="4320"/>
                  <a:pt x="14695" y="4473"/>
                  <a:pt x="14668" y="4572"/>
                </a:cubicBezTo>
                <a:cubicBezTo>
                  <a:pt x="14644" y="4659"/>
                  <a:pt x="14586" y="4537"/>
                  <a:pt x="14542" y="4508"/>
                </a:cubicBezTo>
                <a:cubicBezTo>
                  <a:pt x="14486" y="4481"/>
                  <a:pt x="14471" y="4477"/>
                  <a:pt x="14446" y="4445"/>
                </a:cubicBezTo>
                <a:cubicBezTo>
                  <a:pt x="14446" y="4434"/>
                  <a:pt x="14446" y="4424"/>
                  <a:pt x="14446" y="4413"/>
                </a:cubicBezTo>
                <a:cubicBezTo>
                  <a:pt x="14465" y="4455"/>
                  <a:pt x="14503" y="4647"/>
                  <a:pt x="14573" y="4667"/>
                </a:cubicBezTo>
                <a:cubicBezTo>
                  <a:pt x="14692" y="4702"/>
                  <a:pt x="14713" y="4578"/>
                  <a:pt x="14764" y="4508"/>
                </a:cubicBezTo>
                <a:cubicBezTo>
                  <a:pt x="14836" y="4412"/>
                  <a:pt x="14842" y="4396"/>
                  <a:pt x="14891" y="435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000840" y="1450800"/>
            <a:ext cx="1131840" cy="331920"/>
          </a:xfrm>
          <a:custGeom>
            <a:avLst/>
            <a:gdLst/>
            <a:ahLst/>
            <a:rect l="l" t="t" r="r" b="b"/>
            <a:pathLst>
              <a:path w="3144" h="922">
                <a:moveTo>
                  <a:pt x="16669" y="4413"/>
                </a:moveTo>
                <a:cubicBezTo>
                  <a:pt x="16722" y="4588"/>
                  <a:pt x="16732" y="5136"/>
                  <a:pt x="16732" y="4953"/>
                </a:cubicBezTo>
                <a:cubicBezTo>
                  <a:pt x="16732" y="4921"/>
                  <a:pt x="16732" y="4890"/>
                  <a:pt x="16732" y="4858"/>
                </a:cubicBezTo>
              </a:path>
              <a:path w="3144" h="922">
                <a:moveTo>
                  <a:pt x="16732" y="4382"/>
                </a:moveTo>
                <a:cubicBezTo>
                  <a:pt x="16829" y="4574"/>
                  <a:pt x="16937" y="4729"/>
                  <a:pt x="17082" y="4890"/>
                </a:cubicBezTo>
                <a:cubicBezTo>
                  <a:pt x="17082" y="4768"/>
                  <a:pt x="17021" y="4318"/>
                  <a:pt x="17113" y="4286"/>
                </a:cubicBezTo>
              </a:path>
              <a:path w="3144" h="922">
                <a:moveTo>
                  <a:pt x="17748" y="4508"/>
                </a:moveTo>
                <a:cubicBezTo>
                  <a:pt x="17840" y="4533"/>
                  <a:pt x="18072" y="4475"/>
                  <a:pt x="18129" y="4508"/>
                </a:cubicBezTo>
                <a:cubicBezTo>
                  <a:pt x="18129" y="4519"/>
                  <a:pt x="18129" y="4529"/>
                  <a:pt x="18129" y="4540"/>
                </a:cubicBezTo>
              </a:path>
              <a:path w="3144" h="922">
                <a:moveTo>
                  <a:pt x="17907" y="4762"/>
                </a:moveTo>
                <a:cubicBezTo>
                  <a:pt x="18151" y="4750"/>
                  <a:pt x="18197" y="4727"/>
                  <a:pt x="18415" y="4604"/>
                </a:cubicBezTo>
              </a:path>
              <a:path w="3144" h="922">
                <a:moveTo>
                  <a:pt x="18955" y="4191"/>
                </a:moveTo>
                <a:cubicBezTo>
                  <a:pt x="18978" y="4095"/>
                  <a:pt x="19108" y="4032"/>
                  <a:pt x="19209" y="4032"/>
                </a:cubicBezTo>
                <a:cubicBezTo>
                  <a:pt x="19514" y="4032"/>
                  <a:pt x="19292" y="4496"/>
                  <a:pt x="19240" y="4604"/>
                </a:cubicBezTo>
                <a:cubicBezTo>
                  <a:pt x="19169" y="4722"/>
                  <a:pt x="19170" y="4741"/>
                  <a:pt x="19114" y="4794"/>
                </a:cubicBezTo>
                <a:cubicBezTo>
                  <a:pt x="19183" y="4679"/>
                  <a:pt x="19345" y="4606"/>
                  <a:pt x="19494" y="4636"/>
                </a:cubicBezTo>
                <a:cubicBezTo>
                  <a:pt x="19663" y="4670"/>
                  <a:pt x="19643" y="4728"/>
                  <a:pt x="19812" y="46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703680" y="2446200"/>
            <a:ext cx="1257120" cy="285840"/>
          </a:xfrm>
          <a:custGeom>
            <a:avLst/>
            <a:gdLst/>
            <a:ahLst/>
            <a:rect l="l" t="t" r="r" b="b"/>
            <a:pathLst>
              <a:path w="3494" h="795">
                <a:moveTo>
                  <a:pt x="10350" y="7080"/>
                </a:moveTo>
                <a:cubicBezTo>
                  <a:pt x="10350" y="7151"/>
                  <a:pt x="10361" y="7209"/>
                  <a:pt x="10319" y="7271"/>
                </a:cubicBezTo>
                <a:cubicBezTo>
                  <a:pt x="10308" y="7281"/>
                  <a:pt x="10298" y="7292"/>
                  <a:pt x="10287" y="7302"/>
                </a:cubicBezTo>
                <a:cubicBezTo>
                  <a:pt x="10429" y="7302"/>
                  <a:pt x="10560" y="7283"/>
                  <a:pt x="10700" y="7271"/>
                </a:cubicBezTo>
                <a:cubicBezTo>
                  <a:pt x="10732" y="7271"/>
                  <a:pt x="10763" y="7271"/>
                  <a:pt x="10795" y="7271"/>
                </a:cubicBezTo>
              </a:path>
              <a:path w="3494" h="795">
                <a:moveTo>
                  <a:pt x="10700" y="6890"/>
                </a:moveTo>
                <a:cubicBezTo>
                  <a:pt x="10727" y="7102"/>
                  <a:pt x="10752" y="7313"/>
                  <a:pt x="10763" y="7525"/>
                </a:cubicBezTo>
                <a:cubicBezTo>
                  <a:pt x="10763" y="7535"/>
                  <a:pt x="10763" y="7546"/>
                  <a:pt x="10763" y="7556"/>
                </a:cubicBezTo>
              </a:path>
              <a:path w="3494" h="795">
                <a:moveTo>
                  <a:pt x="11081" y="7271"/>
                </a:moveTo>
                <a:cubicBezTo>
                  <a:pt x="11214" y="7271"/>
                  <a:pt x="11279" y="7241"/>
                  <a:pt x="11398" y="7207"/>
                </a:cubicBezTo>
                <a:cubicBezTo>
                  <a:pt x="11409" y="7207"/>
                  <a:pt x="11419" y="7207"/>
                  <a:pt x="11430" y="7207"/>
                </a:cubicBezTo>
              </a:path>
              <a:path w="3494" h="795">
                <a:moveTo>
                  <a:pt x="11303" y="6922"/>
                </a:moveTo>
                <a:cubicBezTo>
                  <a:pt x="11271" y="6922"/>
                  <a:pt x="11261" y="6922"/>
                  <a:pt x="11271" y="6953"/>
                </a:cubicBezTo>
              </a:path>
              <a:path w="3494" h="795">
                <a:moveTo>
                  <a:pt x="11303" y="7556"/>
                </a:moveTo>
                <a:cubicBezTo>
                  <a:pt x="11303" y="7567"/>
                  <a:pt x="11303" y="7577"/>
                  <a:pt x="11303" y="7588"/>
                </a:cubicBezTo>
              </a:path>
              <a:path w="3494" h="795">
                <a:moveTo>
                  <a:pt x="11779" y="6985"/>
                </a:moveTo>
                <a:cubicBezTo>
                  <a:pt x="11811" y="7143"/>
                  <a:pt x="11843" y="7622"/>
                  <a:pt x="11843" y="7461"/>
                </a:cubicBezTo>
                <a:cubicBezTo>
                  <a:pt x="11843" y="7440"/>
                  <a:pt x="11843" y="7419"/>
                  <a:pt x="11843" y="7398"/>
                </a:cubicBezTo>
              </a:path>
              <a:path w="3494" h="795">
                <a:moveTo>
                  <a:pt x="11684" y="7017"/>
                </a:moveTo>
                <a:cubicBezTo>
                  <a:pt x="11832" y="7143"/>
                  <a:pt x="11986" y="7276"/>
                  <a:pt x="12160" y="7366"/>
                </a:cubicBezTo>
                <a:cubicBezTo>
                  <a:pt x="12192" y="7377"/>
                  <a:pt x="12224" y="7387"/>
                  <a:pt x="12256" y="7398"/>
                </a:cubicBezTo>
                <a:cubicBezTo>
                  <a:pt x="12222" y="7262"/>
                  <a:pt x="12162" y="7121"/>
                  <a:pt x="12128" y="6985"/>
                </a:cubicBezTo>
                <a:cubicBezTo>
                  <a:pt x="12128" y="6974"/>
                  <a:pt x="12128" y="6964"/>
                  <a:pt x="12128" y="6953"/>
                </a:cubicBezTo>
              </a:path>
              <a:path w="3494" h="795">
                <a:moveTo>
                  <a:pt x="12605" y="7080"/>
                </a:moveTo>
                <a:cubicBezTo>
                  <a:pt x="12690" y="7059"/>
                  <a:pt x="12739" y="7048"/>
                  <a:pt x="12827" y="7048"/>
                </a:cubicBezTo>
              </a:path>
              <a:path w="3494" h="795">
                <a:moveTo>
                  <a:pt x="12573" y="7239"/>
                </a:moveTo>
                <a:cubicBezTo>
                  <a:pt x="12697" y="7231"/>
                  <a:pt x="12772" y="7215"/>
                  <a:pt x="12890" y="7176"/>
                </a:cubicBezTo>
              </a:path>
              <a:path w="3494" h="795">
                <a:moveTo>
                  <a:pt x="13208" y="6890"/>
                </a:moveTo>
                <a:cubicBezTo>
                  <a:pt x="13285" y="6846"/>
                  <a:pt x="13372" y="6822"/>
                  <a:pt x="13462" y="6794"/>
                </a:cubicBezTo>
                <a:cubicBezTo>
                  <a:pt x="13544" y="6941"/>
                  <a:pt x="13467" y="7100"/>
                  <a:pt x="13335" y="7239"/>
                </a:cubicBezTo>
                <a:cubicBezTo>
                  <a:pt x="13284" y="7265"/>
                  <a:pt x="13263" y="7262"/>
                  <a:pt x="13272" y="7302"/>
                </a:cubicBezTo>
                <a:cubicBezTo>
                  <a:pt x="13423" y="7302"/>
                  <a:pt x="13566" y="7277"/>
                  <a:pt x="13716" y="7271"/>
                </a:cubicBezTo>
                <a:cubicBezTo>
                  <a:pt x="13737" y="7271"/>
                  <a:pt x="13759" y="7271"/>
                  <a:pt x="13780" y="727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736640" y="2822400"/>
            <a:ext cx="3246480" cy="459000"/>
          </a:xfrm>
          <a:custGeom>
            <a:avLst/>
            <a:gdLst/>
            <a:ahLst/>
            <a:rect l="l" t="t" r="r" b="b"/>
            <a:pathLst>
              <a:path w="9018" h="1271">
                <a:moveTo>
                  <a:pt x="5080" y="8572"/>
                </a:moveTo>
                <a:cubicBezTo>
                  <a:pt x="5080" y="8541"/>
                  <a:pt x="5080" y="8530"/>
                  <a:pt x="5080" y="8509"/>
                </a:cubicBezTo>
                <a:cubicBezTo>
                  <a:pt x="5149" y="8532"/>
                  <a:pt x="5122" y="8518"/>
                  <a:pt x="5239" y="8541"/>
                </a:cubicBezTo>
                <a:cubicBezTo>
                  <a:pt x="5355" y="8564"/>
                  <a:pt x="5436" y="8604"/>
                  <a:pt x="5556" y="8604"/>
                </a:cubicBezTo>
                <a:cubicBezTo>
                  <a:pt x="5609" y="8604"/>
                  <a:pt x="5662" y="8604"/>
                  <a:pt x="5715" y="8604"/>
                </a:cubicBezTo>
              </a:path>
              <a:path w="9018" h="1271">
                <a:moveTo>
                  <a:pt x="10795" y="8192"/>
                </a:moveTo>
                <a:cubicBezTo>
                  <a:pt x="10675" y="8221"/>
                  <a:pt x="10564" y="8178"/>
                  <a:pt x="10541" y="8318"/>
                </a:cubicBezTo>
                <a:cubicBezTo>
                  <a:pt x="10531" y="8376"/>
                  <a:pt x="10541" y="8449"/>
                  <a:pt x="10541" y="8509"/>
                </a:cubicBezTo>
                <a:cubicBezTo>
                  <a:pt x="10629" y="8446"/>
                  <a:pt x="10832" y="8288"/>
                  <a:pt x="10954" y="8350"/>
                </a:cubicBezTo>
                <a:cubicBezTo>
                  <a:pt x="10975" y="8382"/>
                  <a:pt x="10996" y="8414"/>
                  <a:pt x="11017" y="8446"/>
                </a:cubicBezTo>
                <a:cubicBezTo>
                  <a:pt x="10919" y="8615"/>
                  <a:pt x="10761" y="8742"/>
                  <a:pt x="10541" y="8636"/>
                </a:cubicBezTo>
                <a:cubicBezTo>
                  <a:pt x="10530" y="8615"/>
                  <a:pt x="10520" y="8593"/>
                  <a:pt x="10509" y="8572"/>
                </a:cubicBezTo>
              </a:path>
              <a:path w="9018" h="1271">
                <a:moveTo>
                  <a:pt x="11240" y="8192"/>
                </a:moveTo>
                <a:cubicBezTo>
                  <a:pt x="11169" y="8362"/>
                  <a:pt x="11155" y="8424"/>
                  <a:pt x="11176" y="8604"/>
                </a:cubicBezTo>
                <a:cubicBezTo>
                  <a:pt x="11378" y="8566"/>
                  <a:pt x="11587" y="8459"/>
                  <a:pt x="11525" y="8192"/>
                </a:cubicBezTo>
                <a:cubicBezTo>
                  <a:pt x="11497" y="8072"/>
                  <a:pt x="11360" y="8135"/>
                  <a:pt x="11303" y="8160"/>
                </a:cubicBezTo>
              </a:path>
              <a:path w="9018" h="1271">
                <a:moveTo>
                  <a:pt x="4953" y="8890"/>
                </a:moveTo>
                <a:cubicBezTo>
                  <a:pt x="5077" y="8938"/>
                  <a:pt x="5239" y="9053"/>
                  <a:pt x="5366" y="9080"/>
                </a:cubicBezTo>
                <a:cubicBezTo>
                  <a:pt x="5683" y="9147"/>
                  <a:pt x="5968" y="8945"/>
                  <a:pt x="6128" y="8700"/>
                </a:cubicBezTo>
                <a:cubicBezTo>
                  <a:pt x="6294" y="8446"/>
                  <a:pt x="6164" y="8095"/>
                  <a:pt x="5906" y="7938"/>
                </a:cubicBezTo>
                <a:cubicBezTo>
                  <a:pt x="5662" y="7789"/>
                  <a:pt x="5276" y="7867"/>
                  <a:pt x="5048" y="8001"/>
                </a:cubicBezTo>
                <a:cubicBezTo>
                  <a:pt x="4699" y="8206"/>
                  <a:pt x="4820" y="8686"/>
                  <a:pt x="4985" y="8985"/>
                </a:cubicBezTo>
                <a:cubicBezTo>
                  <a:pt x="5123" y="9234"/>
                  <a:pt x="5261" y="9077"/>
                  <a:pt x="5429" y="8985"/>
                </a:cubicBezTo>
              </a:path>
              <a:path w="9018" h="1271">
                <a:moveTo>
                  <a:pt x="6128" y="8414"/>
                </a:moveTo>
                <a:cubicBezTo>
                  <a:pt x="6263" y="8268"/>
                  <a:pt x="6334" y="8239"/>
                  <a:pt x="6540" y="8160"/>
                </a:cubicBezTo>
                <a:cubicBezTo>
                  <a:pt x="6770" y="8072"/>
                  <a:pt x="7030" y="7974"/>
                  <a:pt x="7271" y="7938"/>
                </a:cubicBezTo>
                <a:cubicBezTo>
                  <a:pt x="7432" y="7914"/>
                  <a:pt x="7585" y="7902"/>
                  <a:pt x="7747" y="7874"/>
                </a:cubicBezTo>
                <a:cubicBezTo>
                  <a:pt x="7895" y="7849"/>
                  <a:pt x="8041" y="7846"/>
                  <a:pt x="8192" y="7842"/>
                </a:cubicBezTo>
                <a:cubicBezTo>
                  <a:pt x="8459" y="7835"/>
                  <a:pt x="8730" y="7857"/>
                  <a:pt x="8985" y="7874"/>
                </a:cubicBezTo>
                <a:cubicBezTo>
                  <a:pt x="9088" y="7881"/>
                  <a:pt x="9172" y="7898"/>
                  <a:pt x="9271" y="7906"/>
                </a:cubicBezTo>
                <a:cubicBezTo>
                  <a:pt x="9600" y="7933"/>
                  <a:pt x="9933" y="7897"/>
                  <a:pt x="10255" y="7906"/>
                </a:cubicBezTo>
                <a:cubicBezTo>
                  <a:pt x="10449" y="7911"/>
                  <a:pt x="10640" y="7961"/>
                  <a:pt x="10827" y="8001"/>
                </a:cubicBezTo>
                <a:cubicBezTo>
                  <a:pt x="10966" y="8031"/>
                  <a:pt x="11100" y="8052"/>
                  <a:pt x="11240" y="8064"/>
                </a:cubicBezTo>
                <a:cubicBezTo>
                  <a:pt x="11418" y="8080"/>
                  <a:pt x="11601" y="8075"/>
                  <a:pt x="11779" y="8096"/>
                </a:cubicBezTo>
                <a:cubicBezTo>
                  <a:pt x="12022" y="8125"/>
                  <a:pt x="12267" y="8131"/>
                  <a:pt x="12510" y="8160"/>
                </a:cubicBezTo>
                <a:cubicBezTo>
                  <a:pt x="12784" y="8192"/>
                  <a:pt x="13104" y="8241"/>
                  <a:pt x="13367" y="8318"/>
                </a:cubicBezTo>
                <a:cubicBezTo>
                  <a:pt x="13430" y="8336"/>
                  <a:pt x="13497" y="8371"/>
                  <a:pt x="13557" y="8414"/>
                </a:cubicBezTo>
                <a:cubicBezTo>
                  <a:pt x="13641" y="8474"/>
                  <a:pt x="13582" y="8474"/>
                  <a:pt x="13621" y="8572"/>
                </a:cubicBezTo>
                <a:cubicBezTo>
                  <a:pt x="13621" y="8625"/>
                  <a:pt x="13610" y="8646"/>
                  <a:pt x="13652" y="8636"/>
                </a:cubicBezTo>
              </a:path>
              <a:path w="9018" h="1271">
                <a:moveTo>
                  <a:pt x="13398" y="8541"/>
                </a:moveTo>
                <a:cubicBezTo>
                  <a:pt x="13496" y="8541"/>
                  <a:pt x="13557" y="8608"/>
                  <a:pt x="13652" y="8636"/>
                </a:cubicBezTo>
                <a:cubicBezTo>
                  <a:pt x="13688" y="8636"/>
                  <a:pt x="13702" y="8639"/>
                  <a:pt x="13716" y="8668"/>
                </a:cubicBezTo>
                <a:cubicBezTo>
                  <a:pt x="13786" y="8580"/>
                  <a:pt x="13796" y="8477"/>
                  <a:pt x="13843" y="838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703840" y="2320920"/>
            <a:ext cx="960480" cy="560520"/>
          </a:xfrm>
          <a:custGeom>
            <a:avLst/>
            <a:gdLst/>
            <a:ahLst/>
            <a:rect l="l" t="t" r="r" b="b"/>
            <a:pathLst>
              <a:path w="2668" h="1557">
                <a:moveTo>
                  <a:pt x="16066" y="6668"/>
                </a:moveTo>
                <a:cubicBezTo>
                  <a:pt x="16089" y="6761"/>
                  <a:pt x="16097" y="6826"/>
                  <a:pt x="16097" y="6922"/>
                </a:cubicBezTo>
                <a:cubicBezTo>
                  <a:pt x="16229" y="6922"/>
                  <a:pt x="16349" y="6854"/>
                  <a:pt x="16478" y="6826"/>
                </a:cubicBezTo>
                <a:cubicBezTo>
                  <a:pt x="16510" y="6826"/>
                  <a:pt x="16521" y="6826"/>
                  <a:pt x="16510" y="6794"/>
                </a:cubicBezTo>
              </a:path>
              <a:path w="2668" h="1557">
                <a:moveTo>
                  <a:pt x="16383" y="6445"/>
                </a:moveTo>
                <a:cubicBezTo>
                  <a:pt x="16438" y="6652"/>
                  <a:pt x="16474" y="6868"/>
                  <a:pt x="16510" y="7080"/>
                </a:cubicBezTo>
                <a:cubicBezTo>
                  <a:pt x="16510" y="7091"/>
                  <a:pt x="16510" y="7101"/>
                  <a:pt x="16510" y="7112"/>
                </a:cubicBezTo>
              </a:path>
              <a:path w="2668" h="1557">
                <a:moveTo>
                  <a:pt x="15843" y="7239"/>
                </a:moveTo>
                <a:cubicBezTo>
                  <a:pt x="16173" y="7203"/>
                  <a:pt x="16574" y="7155"/>
                  <a:pt x="16891" y="7207"/>
                </a:cubicBezTo>
              </a:path>
              <a:path w="2668" h="1557">
                <a:moveTo>
                  <a:pt x="16351" y="7461"/>
                </a:moveTo>
                <a:cubicBezTo>
                  <a:pt x="16410" y="7403"/>
                  <a:pt x="16509" y="7264"/>
                  <a:pt x="16605" y="7366"/>
                </a:cubicBezTo>
                <a:cubicBezTo>
                  <a:pt x="16734" y="7503"/>
                  <a:pt x="16454" y="7748"/>
                  <a:pt x="16383" y="7842"/>
                </a:cubicBezTo>
                <a:cubicBezTo>
                  <a:pt x="16330" y="7913"/>
                  <a:pt x="16304" y="7923"/>
                  <a:pt x="16288" y="7969"/>
                </a:cubicBezTo>
                <a:cubicBezTo>
                  <a:pt x="16405" y="7969"/>
                  <a:pt x="16460" y="7868"/>
                  <a:pt x="16574" y="7842"/>
                </a:cubicBezTo>
                <a:cubicBezTo>
                  <a:pt x="16728" y="7807"/>
                  <a:pt x="16745" y="7935"/>
                  <a:pt x="16828" y="7810"/>
                </a:cubicBezTo>
              </a:path>
              <a:path w="2668" h="1557">
                <a:moveTo>
                  <a:pt x="17177" y="7207"/>
                </a:moveTo>
                <a:cubicBezTo>
                  <a:pt x="17285" y="7195"/>
                  <a:pt x="17386" y="7160"/>
                  <a:pt x="17494" y="7144"/>
                </a:cubicBezTo>
              </a:path>
              <a:path w="2668" h="1557">
                <a:moveTo>
                  <a:pt x="16383" y="7620"/>
                </a:moveTo>
                <a:cubicBezTo>
                  <a:pt x="16361" y="7583"/>
                  <a:pt x="16351" y="7461"/>
                  <a:pt x="16351" y="7525"/>
                </a:cubicBezTo>
                <a:cubicBezTo>
                  <a:pt x="16335" y="7687"/>
                  <a:pt x="16300" y="7827"/>
                  <a:pt x="16256" y="7969"/>
                </a:cubicBezTo>
                <a:cubicBezTo>
                  <a:pt x="16256" y="7980"/>
                  <a:pt x="16256" y="7990"/>
                  <a:pt x="16256" y="8001"/>
                </a:cubicBezTo>
                <a:cubicBezTo>
                  <a:pt x="16282" y="7874"/>
                  <a:pt x="16337" y="7711"/>
                  <a:pt x="16383" y="7588"/>
                </a:cubicBezTo>
                <a:cubicBezTo>
                  <a:pt x="16430" y="7494"/>
                  <a:pt x="16451" y="7489"/>
                  <a:pt x="16446" y="7430"/>
                </a:cubicBezTo>
                <a:cubicBezTo>
                  <a:pt x="16584" y="7536"/>
                  <a:pt x="16631" y="7670"/>
                  <a:pt x="16732" y="7810"/>
                </a:cubicBezTo>
                <a:cubicBezTo>
                  <a:pt x="16761" y="7839"/>
                  <a:pt x="16772" y="7845"/>
                  <a:pt x="16764" y="7874"/>
                </a:cubicBezTo>
                <a:cubicBezTo>
                  <a:pt x="16793" y="7730"/>
                  <a:pt x="16790" y="7579"/>
                  <a:pt x="16828" y="7430"/>
                </a:cubicBezTo>
                <a:cubicBezTo>
                  <a:pt x="16853" y="7378"/>
                  <a:pt x="16864" y="7369"/>
                  <a:pt x="16859" y="7334"/>
                </a:cubicBezTo>
              </a:path>
              <a:path w="2668" h="1557">
                <a:moveTo>
                  <a:pt x="17304" y="7366"/>
                </a:moveTo>
                <a:cubicBezTo>
                  <a:pt x="17418" y="7389"/>
                  <a:pt x="17414" y="7368"/>
                  <a:pt x="17526" y="7334"/>
                </a:cubicBezTo>
                <a:cubicBezTo>
                  <a:pt x="17537" y="7334"/>
                  <a:pt x="17547" y="7334"/>
                  <a:pt x="17558" y="7334"/>
                </a:cubicBezTo>
              </a:path>
              <a:path w="2668" h="1557">
                <a:moveTo>
                  <a:pt x="17844" y="6922"/>
                </a:moveTo>
                <a:cubicBezTo>
                  <a:pt x="17927" y="6824"/>
                  <a:pt x="18047" y="6746"/>
                  <a:pt x="18193" y="6763"/>
                </a:cubicBezTo>
                <a:cubicBezTo>
                  <a:pt x="18416" y="6789"/>
                  <a:pt x="18207" y="7140"/>
                  <a:pt x="18161" y="7207"/>
                </a:cubicBezTo>
                <a:cubicBezTo>
                  <a:pt x="18102" y="7294"/>
                  <a:pt x="18011" y="7419"/>
                  <a:pt x="17970" y="7398"/>
                </a:cubicBezTo>
                <a:cubicBezTo>
                  <a:pt x="18074" y="7329"/>
                  <a:pt x="18192" y="7316"/>
                  <a:pt x="18320" y="7334"/>
                </a:cubicBezTo>
                <a:cubicBezTo>
                  <a:pt x="18428" y="7361"/>
                  <a:pt x="18452" y="7381"/>
                  <a:pt x="18510" y="7334"/>
                </a:cubicBezTo>
              </a:path>
              <a:path w="2668" h="1557">
                <a:moveTo>
                  <a:pt x="16129" y="7430"/>
                </a:moveTo>
                <a:cubicBezTo>
                  <a:pt x="16150" y="7419"/>
                  <a:pt x="16171" y="7409"/>
                  <a:pt x="16192" y="7398"/>
                </a:cubicBezTo>
              </a:path>
              <a:path w="2668" h="1557">
                <a:moveTo>
                  <a:pt x="16256" y="7398"/>
                </a:moveTo>
                <a:cubicBezTo>
                  <a:pt x="16351" y="7468"/>
                  <a:pt x="16310" y="7684"/>
                  <a:pt x="16288" y="7810"/>
                </a:cubicBezTo>
                <a:cubicBezTo>
                  <a:pt x="16263" y="7884"/>
                  <a:pt x="16253" y="7893"/>
                  <a:pt x="16256" y="7938"/>
                </a:cubicBezTo>
                <a:cubicBezTo>
                  <a:pt x="16280" y="7793"/>
                  <a:pt x="16314" y="7637"/>
                  <a:pt x="16351" y="7493"/>
                </a:cubicBezTo>
                <a:cubicBezTo>
                  <a:pt x="16381" y="7377"/>
                  <a:pt x="16380" y="7380"/>
                  <a:pt x="16478" y="7366"/>
                </a:cubicBezTo>
                <a:cubicBezTo>
                  <a:pt x="16564" y="7515"/>
                  <a:pt x="16626" y="7672"/>
                  <a:pt x="16732" y="7810"/>
                </a:cubicBezTo>
                <a:cubicBezTo>
                  <a:pt x="16743" y="7821"/>
                  <a:pt x="16753" y="7831"/>
                  <a:pt x="16764" y="7842"/>
                </a:cubicBezTo>
                <a:cubicBezTo>
                  <a:pt x="16793" y="7699"/>
                  <a:pt x="16788" y="7545"/>
                  <a:pt x="16828" y="7398"/>
                </a:cubicBezTo>
                <a:cubicBezTo>
                  <a:pt x="16851" y="7311"/>
                  <a:pt x="16891" y="7136"/>
                  <a:pt x="16891" y="727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54560" y="3589200"/>
            <a:ext cx="1795320" cy="297000"/>
          </a:xfrm>
          <a:custGeom>
            <a:avLst/>
            <a:gdLst/>
            <a:ahLst/>
            <a:rect l="l" t="t" r="r" b="b"/>
            <a:pathLst>
              <a:path w="4986" h="826">
                <a:moveTo>
                  <a:pt x="12573" y="10096"/>
                </a:moveTo>
                <a:cubicBezTo>
                  <a:pt x="12500" y="10096"/>
                  <a:pt x="12311" y="10073"/>
                  <a:pt x="12256" y="10128"/>
                </a:cubicBezTo>
                <a:cubicBezTo>
                  <a:pt x="12191" y="10194"/>
                  <a:pt x="12175" y="10359"/>
                  <a:pt x="12160" y="10446"/>
                </a:cubicBezTo>
                <a:cubicBezTo>
                  <a:pt x="12310" y="10446"/>
                  <a:pt x="12282" y="10314"/>
                  <a:pt x="12478" y="10350"/>
                </a:cubicBezTo>
                <a:cubicBezTo>
                  <a:pt x="12765" y="10403"/>
                  <a:pt x="12611" y="10736"/>
                  <a:pt x="12414" y="10795"/>
                </a:cubicBezTo>
                <a:cubicBezTo>
                  <a:pt x="12218" y="10853"/>
                  <a:pt x="12147" y="10792"/>
                  <a:pt x="12097" y="10668"/>
                </a:cubicBezTo>
              </a:path>
              <a:path w="4986" h="826">
                <a:moveTo>
                  <a:pt x="12922" y="10160"/>
                </a:moveTo>
                <a:cubicBezTo>
                  <a:pt x="12896" y="10265"/>
                  <a:pt x="12824" y="10386"/>
                  <a:pt x="12827" y="10509"/>
                </a:cubicBezTo>
                <a:cubicBezTo>
                  <a:pt x="12859" y="10637"/>
                  <a:pt x="12871" y="10681"/>
                  <a:pt x="12954" y="10732"/>
                </a:cubicBezTo>
                <a:cubicBezTo>
                  <a:pt x="13197" y="10640"/>
                  <a:pt x="13336" y="10535"/>
                  <a:pt x="13208" y="10255"/>
                </a:cubicBezTo>
                <a:cubicBezTo>
                  <a:pt x="13151" y="10129"/>
                  <a:pt x="13013" y="10203"/>
                  <a:pt x="12922" y="10224"/>
                </a:cubicBezTo>
              </a:path>
              <a:path w="4986" h="826">
                <a:moveTo>
                  <a:pt x="13589" y="10446"/>
                </a:moveTo>
                <a:cubicBezTo>
                  <a:pt x="13694" y="10428"/>
                  <a:pt x="13877" y="10417"/>
                  <a:pt x="13970" y="10382"/>
                </a:cubicBezTo>
                <a:cubicBezTo>
                  <a:pt x="13970" y="10371"/>
                  <a:pt x="13970" y="10361"/>
                  <a:pt x="13970" y="10350"/>
                </a:cubicBezTo>
              </a:path>
              <a:path w="4986" h="826">
                <a:moveTo>
                  <a:pt x="14319" y="10160"/>
                </a:moveTo>
                <a:cubicBezTo>
                  <a:pt x="14336" y="10298"/>
                  <a:pt x="14215" y="10547"/>
                  <a:pt x="14351" y="10573"/>
                </a:cubicBezTo>
                <a:cubicBezTo>
                  <a:pt x="14362" y="10552"/>
                  <a:pt x="14372" y="10530"/>
                  <a:pt x="14383" y="10509"/>
                </a:cubicBezTo>
              </a:path>
              <a:path w="4986" h="826">
                <a:moveTo>
                  <a:pt x="14383" y="10192"/>
                </a:moveTo>
                <a:cubicBezTo>
                  <a:pt x="14497" y="10305"/>
                  <a:pt x="14614" y="10441"/>
                  <a:pt x="14732" y="10541"/>
                </a:cubicBezTo>
                <a:cubicBezTo>
                  <a:pt x="14753" y="10552"/>
                  <a:pt x="14775" y="10562"/>
                  <a:pt x="14796" y="10573"/>
                </a:cubicBezTo>
                <a:cubicBezTo>
                  <a:pt x="14796" y="10420"/>
                  <a:pt x="14773" y="10278"/>
                  <a:pt x="14764" y="10128"/>
                </a:cubicBezTo>
                <a:cubicBezTo>
                  <a:pt x="14764" y="10117"/>
                  <a:pt x="14764" y="10107"/>
                  <a:pt x="14764" y="10096"/>
                </a:cubicBezTo>
              </a:path>
              <a:path w="4986" h="826">
                <a:moveTo>
                  <a:pt x="15208" y="10350"/>
                </a:moveTo>
                <a:cubicBezTo>
                  <a:pt x="15315" y="10350"/>
                  <a:pt x="15418" y="10326"/>
                  <a:pt x="15526" y="10319"/>
                </a:cubicBezTo>
              </a:path>
              <a:path w="4986" h="826">
                <a:moveTo>
                  <a:pt x="15208" y="10414"/>
                </a:moveTo>
                <a:cubicBezTo>
                  <a:pt x="15339" y="10381"/>
                  <a:pt x="15454" y="10350"/>
                  <a:pt x="15589" y="10350"/>
                </a:cubicBezTo>
              </a:path>
              <a:path w="4986" h="826">
                <a:moveTo>
                  <a:pt x="15875" y="10096"/>
                </a:moveTo>
                <a:cubicBezTo>
                  <a:pt x="15880" y="10123"/>
                  <a:pt x="15894" y="10274"/>
                  <a:pt x="15907" y="10287"/>
                </a:cubicBezTo>
                <a:cubicBezTo>
                  <a:pt x="15983" y="10364"/>
                  <a:pt x="16213" y="10316"/>
                  <a:pt x="16288" y="10255"/>
                </a:cubicBezTo>
                <a:cubicBezTo>
                  <a:pt x="16299" y="10234"/>
                  <a:pt x="16309" y="10213"/>
                  <a:pt x="16320" y="10192"/>
                </a:cubicBezTo>
              </a:path>
              <a:path w="4986" h="826">
                <a:moveTo>
                  <a:pt x="16192" y="9970"/>
                </a:moveTo>
                <a:cubicBezTo>
                  <a:pt x="16204" y="10142"/>
                  <a:pt x="16225" y="10316"/>
                  <a:pt x="16256" y="10478"/>
                </a:cubicBezTo>
                <a:cubicBezTo>
                  <a:pt x="16256" y="10488"/>
                  <a:pt x="16256" y="10499"/>
                  <a:pt x="16256" y="10509"/>
                </a:cubicBezTo>
              </a:path>
              <a:path w="4986" h="826">
                <a:moveTo>
                  <a:pt x="16510" y="10033"/>
                </a:moveTo>
                <a:cubicBezTo>
                  <a:pt x="16604" y="10002"/>
                  <a:pt x="16774" y="9964"/>
                  <a:pt x="16828" y="10096"/>
                </a:cubicBezTo>
                <a:cubicBezTo>
                  <a:pt x="16889" y="10244"/>
                  <a:pt x="16737" y="10375"/>
                  <a:pt x="16669" y="10478"/>
                </a:cubicBezTo>
                <a:cubicBezTo>
                  <a:pt x="16783" y="10463"/>
                  <a:pt x="16976" y="10353"/>
                  <a:pt x="17082" y="10382"/>
                </a:cubicBezTo>
                <a:cubicBezTo>
                  <a:pt x="17082" y="10393"/>
                  <a:pt x="17082" y="10403"/>
                  <a:pt x="17082" y="1041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486080" y="4275000"/>
            <a:ext cx="206280" cy="239760"/>
          </a:xfrm>
          <a:custGeom>
            <a:avLst/>
            <a:gdLst/>
            <a:ahLst/>
            <a:rect l="l" t="t" r="r" b="b"/>
            <a:pathLst>
              <a:path w="572" h="668">
                <a:moveTo>
                  <a:pt x="4254" y="11906"/>
                </a:moveTo>
                <a:cubicBezTo>
                  <a:pt x="4285" y="12092"/>
                  <a:pt x="4302" y="12286"/>
                  <a:pt x="4318" y="12478"/>
                </a:cubicBezTo>
                <a:cubicBezTo>
                  <a:pt x="4318" y="12535"/>
                  <a:pt x="4322" y="12560"/>
                  <a:pt x="4286" y="12510"/>
                </a:cubicBezTo>
              </a:path>
              <a:path w="572" h="668">
                <a:moveTo>
                  <a:pt x="4128" y="11938"/>
                </a:moveTo>
                <a:cubicBezTo>
                  <a:pt x="4255" y="12059"/>
                  <a:pt x="4491" y="12368"/>
                  <a:pt x="4667" y="12414"/>
                </a:cubicBezTo>
                <a:cubicBezTo>
                  <a:pt x="4678" y="12403"/>
                  <a:pt x="4688" y="12393"/>
                  <a:pt x="4699" y="12382"/>
                </a:cubicBezTo>
                <a:cubicBezTo>
                  <a:pt x="4678" y="12246"/>
                  <a:pt x="4573" y="12016"/>
                  <a:pt x="4636" y="11874"/>
                </a:cubicBezTo>
                <a:cubicBezTo>
                  <a:pt x="4646" y="11874"/>
                  <a:pt x="4657" y="11874"/>
                  <a:pt x="4667" y="1187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863880" y="4194000"/>
            <a:ext cx="228600" cy="287640"/>
          </a:xfrm>
          <a:custGeom>
            <a:avLst/>
            <a:gdLst/>
            <a:ahLst/>
            <a:rect l="l" t="t" r="r" b="b"/>
            <a:pathLst>
              <a:path w="635" h="795">
                <a:moveTo>
                  <a:pt x="11303" y="11652"/>
                </a:moveTo>
                <a:cubicBezTo>
                  <a:pt x="11162" y="11735"/>
                  <a:pt x="11055" y="11770"/>
                  <a:pt x="10890" y="11779"/>
                </a:cubicBezTo>
                <a:cubicBezTo>
                  <a:pt x="10779" y="11785"/>
                  <a:pt x="10800" y="12012"/>
                  <a:pt x="10795" y="12097"/>
                </a:cubicBezTo>
                <a:cubicBezTo>
                  <a:pt x="10795" y="12107"/>
                  <a:pt x="10795" y="12118"/>
                  <a:pt x="10795" y="12128"/>
                </a:cubicBezTo>
                <a:cubicBezTo>
                  <a:pt x="10936" y="12003"/>
                  <a:pt x="11113" y="11889"/>
                  <a:pt x="11303" y="12033"/>
                </a:cubicBezTo>
                <a:cubicBezTo>
                  <a:pt x="11324" y="12075"/>
                  <a:pt x="11345" y="12118"/>
                  <a:pt x="11366" y="12160"/>
                </a:cubicBezTo>
                <a:cubicBezTo>
                  <a:pt x="11255" y="12441"/>
                  <a:pt x="11145" y="12440"/>
                  <a:pt x="10858" y="12382"/>
                </a:cubicBezTo>
                <a:cubicBezTo>
                  <a:pt x="10816" y="12372"/>
                  <a:pt x="10774" y="12361"/>
                  <a:pt x="10732" y="1235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818320" y="4240080"/>
            <a:ext cx="228600" cy="217800"/>
          </a:xfrm>
          <a:custGeom>
            <a:avLst/>
            <a:gdLst/>
            <a:ahLst/>
            <a:rect l="l" t="t" r="r" b="b"/>
            <a:pathLst>
              <a:path w="636" h="604">
                <a:moveTo>
                  <a:pt x="16224" y="11811"/>
                </a:moveTo>
                <a:cubicBezTo>
                  <a:pt x="16154" y="11706"/>
                  <a:pt x="16390" y="11866"/>
                  <a:pt x="16415" y="11874"/>
                </a:cubicBezTo>
                <a:cubicBezTo>
                  <a:pt x="16533" y="11910"/>
                  <a:pt x="16677" y="11946"/>
                  <a:pt x="16796" y="11970"/>
                </a:cubicBezTo>
                <a:cubicBezTo>
                  <a:pt x="16780" y="12018"/>
                  <a:pt x="16509" y="12189"/>
                  <a:pt x="16446" y="12224"/>
                </a:cubicBezTo>
                <a:cubicBezTo>
                  <a:pt x="16348" y="12278"/>
                  <a:pt x="16092" y="12470"/>
                  <a:pt x="16161" y="12382"/>
                </a:cubicBezTo>
                <a:cubicBezTo>
                  <a:pt x="16193" y="12350"/>
                  <a:pt x="16224" y="12319"/>
                  <a:pt x="16256" y="1228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703680" y="5064120"/>
            <a:ext cx="731880" cy="617400"/>
          </a:xfrm>
          <a:custGeom>
            <a:avLst/>
            <a:gdLst/>
            <a:ahLst/>
            <a:rect l="l" t="t" r="r" b="b"/>
            <a:pathLst>
              <a:path w="2033" h="1716">
                <a:moveTo>
                  <a:pt x="10732" y="14192"/>
                </a:moveTo>
                <a:lnTo>
                  <a:pt x="10732" y="14192"/>
                </a:lnTo>
                <a:lnTo>
                  <a:pt x="10732" y="14160"/>
                </a:lnTo>
                <a:lnTo>
                  <a:pt x="10732" y="14160"/>
                </a:lnTo>
                <a:lnTo>
                  <a:pt x="10732" y="14192"/>
                </a:lnTo>
                <a:lnTo>
                  <a:pt x="10732" y="14288"/>
                </a:lnTo>
                <a:lnTo>
                  <a:pt x="10732" y="14510"/>
                </a:lnTo>
                <a:lnTo>
                  <a:pt x="10700" y="14700"/>
                </a:lnTo>
                <a:lnTo>
                  <a:pt x="10700" y="14796"/>
                </a:lnTo>
                <a:lnTo>
                  <a:pt x="10700" y="14764"/>
                </a:lnTo>
              </a:path>
              <a:path w="2033" h="1716">
                <a:moveTo>
                  <a:pt x="10700" y="14224"/>
                </a:moveTo>
                <a:cubicBezTo>
                  <a:pt x="10822" y="14255"/>
                  <a:pt x="10891" y="14410"/>
                  <a:pt x="10954" y="14510"/>
                </a:cubicBezTo>
                <a:cubicBezTo>
                  <a:pt x="11020" y="14615"/>
                  <a:pt x="11073" y="14729"/>
                  <a:pt x="11144" y="14827"/>
                </a:cubicBezTo>
                <a:cubicBezTo>
                  <a:pt x="11198" y="14667"/>
                  <a:pt x="11176" y="14490"/>
                  <a:pt x="11176" y="14319"/>
                </a:cubicBezTo>
                <a:cubicBezTo>
                  <a:pt x="11176" y="14185"/>
                  <a:pt x="11187" y="14170"/>
                  <a:pt x="11208" y="14065"/>
                </a:cubicBezTo>
              </a:path>
              <a:path w="2033" h="1716">
                <a:moveTo>
                  <a:pt x="10287" y="14891"/>
                </a:moveTo>
                <a:cubicBezTo>
                  <a:pt x="10469" y="14921"/>
                  <a:pt x="10641" y="14937"/>
                  <a:pt x="10827" y="14954"/>
                </a:cubicBezTo>
                <a:cubicBezTo>
                  <a:pt x="11012" y="14971"/>
                  <a:pt x="11181" y="14986"/>
                  <a:pt x="11366" y="14986"/>
                </a:cubicBezTo>
                <a:cubicBezTo>
                  <a:pt x="11377" y="14986"/>
                  <a:pt x="11387" y="14986"/>
                  <a:pt x="11398" y="14986"/>
                </a:cubicBezTo>
              </a:path>
              <a:path w="2033" h="1716">
                <a:moveTo>
                  <a:pt x="11112" y="15145"/>
                </a:moveTo>
                <a:cubicBezTo>
                  <a:pt x="10986" y="15182"/>
                  <a:pt x="10817" y="15130"/>
                  <a:pt x="10700" y="15176"/>
                </a:cubicBezTo>
                <a:cubicBezTo>
                  <a:pt x="10689" y="15180"/>
                  <a:pt x="10642" y="15425"/>
                  <a:pt x="10636" y="15462"/>
                </a:cubicBezTo>
                <a:cubicBezTo>
                  <a:pt x="10721" y="15441"/>
                  <a:pt x="10785" y="15384"/>
                  <a:pt x="10890" y="15399"/>
                </a:cubicBezTo>
                <a:cubicBezTo>
                  <a:pt x="11125" y="15433"/>
                  <a:pt x="11041" y="15632"/>
                  <a:pt x="10890" y="15716"/>
                </a:cubicBezTo>
                <a:cubicBezTo>
                  <a:pt x="10726" y="15808"/>
                  <a:pt x="10614" y="15776"/>
                  <a:pt x="10446" y="15748"/>
                </a:cubicBezTo>
              </a:path>
              <a:path w="2033" h="1716">
                <a:moveTo>
                  <a:pt x="11843" y="14827"/>
                </a:moveTo>
                <a:cubicBezTo>
                  <a:pt x="12006" y="14930"/>
                  <a:pt x="12150" y="15013"/>
                  <a:pt x="12319" y="15081"/>
                </a:cubicBezTo>
                <a:cubicBezTo>
                  <a:pt x="12308" y="15081"/>
                  <a:pt x="12298" y="15081"/>
                  <a:pt x="12287" y="15081"/>
                </a:cubicBezTo>
                <a:cubicBezTo>
                  <a:pt x="12135" y="15259"/>
                  <a:pt x="11972" y="15420"/>
                  <a:pt x="11811" y="15589"/>
                </a:cubicBezTo>
                <a:cubicBezTo>
                  <a:pt x="11822" y="15579"/>
                  <a:pt x="11832" y="15568"/>
                  <a:pt x="11843" y="155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640400" y="5178600"/>
            <a:ext cx="230040" cy="433080"/>
          </a:xfrm>
          <a:custGeom>
            <a:avLst/>
            <a:gdLst/>
            <a:ahLst/>
            <a:rect l="l" t="t" r="r" b="b"/>
            <a:pathLst>
              <a:path w="637" h="1207">
                <a:moveTo>
                  <a:pt x="13081" y="14383"/>
                </a:moveTo>
                <a:cubicBezTo>
                  <a:pt x="13099" y="14545"/>
                  <a:pt x="13113" y="14695"/>
                  <a:pt x="13113" y="14859"/>
                </a:cubicBezTo>
              </a:path>
              <a:path w="637" h="1207">
                <a:moveTo>
                  <a:pt x="12890" y="15050"/>
                </a:moveTo>
                <a:cubicBezTo>
                  <a:pt x="13102" y="14982"/>
                  <a:pt x="13304" y="14911"/>
                  <a:pt x="13526" y="14891"/>
                </a:cubicBezTo>
              </a:path>
              <a:path w="637" h="1207">
                <a:moveTo>
                  <a:pt x="13049" y="15208"/>
                </a:moveTo>
                <a:cubicBezTo>
                  <a:pt x="13196" y="15167"/>
                  <a:pt x="13248" y="15132"/>
                  <a:pt x="13398" y="15176"/>
                </a:cubicBezTo>
                <a:cubicBezTo>
                  <a:pt x="13309" y="15373"/>
                  <a:pt x="13195" y="15463"/>
                  <a:pt x="13018" y="15589"/>
                </a:cubicBezTo>
                <a:cubicBezTo>
                  <a:pt x="13139" y="15565"/>
                  <a:pt x="13276" y="15527"/>
                  <a:pt x="13398" y="15494"/>
                </a:cubicBezTo>
                <a:cubicBezTo>
                  <a:pt x="13476" y="15468"/>
                  <a:pt x="13495" y="15444"/>
                  <a:pt x="13526" y="154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326200" y="5383080"/>
            <a:ext cx="366480" cy="114480"/>
          </a:xfrm>
          <a:custGeom>
            <a:avLst/>
            <a:gdLst/>
            <a:ahLst/>
            <a:rect l="l" t="t" r="r" b="b"/>
            <a:pathLst>
              <a:path w="1017" h="319">
                <a:moveTo>
                  <a:pt x="15081" y="14986"/>
                </a:moveTo>
                <a:cubicBezTo>
                  <a:pt x="14937" y="14913"/>
                  <a:pt x="14842" y="15023"/>
                  <a:pt x="14796" y="15176"/>
                </a:cubicBezTo>
                <a:cubicBezTo>
                  <a:pt x="14796" y="15208"/>
                  <a:pt x="14796" y="15240"/>
                  <a:pt x="14796" y="15272"/>
                </a:cubicBezTo>
                <a:cubicBezTo>
                  <a:pt x="15000" y="15272"/>
                  <a:pt x="15121" y="15295"/>
                  <a:pt x="15113" y="15050"/>
                </a:cubicBezTo>
                <a:cubicBezTo>
                  <a:pt x="15109" y="14935"/>
                  <a:pt x="15087" y="14954"/>
                  <a:pt x="15018" y="14954"/>
                </a:cubicBezTo>
              </a:path>
              <a:path w="1017" h="319">
                <a:moveTo>
                  <a:pt x="15430" y="15176"/>
                </a:moveTo>
                <a:cubicBezTo>
                  <a:pt x="15496" y="15330"/>
                  <a:pt x="15431" y="15237"/>
                  <a:pt x="15462" y="15145"/>
                </a:cubicBezTo>
                <a:cubicBezTo>
                  <a:pt x="15528" y="14949"/>
                  <a:pt x="15637" y="14954"/>
                  <a:pt x="15812" y="1495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80040" y="5108400"/>
            <a:ext cx="1349640" cy="424080"/>
          </a:xfrm>
          <a:custGeom>
            <a:avLst/>
            <a:gdLst/>
            <a:ahLst/>
            <a:rect l="l" t="t" r="r" b="b"/>
            <a:pathLst>
              <a:path w="3748" h="1176">
                <a:moveTo>
                  <a:pt x="16923" y="14605"/>
                </a:moveTo>
                <a:cubicBezTo>
                  <a:pt x="16969" y="14756"/>
                  <a:pt x="16979" y="14892"/>
                  <a:pt x="16986" y="15050"/>
                </a:cubicBezTo>
                <a:cubicBezTo>
                  <a:pt x="16986" y="15232"/>
                  <a:pt x="16926" y="14681"/>
                  <a:pt x="16923" y="14668"/>
                </a:cubicBezTo>
                <a:cubicBezTo>
                  <a:pt x="16899" y="14574"/>
                  <a:pt x="16888" y="14564"/>
                  <a:pt x="16891" y="14510"/>
                </a:cubicBezTo>
                <a:cubicBezTo>
                  <a:pt x="17020" y="14729"/>
                  <a:pt x="17136" y="14922"/>
                  <a:pt x="17336" y="15081"/>
                </a:cubicBezTo>
                <a:cubicBezTo>
                  <a:pt x="17357" y="15092"/>
                  <a:pt x="17378" y="15102"/>
                  <a:pt x="17399" y="15113"/>
                </a:cubicBezTo>
                <a:cubicBezTo>
                  <a:pt x="17399" y="14931"/>
                  <a:pt x="17374" y="14754"/>
                  <a:pt x="17367" y="14573"/>
                </a:cubicBezTo>
                <a:cubicBezTo>
                  <a:pt x="17367" y="14531"/>
                  <a:pt x="17378" y="14521"/>
                  <a:pt x="17431" y="14542"/>
                </a:cubicBezTo>
              </a:path>
              <a:path w="3748" h="1176">
                <a:moveTo>
                  <a:pt x="17685" y="14891"/>
                </a:moveTo>
                <a:cubicBezTo>
                  <a:pt x="17720" y="14837"/>
                  <a:pt x="17882" y="14815"/>
                  <a:pt x="17970" y="14827"/>
                </a:cubicBezTo>
                <a:cubicBezTo>
                  <a:pt x="18064" y="14858"/>
                  <a:pt x="18094" y="14869"/>
                  <a:pt x="18161" y="14859"/>
                </a:cubicBezTo>
              </a:path>
              <a:path w="3748" h="1176">
                <a:moveTo>
                  <a:pt x="17970" y="14414"/>
                </a:moveTo>
                <a:cubicBezTo>
                  <a:pt x="17970" y="14425"/>
                  <a:pt x="17970" y="14435"/>
                  <a:pt x="17970" y="14446"/>
                </a:cubicBezTo>
              </a:path>
              <a:path w="3748" h="1176">
                <a:moveTo>
                  <a:pt x="18066" y="15145"/>
                </a:moveTo>
                <a:cubicBezTo>
                  <a:pt x="18066" y="15155"/>
                  <a:pt x="18066" y="15166"/>
                  <a:pt x="18066" y="15176"/>
                </a:cubicBezTo>
              </a:path>
              <a:path w="3748" h="1176">
                <a:moveTo>
                  <a:pt x="18828" y="14510"/>
                </a:moveTo>
                <a:cubicBezTo>
                  <a:pt x="18760" y="14496"/>
                  <a:pt x="18710" y="14478"/>
                  <a:pt x="18637" y="14478"/>
                </a:cubicBezTo>
                <a:cubicBezTo>
                  <a:pt x="18621" y="14595"/>
                  <a:pt x="18586" y="14709"/>
                  <a:pt x="18574" y="14827"/>
                </a:cubicBezTo>
                <a:cubicBezTo>
                  <a:pt x="18697" y="14792"/>
                  <a:pt x="19012" y="14671"/>
                  <a:pt x="19050" y="14891"/>
                </a:cubicBezTo>
                <a:cubicBezTo>
                  <a:pt x="19099" y="15175"/>
                  <a:pt x="18736" y="15184"/>
                  <a:pt x="18574" y="15081"/>
                </a:cubicBezTo>
                <a:cubicBezTo>
                  <a:pt x="18553" y="15049"/>
                  <a:pt x="18531" y="15018"/>
                  <a:pt x="18510" y="14986"/>
                </a:cubicBezTo>
              </a:path>
              <a:path w="3748" h="1176">
                <a:moveTo>
                  <a:pt x="19272" y="14414"/>
                </a:moveTo>
                <a:cubicBezTo>
                  <a:pt x="19404" y="14480"/>
                  <a:pt x="19513" y="14619"/>
                  <a:pt x="19653" y="14700"/>
                </a:cubicBezTo>
                <a:cubicBezTo>
                  <a:pt x="19705" y="14726"/>
                  <a:pt x="19713" y="14737"/>
                  <a:pt x="19748" y="14732"/>
                </a:cubicBezTo>
                <a:cubicBezTo>
                  <a:pt x="19613" y="14800"/>
                  <a:pt x="19393" y="14909"/>
                  <a:pt x="19272" y="15018"/>
                </a:cubicBezTo>
                <a:cubicBezTo>
                  <a:pt x="19283" y="15018"/>
                  <a:pt x="19293" y="15018"/>
                  <a:pt x="19304" y="15018"/>
                </a:cubicBezTo>
              </a:path>
              <a:path w="3748" h="1176">
                <a:moveTo>
                  <a:pt x="20415" y="14192"/>
                </a:moveTo>
                <a:cubicBezTo>
                  <a:pt x="20415" y="14330"/>
                  <a:pt x="20415" y="14467"/>
                  <a:pt x="20415" y="14605"/>
                </a:cubicBezTo>
              </a:path>
              <a:path w="3748" h="1176">
                <a:moveTo>
                  <a:pt x="20130" y="14796"/>
                </a:moveTo>
                <a:cubicBezTo>
                  <a:pt x="20303" y="14786"/>
                  <a:pt x="20484" y="14738"/>
                  <a:pt x="20638" y="14796"/>
                </a:cubicBezTo>
              </a:path>
              <a:path w="3748" h="1176">
                <a:moveTo>
                  <a:pt x="20225" y="15081"/>
                </a:moveTo>
                <a:cubicBezTo>
                  <a:pt x="20302" y="15043"/>
                  <a:pt x="20402" y="15024"/>
                  <a:pt x="20479" y="15081"/>
                </a:cubicBezTo>
                <a:cubicBezTo>
                  <a:pt x="20600" y="15170"/>
                  <a:pt x="20347" y="15296"/>
                  <a:pt x="20288" y="15335"/>
                </a:cubicBezTo>
                <a:cubicBezTo>
                  <a:pt x="20267" y="15346"/>
                  <a:pt x="20246" y="15356"/>
                  <a:pt x="20225" y="15367"/>
                </a:cubicBezTo>
                <a:cubicBezTo>
                  <a:pt x="20333" y="15367"/>
                  <a:pt x="20433" y="15339"/>
                  <a:pt x="20542" y="15335"/>
                </a:cubicBezTo>
                <a:cubicBezTo>
                  <a:pt x="20595" y="15335"/>
                  <a:pt x="20617" y="15324"/>
                  <a:pt x="20606" y="1536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6400" y="3040200"/>
            <a:ext cx="126720" cy="206280"/>
          </a:xfrm>
          <a:custGeom>
            <a:avLst/>
            <a:gdLst/>
            <a:ahLst/>
            <a:rect l="l" t="t" r="r" b="b"/>
            <a:pathLst>
              <a:path w="351" h="572">
                <a:moveTo>
                  <a:pt x="19272" y="8604"/>
                </a:moveTo>
                <a:cubicBezTo>
                  <a:pt x="19272" y="8721"/>
                  <a:pt x="19272" y="8837"/>
                  <a:pt x="19272" y="8954"/>
                </a:cubicBezTo>
                <a:cubicBezTo>
                  <a:pt x="19272" y="9060"/>
                  <a:pt x="19285" y="8868"/>
                  <a:pt x="19272" y="8763"/>
                </a:cubicBezTo>
                <a:cubicBezTo>
                  <a:pt x="19249" y="8647"/>
                  <a:pt x="19238" y="8637"/>
                  <a:pt x="19240" y="8572"/>
                </a:cubicBezTo>
                <a:cubicBezTo>
                  <a:pt x="19338" y="8651"/>
                  <a:pt x="19428" y="8840"/>
                  <a:pt x="19526" y="8954"/>
                </a:cubicBezTo>
                <a:cubicBezTo>
                  <a:pt x="19654" y="8922"/>
                  <a:pt x="19590" y="8639"/>
                  <a:pt x="19590" y="8541"/>
                </a:cubicBezTo>
                <a:cubicBezTo>
                  <a:pt x="19590" y="8509"/>
                  <a:pt x="19590" y="8478"/>
                  <a:pt x="19590" y="84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543800" y="3086280"/>
            <a:ext cx="114480" cy="68040"/>
          </a:xfrm>
          <a:custGeom>
            <a:avLst/>
            <a:gdLst/>
            <a:ahLst/>
            <a:rect l="l" t="t" r="r" b="b"/>
            <a:pathLst>
              <a:path w="318" h="192">
                <a:moveTo>
                  <a:pt x="20955" y="8604"/>
                </a:moveTo>
                <a:cubicBezTo>
                  <a:pt x="21063" y="8596"/>
                  <a:pt x="21164" y="8580"/>
                  <a:pt x="21272" y="8572"/>
                </a:cubicBezTo>
              </a:path>
              <a:path w="318" h="192">
                <a:moveTo>
                  <a:pt x="21050" y="8763"/>
                </a:moveTo>
                <a:cubicBezTo>
                  <a:pt x="21134" y="8754"/>
                  <a:pt x="21194" y="8734"/>
                  <a:pt x="21272" y="8700"/>
                </a:cubicBezTo>
              </a:path>
            </a:pathLst>
          </a:custGeom>
          <a:noFill/>
          <a:ln cap="rnd" w="34920">
            <a:solidFill>
              <a:srgbClr val="ff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5" name=""/>
          <p:cNvSpPr/>
          <p:nvPr/>
        </p:nvSpPr>
        <p:spPr>
          <a:xfrm>
            <a:off x="7908840" y="2925720"/>
            <a:ext cx="378000" cy="217440"/>
          </a:xfrm>
          <a:custGeom>
            <a:avLst/>
            <a:gdLst/>
            <a:ahLst/>
            <a:rect l="l" t="t" r="r" b="b"/>
            <a:pathLst>
              <a:path w="1049" h="604">
                <a:moveTo>
                  <a:pt x="21971" y="8350"/>
                </a:moveTo>
                <a:cubicBezTo>
                  <a:pt x="21980" y="8419"/>
                  <a:pt x="22003" y="8472"/>
                  <a:pt x="22003" y="8541"/>
                </a:cubicBezTo>
                <a:cubicBezTo>
                  <a:pt x="22186" y="8541"/>
                  <a:pt x="22271" y="8564"/>
                  <a:pt x="22384" y="8414"/>
                </a:cubicBezTo>
              </a:path>
              <a:path w="1049" h="604">
                <a:moveTo>
                  <a:pt x="22193" y="8223"/>
                </a:moveTo>
                <a:cubicBezTo>
                  <a:pt x="22226" y="8396"/>
                  <a:pt x="22249" y="8555"/>
                  <a:pt x="22257" y="8731"/>
                </a:cubicBezTo>
              </a:path>
              <a:path w="1049" h="604">
                <a:moveTo>
                  <a:pt x="22511" y="8223"/>
                </a:moveTo>
                <a:cubicBezTo>
                  <a:pt x="22600" y="8149"/>
                  <a:pt x="22695" y="8056"/>
                  <a:pt x="22765" y="8192"/>
                </a:cubicBezTo>
                <a:cubicBezTo>
                  <a:pt x="22841" y="8338"/>
                  <a:pt x="22734" y="8475"/>
                  <a:pt x="22670" y="8604"/>
                </a:cubicBezTo>
                <a:cubicBezTo>
                  <a:pt x="22789" y="8595"/>
                  <a:pt x="22899" y="8572"/>
                  <a:pt x="23019" y="857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446200" y="4218120"/>
            <a:ext cx="217800" cy="206280"/>
          </a:xfrm>
          <a:custGeom>
            <a:avLst/>
            <a:gdLst/>
            <a:ahLst/>
            <a:rect l="l" t="t" r="r" b="b"/>
            <a:pathLst>
              <a:path w="605" h="572">
                <a:moveTo>
                  <a:pt x="6794" y="12065"/>
                </a:moveTo>
                <a:cubicBezTo>
                  <a:pt x="6995" y="12065"/>
                  <a:pt x="7197" y="12065"/>
                  <a:pt x="7398" y="12065"/>
                </a:cubicBezTo>
              </a:path>
              <a:path w="605" h="572">
                <a:moveTo>
                  <a:pt x="6985" y="11716"/>
                </a:moveTo>
                <a:lnTo>
                  <a:pt x="6985" y="11716"/>
                </a:lnTo>
              </a:path>
              <a:path w="605" h="572">
                <a:moveTo>
                  <a:pt x="7207" y="12287"/>
                </a:moveTo>
                <a:cubicBezTo>
                  <a:pt x="7228" y="12287"/>
                  <a:pt x="7250" y="12287"/>
                  <a:pt x="7271" y="1228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315200" y="4103640"/>
            <a:ext cx="309600" cy="309600"/>
          </a:xfrm>
          <a:custGeom>
            <a:avLst/>
            <a:gdLst/>
            <a:ahLst/>
            <a:rect l="l" t="t" r="r" b="b"/>
            <a:pathLst>
              <a:path w="858" h="859">
                <a:moveTo>
                  <a:pt x="20320" y="11525"/>
                </a:moveTo>
                <a:cubicBezTo>
                  <a:pt x="20359" y="11667"/>
                  <a:pt x="20290" y="11850"/>
                  <a:pt x="20320" y="11970"/>
                </a:cubicBezTo>
                <a:cubicBezTo>
                  <a:pt x="20331" y="11959"/>
                  <a:pt x="20341" y="11949"/>
                  <a:pt x="20352" y="11938"/>
                </a:cubicBezTo>
              </a:path>
              <a:path w="858" h="859">
                <a:moveTo>
                  <a:pt x="20669" y="11398"/>
                </a:moveTo>
                <a:cubicBezTo>
                  <a:pt x="20655" y="11613"/>
                  <a:pt x="20595" y="11820"/>
                  <a:pt x="20574" y="12033"/>
                </a:cubicBezTo>
                <a:cubicBezTo>
                  <a:pt x="20565" y="12122"/>
                  <a:pt x="20566" y="12310"/>
                  <a:pt x="20542" y="12224"/>
                </a:cubicBezTo>
                <a:cubicBezTo>
                  <a:pt x="20542" y="12203"/>
                  <a:pt x="20542" y="12181"/>
                  <a:pt x="20542" y="12160"/>
                </a:cubicBezTo>
              </a:path>
              <a:path w="858" h="859">
                <a:moveTo>
                  <a:pt x="20892" y="11811"/>
                </a:moveTo>
                <a:cubicBezTo>
                  <a:pt x="20961" y="11811"/>
                  <a:pt x="21014" y="11788"/>
                  <a:pt x="21082" y="11779"/>
                </a:cubicBezTo>
                <a:cubicBezTo>
                  <a:pt x="21054" y="11958"/>
                  <a:pt x="21019" y="12008"/>
                  <a:pt x="20860" y="12097"/>
                </a:cubicBezTo>
                <a:cubicBezTo>
                  <a:pt x="20920" y="12097"/>
                  <a:pt x="21152" y="12058"/>
                  <a:pt x="21177" y="12065"/>
                </a:cubicBezTo>
                <a:cubicBezTo>
                  <a:pt x="21177" y="12076"/>
                  <a:pt x="21177" y="12086"/>
                  <a:pt x="21177" y="120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6"/>
                                        </p:tgtEl>
                                        <p:attrNameLst>
                                          <p:attrName>style.visibility</p:attrName>
                                        </p:attrNameLst>
                                      </p:cBhvr>
                                      <p:to>
                                        <p:strVal val="visible"/>
                                      </p:to>
                                    </p:set>
                                    <p:anim calcmode="lin" valueType="num">
                                      <p:cBhvr additive="base">
                                        <p:cTn id="49" dur="500" fill="hold"/>
                                        <p:tgtEl>
                                          <p:spTgt spid="76"/>
                                        </p:tgtEl>
                                        <p:attrNameLst>
                                          <p:attrName>ppt_x</p:attrName>
                                        </p:attrNameLst>
                                      </p:cBhvr>
                                      <p:tavLst>
                                        <p:tav tm="0">
                                          <p:val>
                                            <p:strVal val="0-#ppt_w/2"/>
                                          </p:val>
                                        </p:tav>
                                        <p:tav tm="100000">
                                          <p:val>
                                            <p:strVal val="#ppt_x"/>
                                          </p:val>
                                        </p:tav>
                                      </p:tavLst>
                                    </p:anim>
                                    <p:anim calcmode="lin" valueType="num">
                                      <p:cBhvr additive="base">
                                        <p:cTn id="50"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8"/>
                                        </p:tgtEl>
                                        <p:attrNameLst>
                                          <p:attrName>style.visibility</p:attrName>
                                        </p:attrNameLst>
                                      </p:cBhvr>
                                      <p:to>
                                        <p:strVal val="visible"/>
                                      </p:to>
                                    </p:set>
                                    <p:anim calcmode="lin" valueType="num">
                                      <p:cBhvr additive="base">
                                        <p:cTn id="55" dur="500" fill="hold"/>
                                        <p:tgtEl>
                                          <p:spTgt spid="78"/>
                                        </p:tgtEl>
                                        <p:attrNameLst>
                                          <p:attrName>ppt_x</p:attrName>
                                        </p:attrNameLst>
                                      </p:cBhvr>
                                      <p:tavLst>
                                        <p:tav tm="0">
                                          <p:val>
                                            <p:strVal val="0-#ppt_w/2"/>
                                          </p:val>
                                        </p:tav>
                                        <p:tav tm="100000">
                                          <p:val>
                                            <p:strVal val="#ppt_x"/>
                                          </p:val>
                                        </p:tav>
                                      </p:tavLst>
                                    </p:anim>
                                    <p:anim calcmode="lin" valueType="num">
                                      <p:cBhvr additive="base">
                                        <p:cTn id="56"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79"/>
                                        </p:tgtEl>
                                        <p:attrNameLst>
                                          <p:attrName>style.visibility</p:attrName>
                                        </p:attrNameLst>
                                      </p:cBhvr>
                                      <p:to>
                                        <p:strVal val="visible"/>
                                      </p:to>
                                    </p:set>
                                    <p:anim calcmode="lin" valueType="num">
                                      <p:cBhvr additive="base">
                                        <p:cTn id="61" dur="500" fill="hold"/>
                                        <p:tgtEl>
                                          <p:spTgt spid="79"/>
                                        </p:tgtEl>
                                        <p:attrNameLst>
                                          <p:attrName>ppt_x</p:attrName>
                                        </p:attrNameLst>
                                      </p:cBhvr>
                                      <p:tavLst>
                                        <p:tav tm="0">
                                          <p:val>
                                            <p:strVal val="0-#ppt_w/2"/>
                                          </p:val>
                                        </p:tav>
                                        <p:tav tm="100000">
                                          <p:val>
                                            <p:strVal val="#ppt_x"/>
                                          </p:val>
                                        </p:tav>
                                      </p:tavLst>
                                    </p:anim>
                                    <p:anim calcmode="lin" valueType="num">
                                      <p:cBhvr additive="base">
                                        <p:cTn id="62"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p:txBody>
      </p:sp>
      <p:sp>
        <p:nvSpPr>
          <p:cNvPr id="99" name="PlaceHolder 2"/>
          <p:cNvSpPr>
            <a:spLocks noGrp="1"/>
          </p:cNvSpPr>
          <p:nvPr>
            <p:ph type="subTitle"/>
          </p:nvPr>
        </p:nvSpPr>
        <p:spPr>
          <a:xfrm>
            <a:off x="571320" y="914040"/>
            <a:ext cx="8001000" cy="15238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nya’s cell phone plan costs $28.95 a month.  What will it cost Tanya to talk on the phone for a year?</a:t>
            </a:r>
            <a:endParaRPr b="0" lang="en-US" sz="2800" spc="-1" strike="noStrike">
              <a:solidFill>
                <a:srgbClr val="000000"/>
              </a:solidFill>
              <a:latin typeface="Arial"/>
            </a:endParaRPr>
          </a:p>
        </p:txBody>
      </p:sp>
      <p:sp>
        <p:nvSpPr>
          <p:cNvPr id="100" name=""/>
          <p:cNvSpPr/>
          <p:nvPr/>
        </p:nvSpPr>
        <p:spPr>
          <a:xfrm>
            <a:off x="228600" y="3276720"/>
            <a:ext cx="8763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uring the first week in August 2.15 inches of rain fell in Baltimore.  An additional 1.25 inches fell during the second week of August.  What is the total rainfall for the first two weeks of August?</a:t>
            </a:r>
            <a:endParaRPr b="0" lang="en-US" sz="2800" spc="-1" strike="noStrike">
              <a:solidFill>
                <a:srgbClr val="000000"/>
              </a:solidFill>
              <a:latin typeface="Arial"/>
            </a:endParaRPr>
          </a:p>
        </p:txBody>
      </p:sp>
      <p:sp>
        <p:nvSpPr>
          <p:cNvPr id="101" name=""/>
          <p:cNvSpPr/>
          <p:nvPr/>
        </p:nvSpPr>
        <p:spPr>
          <a:xfrm>
            <a:off x="1793880" y="2320920"/>
            <a:ext cx="1166760" cy="297000"/>
          </a:xfrm>
          <a:custGeom>
            <a:avLst/>
            <a:gdLst/>
            <a:ahLst/>
            <a:rect l="l" t="t" r="r" b="b"/>
            <a:pathLst>
              <a:path w="3239" h="827">
                <a:moveTo>
                  <a:pt x="5398" y="6668"/>
                </a:moveTo>
                <a:cubicBezTo>
                  <a:pt x="5371" y="6588"/>
                  <a:pt x="5192" y="6593"/>
                  <a:pt x="5112" y="6636"/>
                </a:cubicBezTo>
                <a:cubicBezTo>
                  <a:pt x="5037" y="6710"/>
                  <a:pt x="5026" y="6720"/>
                  <a:pt x="4985" y="6763"/>
                </a:cubicBezTo>
                <a:cubicBezTo>
                  <a:pt x="5080" y="6859"/>
                  <a:pt x="5294" y="6888"/>
                  <a:pt x="5366" y="7017"/>
                </a:cubicBezTo>
                <a:cubicBezTo>
                  <a:pt x="5366" y="7038"/>
                  <a:pt x="5366" y="7059"/>
                  <a:pt x="5366" y="7080"/>
                </a:cubicBezTo>
                <a:cubicBezTo>
                  <a:pt x="5267" y="7180"/>
                  <a:pt x="5125" y="7210"/>
                  <a:pt x="4985" y="7112"/>
                </a:cubicBezTo>
                <a:cubicBezTo>
                  <a:pt x="4985" y="7101"/>
                  <a:pt x="4985" y="7091"/>
                  <a:pt x="4985" y="7080"/>
                </a:cubicBezTo>
              </a:path>
              <a:path w="3239" h="827">
                <a:moveTo>
                  <a:pt x="5207" y="6604"/>
                </a:moveTo>
                <a:cubicBezTo>
                  <a:pt x="5246" y="6810"/>
                  <a:pt x="5270" y="6998"/>
                  <a:pt x="5270" y="7207"/>
                </a:cubicBezTo>
                <a:cubicBezTo>
                  <a:pt x="5270" y="7239"/>
                  <a:pt x="5270" y="7250"/>
                  <a:pt x="5270" y="7207"/>
                </a:cubicBezTo>
              </a:path>
              <a:path w="3239" h="827">
                <a:moveTo>
                  <a:pt x="5652" y="6668"/>
                </a:moveTo>
                <a:cubicBezTo>
                  <a:pt x="5784" y="6560"/>
                  <a:pt x="5942" y="6694"/>
                  <a:pt x="5969" y="6858"/>
                </a:cubicBezTo>
                <a:cubicBezTo>
                  <a:pt x="6011" y="7111"/>
                  <a:pt x="5822" y="7234"/>
                  <a:pt x="5620" y="7271"/>
                </a:cubicBezTo>
                <a:cubicBezTo>
                  <a:pt x="5602" y="7077"/>
                  <a:pt x="5710" y="7047"/>
                  <a:pt x="5906" y="7080"/>
                </a:cubicBezTo>
                <a:cubicBezTo>
                  <a:pt x="6028" y="7101"/>
                  <a:pt x="6054" y="7212"/>
                  <a:pt x="6128" y="7176"/>
                </a:cubicBezTo>
              </a:path>
              <a:path w="3239" h="827">
                <a:moveTo>
                  <a:pt x="6477" y="6604"/>
                </a:moveTo>
                <a:cubicBezTo>
                  <a:pt x="6382" y="6636"/>
                  <a:pt x="6350" y="6647"/>
                  <a:pt x="6286" y="6668"/>
                </a:cubicBezTo>
                <a:cubicBezTo>
                  <a:pt x="6286" y="6784"/>
                  <a:pt x="6426" y="6818"/>
                  <a:pt x="6509" y="6890"/>
                </a:cubicBezTo>
                <a:cubicBezTo>
                  <a:pt x="6710" y="7065"/>
                  <a:pt x="6625" y="7144"/>
                  <a:pt x="6414" y="7144"/>
                </a:cubicBezTo>
                <a:cubicBezTo>
                  <a:pt x="6328" y="6972"/>
                  <a:pt x="6440" y="6867"/>
                  <a:pt x="6477" y="6668"/>
                </a:cubicBezTo>
                <a:cubicBezTo>
                  <a:pt x="6503" y="6529"/>
                  <a:pt x="6455" y="6594"/>
                  <a:pt x="6414" y="6668"/>
                </a:cubicBezTo>
              </a:path>
              <a:path w="3239" h="827">
                <a:moveTo>
                  <a:pt x="6890" y="6890"/>
                </a:moveTo>
                <a:cubicBezTo>
                  <a:pt x="6890" y="6968"/>
                  <a:pt x="6878" y="6988"/>
                  <a:pt x="6922" y="7017"/>
                </a:cubicBezTo>
              </a:path>
              <a:path w="3239" h="827">
                <a:moveTo>
                  <a:pt x="7430" y="6668"/>
                </a:moveTo>
                <a:cubicBezTo>
                  <a:pt x="7510" y="6640"/>
                  <a:pt x="7426" y="6515"/>
                  <a:pt x="7366" y="6477"/>
                </a:cubicBezTo>
                <a:cubicBezTo>
                  <a:pt x="7218" y="6383"/>
                  <a:pt x="7036" y="6628"/>
                  <a:pt x="7080" y="6763"/>
                </a:cubicBezTo>
                <a:cubicBezTo>
                  <a:pt x="7161" y="7013"/>
                  <a:pt x="7359" y="6779"/>
                  <a:pt x="7398" y="6668"/>
                </a:cubicBezTo>
                <a:cubicBezTo>
                  <a:pt x="7398" y="6657"/>
                  <a:pt x="7398" y="6647"/>
                  <a:pt x="7398" y="6636"/>
                </a:cubicBezTo>
                <a:cubicBezTo>
                  <a:pt x="7421" y="6793"/>
                  <a:pt x="7448" y="6953"/>
                  <a:pt x="7461" y="7112"/>
                </a:cubicBezTo>
                <a:cubicBezTo>
                  <a:pt x="7461" y="7186"/>
                  <a:pt x="7461" y="7197"/>
                  <a:pt x="7461" y="7239"/>
                </a:cubicBezTo>
              </a:path>
              <a:path w="3239" h="827">
                <a:moveTo>
                  <a:pt x="8033" y="6509"/>
                </a:moveTo>
                <a:cubicBezTo>
                  <a:pt x="8000" y="6520"/>
                  <a:pt x="7787" y="6547"/>
                  <a:pt x="7779" y="6572"/>
                </a:cubicBezTo>
                <a:cubicBezTo>
                  <a:pt x="7749" y="6669"/>
                  <a:pt x="7810" y="6788"/>
                  <a:pt x="7810" y="6890"/>
                </a:cubicBezTo>
                <a:cubicBezTo>
                  <a:pt x="7869" y="6870"/>
                  <a:pt x="7929" y="6763"/>
                  <a:pt x="8033" y="6763"/>
                </a:cubicBezTo>
                <a:cubicBezTo>
                  <a:pt x="8304" y="6762"/>
                  <a:pt x="8250" y="7055"/>
                  <a:pt x="8096" y="7176"/>
                </a:cubicBezTo>
                <a:cubicBezTo>
                  <a:pt x="7982" y="7265"/>
                  <a:pt x="7846" y="7239"/>
                  <a:pt x="7715" y="72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622520" y="2674800"/>
            <a:ext cx="1509480" cy="389160"/>
          </a:xfrm>
          <a:custGeom>
            <a:avLst/>
            <a:gdLst/>
            <a:ahLst/>
            <a:rect l="l" t="t" r="r" b="b"/>
            <a:pathLst>
              <a:path w="4193" h="1080">
                <a:moveTo>
                  <a:pt x="4540" y="7906"/>
                </a:moveTo>
                <a:cubicBezTo>
                  <a:pt x="4588" y="8025"/>
                  <a:pt x="4730" y="8127"/>
                  <a:pt x="4826" y="8223"/>
                </a:cubicBezTo>
                <a:cubicBezTo>
                  <a:pt x="4855" y="8252"/>
                  <a:pt x="4866" y="8258"/>
                  <a:pt x="4858" y="8287"/>
                </a:cubicBezTo>
              </a:path>
              <a:path w="4193" h="1080">
                <a:moveTo>
                  <a:pt x="4858" y="7906"/>
                </a:moveTo>
                <a:cubicBezTo>
                  <a:pt x="4742" y="7905"/>
                  <a:pt x="4661" y="8166"/>
                  <a:pt x="4572" y="8287"/>
                </a:cubicBezTo>
                <a:cubicBezTo>
                  <a:pt x="4551" y="8308"/>
                  <a:pt x="4529" y="8329"/>
                  <a:pt x="4508" y="8350"/>
                </a:cubicBezTo>
              </a:path>
              <a:path w="4193" h="1080">
                <a:moveTo>
                  <a:pt x="7461" y="7620"/>
                </a:moveTo>
                <a:cubicBezTo>
                  <a:pt x="7461" y="7546"/>
                  <a:pt x="7461" y="7705"/>
                  <a:pt x="7461" y="7779"/>
                </a:cubicBezTo>
                <a:cubicBezTo>
                  <a:pt x="7461" y="7895"/>
                  <a:pt x="7461" y="8012"/>
                  <a:pt x="7461" y="8128"/>
                </a:cubicBezTo>
              </a:path>
              <a:path w="4193" h="1080">
                <a:moveTo>
                  <a:pt x="7779" y="7588"/>
                </a:moveTo>
                <a:cubicBezTo>
                  <a:pt x="7796" y="7467"/>
                  <a:pt x="7822" y="7507"/>
                  <a:pt x="7938" y="7461"/>
                </a:cubicBezTo>
                <a:cubicBezTo>
                  <a:pt x="8029" y="7425"/>
                  <a:pt x="8090" y="7431"/>
                  <a:pt x="8096" y="7525"/>
                </a:cubicBezTo>
                <a:cubicBezTo>
                  <a:pt x="8106" y="7686"/>
                  <a:pt x="7981" y="7748"/>
                  <a:pt x="7906" y="7874"/>
                </a:cubicBezTo>
                <a:cubicBezTo>
                  <a:pt x="7857" y="7956"/>
                  <a:pt x="7800" y="8073"/>
                  <a:pt x="7779" y="8160"/>
                </a:cubicBezTo>
                <a:cubicBezTo>
                  <a:pt x="7791" y="8109"/>
                  <a:pt x="7818" y="8041"/>
                  <a:pt x="7874" y="8033"/>
                </a:cubicBezTo>
                <a:cubicBezTo>
                  <a:pt x="7965" y="8020"/>
                  <a:pt x="8040" y="8133"/>
                  <a:pt x="8128" y="8128"/>
                </a:cubicBezTo>
                <a:cubicBezTo>
                  <a:pt x="8193" y="8125"/>
                  <a:pt x="8246" y="8042"/>
                  <a:pt x="8287" y="8001"/>
                </a:cubicBezTo>
              </a:path>
              <a:path w="4193" h="1080">
                <a:moveTo>
                  <a:pt x="5080" y="8509"/>
                </a:moveTo>
                <a:cubicBezTo>
                  <a:pt x="5495" y="8509"/>
                  <a:pt x="5906" y="8495"/>
                  <a:pt x="6318" y="8477"/>
                </a:cubicBezTo>
                <a:cubicBezTo>
                  <a:pt x="6593" y="8465"/>
                  <a:pt x="6872" y="8486"/>
                  <a:pt x="7144" y="8446"/>
                </a:cubicBezTo>
                <a:cubicBezTo>
                  <a:pt x="7315" y="8421"/>
                  <a:pt x="7442" y="8382"/>
                  <a:pt x="7620" y="8382"/>
                </a:cubicBezTo>
                <a:cubicBezTo>
                  <a:pt x="7952" y="8382"/>
                  <a:pt x="8388" y="8454"/>
                  <a:pt x="8700" y="835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428840" y="3268800"/>
            <a:ext cx="137880" cy="241200"/>
          </a:xfrm>
          <a:custGeom>
            <a:avLst/>
            <a:gdLst/>
            <a:ahLst/>
            <a:rect l="l" t="t" r="r" b="b"/>
            <a:pathLst>
              <a:path w="382" h="668">
                <a:moveTo>
                  <a:pt x="4318" y="9208"/>
                </a:moveTo>
                <a:cubicBezTo>
                  <a:pt x="4163" y="9182"/>
                  <a:pt x="4095" y="9204"/>
                  <a:pt x="3969" y="9303"/>
                </a:cubicBezTo>
                <a:cubicBezTo>
                  <a:pt x="4072" y="9441"/>
                  <a:pt x="4185" y="9447"/>
                  <a:pt x="4350" y="9493"/>
                </a:cubicBezTo>
                <a:cubicBezTo>
                  <a:pt x="4299" y="9605"/>
                  <a:pt x="4176" y="9763"/>
                  <a:pt x="4032" y="9620"/>
                </a:cubicBezTo>
                <a:cubicBezTo>
                  <a:pt x="4021" y="9588"/>
                  <a:pt x="4011" y="9557"/>
                  <a:pt x="4000" y="9525"/>
                </a:cubicBezTo>
              </a:path>
              <a:path w="382" h="668">
                <a:moveTo>
                  <a:pt x="4064" y="9080"/>
                </a:moveTo>
                <a:cubicBezTo>
                  <a:pt x="4109" y="9281"/>
                  <a:pt x="4162" y="9477"/>
                  <a:pt x="4191" y="9684"/>
                </a:cubicBezTo>
                <a:cubicBezTo>
                  <a:pt x="4191" y="9716"/>
                  <a:pt x="4191" y="9726"/>
                  <a:pt x="4191" y="974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82720" y="3268800"/>
            <a:ext cx="1166760" cy="298440"/>
          </a:xfrm>
          <a:custGeom>
            <a:avLst/>
            <a:gdLst/>
            <a:ahLst/>
            <a:rect l="l" t="t" r="r" b="b"/>
            <a:pathLst>
              <a:path w="3240" h="827">
                <a:moveTo>
                  <a:pt x="5016" y="9398"/>
                </a:moveTo>
                <a:cubicBezTo>
                  <a:pt x="4932" y="9369"/>
                  <a:pt x="5062" y="9285"/>
                  <a:pt x="5112" y="9271"/>
                </a:cubicBezTo>
                <a:cubicBezTo>
                  <a:pt x="5278" y="9225"/>
                  <a:pt x="5272" y="9371"/>
                  <a:pt x="5207" y="9462"/>
                </a:cubicBezTo>
                <a:cubicBezTo>
                  <a:pt x="5154" y="9515"/>
                  <a:pt x="5144" y="9525"/>
                  <a:pt x="5112" y="9557"/>
                </a:cubicBezTo>
                <a:cubicBezTo>
                  <a:pt x="5112" y="9471"/>
                  <a:pt x="5270" y="9442"/>
                  <a:pt x="5334" y="9493"/>
                </a:cubicBezTo>
                <a:cubicBezTo>
                  <a:pt x="5545" y="9661"/>
                  <a:pt x="5313" y="9870"/>
                  <a:pt x="5144" y="9906"/>
                </a:cubicBezTo>
                <a:cubicBezTo>
                  <a:pt x="5023" y="9906"/>
                  <a:pt x="4997" y="9933"/>
                  <a:pt x="4953" y="9874"/>
                </a:cubicBezTo>
              </a:path>
              <a:path w="3240" h="827">
                <a:moveTo>
                  <a:pt x="5461" y="9271"/>
                </a:moveTo>
                <a:cubicBezTo>
                  <a:pt x="5461" y="9355"/>
                  <a:pt x="5440" y="9523"/>
                  <a:pt x="5556" y="9557"/>
                </a:cubicBezTo>
                <a:cubicBezTo>
                  <a:pt x="5717" y="9605"/>
                  <a:pt x="5832" y="9483"/>
                  <a:pt x="5906" y="9366"/>
                </a:cubicBezTo>
              </a:path>
              <a:path w="3240" h="827">
                <a:moveTo>
                  <a:pt x="5778" y="9239"/>
                </a:moveTo>
                <a:cubicBezTo>
                  <a:pt x="5786" y="9376"/>
                  <a:pt x="5767" y="9705"/>
                  <a:pt x="5874" y="9811"/>
                </a:cubicBezTo>
                <a:cubicBezTo>
                  <a:pt x="5885" y="9800"/>
                  <a:pt x="5895" y="9790"/>
                  <a:pt x="5906" y="9779"/>
                </a:cubicBezTo>
              </a:path>
              <a:path w="3240" h="827">
                <a:moveTo>
                  <a:pt x="6128" y="9271"/>
                </a:moveTo>
                <a:cubicBezTo>
                  <a:pt x="6263" y="9271"/>
                  <a:pt x="6377" y="9258"/>
                  <a:pt x="6509" y="9239"/>
                </a:cubicBezTo>
                <a:cubicBezTo>
                  <a:pt x="6519" y="9239"/>
                  <a:pt x="6530" y="9239"/>
                  <a:pt x="6540" y="9239"/>
                </a:cubicBezTo>
                <a:cubicBezTo>
                  <a:pt x="6540" y="9424"/>
                  <a:pt x="6543" y="9604"/>
                  <a:pt x="6509" y="9779"/>
                </a:cubicBezTo>
                <a:cubicBezTo>
                  <a:pt x="6509" y="9811"/>
                  <a:pt x="6509" y="9821"/>
                  <a:pt x="6540" y="9811"/>
                </a:cubicBezTo>
              </a:path>
              <a:path w="3240" h="827">
                <a:moveTo>
                  <a:pt x="6826" y="9684"/>
                </a:moveTo>
                <a:cubicBezTo>
                  <a:pt x="6862" y="9720"/>
                  <a:pt x="6879" y="9731"/>
                  <a:pt x="6922" y="9716"/>
                </a:cubicBezTo>
              </a:path>
              <a:path w="3240" h="827">
                <a:moveTo>
                  <a:pt x="7112" y="9208"/>
                </a:moveTo>
                <a:cubicBezTo>
                  <a:pt x="7112" y="9317"/>
                  <a:pt x="7066" y="9433"/>
                  <a:pt x="7112" y="9525"/>
                </a:cubicBezTo>
                <a:cubicBezTo>
                  <a:pt x="7163" y="9626"/>
                  <a:pt x="7458" y="9463"/>
                  <a:pt x="7525" y="9430"/>
                </a:cubicBezTo>
              </a:path>
              <a:path w="3240" h="827">
                <a:moveTo>
                  <a:pt x="7334" y="9080"/>
                </a:moveTo>
                <a:cubicBezTo>
                  <a:pt x="7354" y="9282"/>
                  <a:pt x="7402" y="9483"/>
                  <a:pt x="7430" y="9684"/>
                </a:cubicBezTo>
                <a:cubicBezTo>
                  <a:pt x="7452" y="9840"/>
                  <a:pt x="7433" y="9909"/>
                  <a:pt x="7493" y="9811"/>
                </a:cubicBezTo>
              </a:path>
              <a:path w="3240" h="827">
                <a:moveTo>
                  <a:pt x="8001" y="9144"/>
                </a:moveTo>
                <a:cubicBezTo>
                  <a:pt x="7953" y="9000"/>
                  <a:pt x="7875" y="9301"/>
                  <a:pt x="7874" y="9303"/>
                </a:cubicBezTo>
                <a:cubicBezTo>
                  <a:pt x="7804" y="9498"/>
                  <a:pt x="7781" y="9530"/>
                  <a:pt x="7874" y="9684"/>
                </a:cubicBezTo>
                <a:cubicBezTo>
                  <a:pt x="8071" y="9638"/>
                  <a:pt x="8226" y="9480"/>
                  <a:pt x="8192" y="9239"/>
                </a:cubicBezTo>
                <a:cubicBezTo>
                  <a:pt x="8171" y="9089"/>
                  <a:pt x="8004" y="9144"/>
                  <a:pt x="7906" y="91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578400" y="6093000"/>
            <a:ext cx="307800" cy="217440"/>
          </a:xfrm>
          <a:custGeom>
            <a:avLst/>
            <a:gdLst/>
            <a:ahLst/>
            <a:rect l="l" t="t" r="r" b="b"/>
            <a:pathLst>
              <a:path w="858" h="604">
                <a:moveTo>
                  <a:pt x="9938" y="17240"/>
                </a:moveTo>
                <a:cubicBezTo>
                  <a:pt x="9968" y="17200"/>
                  <a:pt x="9971" y="17185"/>
                  <a:pt x="10001" y="17145"/>
                </a:cubicBezTo>
                <a:cubicBezTo>
                  <a:pt x="10030" y="17271"/>
                  <a:pt x="10046" y="17397"/>
                  <a:pt x="10065" y="17526"/>
                </a:cubicBezTo>
              </a:path>
              <a:path w="858" h="604">
                <a:moveTo>
                  <a:pt x="9938" y="16923"/>
                </a:moveTo>
                <a:lnTo>
                  <a:pt x="9938" y="16923"/>
                </a:lnTo>
                <a:lnTo>
                  <a:pt x="9938" y="16923"/>
                </a:lnTo>
              </a:path>
              <a:path w="858" h="604">
                <a:moveTo>
                  <a:pt x="10319" y="17240"/>
                </a:moveTo>
                <a:cubicBezTo>
                  <a:pt x="10380" y="17332"/>
                  <a:pt x="10423" y="17393"/>
                  <a:pt x="10446" y="17494"/>
                </a:cubicBezTo>
                <a:cubicBezTo>
                  <a:pt x="10430" y="17413"/>
                  <a:pt x="10376" y="17290"/>
                  <a:pt x="10382" y="17208"/>
                </a:cubicBezTo>
                <a:cubicBezTo>
                  <a:pt x="10388" y="17123"/>
                  <a:pt x="10457" y="16964"/>
                  <a:pt x="10573" y="17018"/>
                </a:cubicBezTo>
                <a:cubicBezTo>
                  <a:pt x="10741" y="17096"/>
                  <a:pt x="10785" y="17234"/>
                  <a:pt x="10795" y="17399"/>
                </a:cubicBezTo>
                <a:cubicBezTo>
                  <a:pt x="10795" y="17410"/>
                  <a:pt x="10795" y="17420"/>
                  <a:pt x="10795" y="1743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000680" y="6240600"/>
            <a:ext cx="1440" cy="23760"/>
          </a:xfrm>
          <a:custGeom>
            <a:avLst/>
            <a:gdLst/>
            <a:ahLst/>
            <a:rect l="l" t="t" r="r" b="b"/>
            <a:pathLst>
              <a:path w="1" h="64">
                <a:moveTo>
                  <a:pt x="11112" y="17336"/>
                </a:moveTo>
                <a:cubicBezTo>
                  <a:pt x="11112" y="17367"/>
                  <a:pt x="11112" y="17378"/>
                  <a:pt x="11112" y="17399"/>
                </a:cubicBezTo>
              </a:path>
            </a:pathLst>
          </a:custGeom>
          <a:noFill/>
          <a:ln cap="rnd" w="34920">
            <a:solidFill>
              <a:srgbClr val="ff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 name=""/>
          <p:cNvSpPr/>
          <p:nvPr/>
        </p:nvSpPr>
        <p:spPr>
          <a:xfrm>
            <a:off x="2217600" y="5189400"/>
            <a:ext cx="217800" cy="343080"/>
          </a:xfrm>
          <a:custGeom>
            <a:avLst/>
            <a:gdLst/>
            <a:ahLst/>
            <a:rect l="l" t="t" r="r" b="b"/>
            <a:pathLst>
              <a:path w="604" h="954">
                <a:moveTo>
                  <a:pt x="6318" y="14668"/>
                </a:moveTo>
                <a:cubicBezTo>
                  <a:pt x="6422" y="14513"/>
                  <a:pt x="6524" y="14477"/>
                  <a:pt x="6699" y="14414"/>
                </a:cubicBezTo>
                <a:cubicBezTo>
                  <a:pt x="6849" y="14689"/>
                  <a:pt x="6627" y="14856"/>
                  <a:pt x="6445" y="15081"/>
                </a:cubicBezTo>
                <a:cubicBezTo>
                  <a:pt x="6444" y="15082"/>
                  <a:pt x="6199" y="15457"/>
                  <a:pt x="6160" y="15335"/>
                </a:cubicBezTo>
                <a:cubicBezTo>
                  <a:pt x="6294" y="15258"/>
                  <a:pt x="6456" y="15135"/>
                  <a:pt x="6604" y="15272"/>
                </a:cubicBezTo>
                <a:cubicBezTo>
                  <a:pt x="6635" y="15333"/>
                  <a:pt x="6643" y="15354"/>
                  <a:pt x="6699" y="1533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514600" y="5510160"/>
            <a:ext cx="11160" cy="22320"/>
          </a:xfrm>
          <a:custGeom>
            <a:avLst/>
            <a:gdLst/>
            <a:ahLst/>
            <a:rect l="l" t="t" r="r" b="b"/>
            <a:pathLst>
              <a:path w="33" h="64">
                <a:moveTo>
                  <a:pt x="6985" y="15335"/>
                </a:moveTo>
                <a:cubicBezTo>
                  <a:pt x="6985" y="15380"/>
                  <a:pt x="6991" y="15379"/>
                  <a:pt x="7017" y="15304"/>
                </a:cubicBezTo>
              </a:path>
            </a:pathLst>
          </a:custGeom>
          <a:noFill/>
          <a:ln cap="rnd" w="3492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 name=""/>
          <p:cNvSpPr/>
          <p:nvPr/>
        </p:nvSpPr>
        <p:spPr>
          <a:xfrm>
            <a:off x="2525760" y="5510160"/>
            <a:ext cx="1440" cy="1800"/>
          </a:xfrm>
          <a:custGeom>
            <a:avLst/>
            <a:gdLst/>
            <a:ahLst/>
            <a:rect l="l" t="t" r="r" b="b"/>
            <a:pathLst>
              <a:path w="1" h="1">
                <a:moveTo>
                  <a:pt x="7017" y="15304"/>
                </a:moveTo>
                <a:lnTo>
                  <a:pt x="7017" y="15304"/>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2674800" y="5235480"/>
            <a:ext cx="34920" cy="217440"/>
          </a:xfrm>
          <a:custGeom>
            <a:avLst/>
            <a:gdLst/>
            <a:ahLst/>
            <a:rect l="l" t="t" r="r" b="b"/>
            <a:pathLst>
              <a:path w="96" h="604">
                <a:moveTo>
                  <a:pt x="7430" y="14605"/>
                </a:moveTo>
                <a:cubicBezTo>
                  <a:pt x="7430" y="14573"/>
                  <a:pt x="7430" y="14563"/>
                  <a:pt x="7430" y="14542"/>
                </a:cubicBezTo>
                <a:cubicBezTo>
                  <a:pt x="7462" y="14637"/>
                  <a:pt x="7484" y="14881"/>
                  <a:pt x="7493" y="15018"/>
                </a:cubicBezTo>
                <a:cubicBezTo>
                  <a:pt x="7502" y="15157"/>
                  <a:pt x="7478" y="15174"/>
                  <a:pt x="7525" y="150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811600" y="5211720"/>
            <a:ext cx="206280" cy="263520"/>
          </a:xfrm>
          <a:custGeom>
            <a:avLst/>
            <a:gdLst/>
            <a:ahLst/>
            <a:rect l="l" t="t" r="r" b="b"/>
            <a:pathLst>
              <a:path w="573" h="731">
                <a:moveTo>
                  <a:pt x="8160" y="14510"/>
                </a:moveTo>
                <a:cubicBezTo>
                  <a:pt x="8262" y="14510"/>
                  <a:pt x="8190" y="14522"/>
                  <a:pt x="8128" y="14510"/>
                </a:cubicBezTo>
                <a:cubicBezTo>
                  <a:pt x="8037" y="14493"/>
                  <a:pt x="7992" y="14478"/>
                  <a:pt x="7906" y="14478"/>
                </a:cubicBezTo>
                <a:cubicBezTo>
                  <a:pt x="7899" y="14587"/>
                  <a:pt x="7885" y="14688"/>
                  <a:pt x="7874" y="14796"/>
                </a:cubicBezTo>
                <a:cubicBezTo>
                  <a:pt x="8016" y="14772"/>
                  <a:pt x="8139" y="14690"/>
                  <a:pt x="8287" y="14764"/>
                </a:cubicBezTo>
                <a:cubicBezTo>
                  <a:pt x="8561" y="14901"/>
                  <a:pt x="8251" y="15174"/>
                  <a:pt x="8096" y="15208"/>
                </a:cubicBezTo>
                <a:cubicBezTo>
                  <a:pt x="7943" y="15208"/>
                  <a:pt x="7895" y="15210"/>
                  <a:pt x="7810" y="151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897200" y="5600880"/>
            <a:ext cx="34920" cy="160200"/>
          </a:xfrm>
          <a:custGeom>
            <a:avLst/>
            <a:gdLst/>
            <a:ahLst/>
            <a:rect l="l" t="t" r="r" b="b"/>
            <a:pathLst>
              <a:path w="97" h="445">
                <a:moveTo>
                  <a:pt x="5366" y="15558"/>
                </a:moveTo>
                <a:cubicBezTo>
                  <a:pt x="5344" y="15706"/>
                  <a:pt x="5305" y="15855"/>
                  <a:pt x="5270" y="1600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805040" y="5692680"/>
            <a:ext cx="218880" cy="22320"/>
          </a:xfrm>
          <a:custGeom>
            <a:avLst/>
            <a:gdLst/>
            <a:ahLst/>
            <a:rect l="l" t="t" r="r" b="b"/>
            <a:pathLst>
              <a:path w="605" h="64">
                <a:moveTo>
                  <a:pt x="5016" y="15812"/>
                </a:moveTo>
                <a:cubicBezTo>
                  <a:pt x="5177" y="15820"/>
                  <a:pt x="5332" y="15843"/>
                  <a:pt x="5493" y="15843"/>
                </a:cubicBezTo>
                <a:cubicBezTo>
                  <a:pt x="5547" y="15843"/>
                  <a:pt x="5580" y="15850"/>
                  <a:pt x="5620" y="15875"/>
                </a:cubicBezTo>
              </a:path>
            </a:pathLst>
          </a:custGeom>
          <a:noFill/>
          <a:ln cap="rnd" w="3492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 name=""/>
          <p:cNvSpPr/>
          <p:nvPr/>
        </p:nvSpPr>
        <p:spPr>
          <a:xfrm>
            <a:off x="2309760" y="5680080"/>
            <a:ext cx="1800" cy="195120"/>
          </a:xfrm>
          <a:custGeom>
            <a:avLst/>
            <a:gdLst/>
            <a:ahLst/>
            <a:rect l="l" t="t" r="r" b="b"/>
            <a:pathLst>
              <a:path w="1" h="541">
                <a:moveTo>
                  <a:pt x="6414" y="15780"/>
                </a:moveTo>
                <a:cubicBezTo>
                  <a:pt x="6414" y="15960"/>
                  <a:pt x="6414" y="16140"/>
                  <a:pt x="6414" y="163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446200" y="5829480"/>
            <a:ext cx="11160" cy="23760"/>
          </a:xfrm>
          <a:custGeom>
            <a:avLst/>
            <a:gdLst/>
            <a:ahLst/>
            <a:rect l="l" t="t" r="r" b="b"/>
            <a:pathLst>
              <a:path w="33" h="65">
                <a:moveTo>
                  <a:pt x="6794" y="16192"/>
                </a:moveTo>
                <a:cubicBezTo>
                  <a:pt x="6805" y="16213"/>
                  <a:pt x="6815" y="16235"/>
                  <a:pt x="6826" y="16256"/>
                </a:cubicBezTo>
              </a:path>
            </a:pathLst>
          </a:custGeom>
          <a:noFill/>
          <a:ln cap="rnd" w="34920">
            <a:solidFill>
              <a:srgbClr val="ff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6" name=""/>
          <p:cNvSpPr/>
          <p:nvPr/>
        </p:nvSpPr>
        <p:spPr>
          <a:xfrm>
            <a:off x="2651040" y="5657760"/>
            <a:ext cx="173160" cy="171720"/>
          </a:xfrm>
          <a:custGeom>
            <a:avLst/>
            <a:gdLst/>
            <a:ahLst/>
            <a:rect l="l" t="t" r="r" b="b"/>
            <a:pathLst>
              <a:path w="477" h="477">
                <a:moveTo>
                  <a:pt x="7430" y="15780"/>
                </a:moveTo>
                <a:cubicBezTo>
                  <a:pt x="7456" y="15621"/>
                  <a:pt x="7668" y="15778"/>
                  <a:pt x="7715" y="15875"/>
                </a:cubicBezTo>
                <a:cubicBezTo>
                  <a:pt x="7801" y="16052"/>
                  <a:pt x="7565" y="16255"/>
                  <a:pt x="7398" y="16192"/>
                </a:cubicBezTo>
                <a:cubicBezTo>
                  <a:pt x="7387" y="16171"/>
                  <a:pt x="7377" y="16150"/>
                  <a:pt x="7366" y="16129"/>
                </a:cubicBezTo>
                <a:cubicBezTo>
                  <a:pt x="7498" y="15998"/>
                  <a:pt x="7639" y="15944"/>
                  <a:pt x="7810" y="16097"/>
                </a:cubicBezTo>
                <a:cubicBezTo>
                  <a:pt x="7836" y="16149"/>
                  <a:pt x="7847" y="16157"/>
                  <a:pt x="7842" y="161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914560" y="5635800"/>
            <a:ext cx="195480" cy="182520"/>
          </a:xfrm>
          <a:custGeom>
            <a:avLst/>
            <a:gdLst/>
            <a:ahLst/>
            <a:rect l="l" t="t" r="r" b="b"/>
            <a:pathLst>
              <a:path w="541" h="509">
                <a:moveTo>
                  <a:pt x="8382" y="15653"/>
                </a:moveTo>
                <a:cubicBezTo>
                  <a:pt x="8359" y="15655"/>
                  <a:pt x="8129" y="15680"/>
                  <a:pt x="8128" y="15684"/>
                </a:cubicBezTo>
                <a:cubicBezTo>
                  <a:pt x="8111" y="15734"/>
                  <a:pt x="8109" y="15794"/>
                  <a:pt x="8096" y="15843"/>
                </a:cubicBezTo>
                <a:cubicBezTo>
                  <a:pt x="8239" y="15843"/>
                  <a:pt x="8500" y="15784"/>
                  <a:pt x="8604" y="15907"/>
                </a:cubicBezTo>
                <a:cubicBezTo>
                  <a:pt x="8739" y="16067"/>
                  <a:pt x="8484" y="16228"/>
                  <a:pt x="8350" y="16161"/>
                </a:cubicBezTo>
                <a:cubicBezTo>
                  <a:pt x="8270" y="16081"/>
                  <a:pt x="8247" y="16068"/>
                  <a:pt x="8223" y="1600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989000" y="5886360"/>
            <a:ext cx="1360800" cy="81000"/>
          </a:xfrm>
          <a:custGeom>
            <a:avLst/>
            <a:gdLst/>
            <a:ahLst/>
            <a:rect l="l" t="t" r="r" b="b"/>
            <a:pathLst>
              <a:path w="3780" h="224">
                <a:moveTo>
                  <a:pt x="5524" y="16351"/>
                </a:moveTo>
                <a:cubicBezTo>
                  <a:pt x="5833" y="16372"/>
                  <a:pt x="6137" y="16446"/>
                  <a:pt x="6445" y="16478"/>
                </a:cubicBezTo>
                <a:cubicBezTo>
                  <a:pt x="7140" y="16551"/>
                  <a:pt x="7816" y="16500"/>
                  <a:pt x="8509" y="16510"/>
                </a:cubicBezTo>
                <a:cubicBezTo>
                  <a:pt x="8778" y="16514"/>
                  <a:pt x="9037" y="16555"/>
                  <a:pt x="9303" y="16574"/>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 name=""/>
          <p:cNvSpPr/>
          <p:nvPr/>
        </p:nvSpPr>
        <p:spPr>
          <a:xfrm>
            <a:off x="2217600" y="6058080"/>
            <a:ext cx="182880" cy="252360"/>
          </a:xfrm>
          <a:custGeom>
            <a:avLst/>
            <a:gdLst/>
            <a:ahLst/>
            <a:rect l="l" t="t" r="r" b="b"/>
            <a:pathLst>
              <a:path w="509" h="699">
                <a:moveTo>
                  <a:pt x="6223" y="16954"/>
                </a:moveTo>
                <a:cubicBezTo>
                  <a:pt x="6244" y="16893"/>
                  <a:pt x="6395" y="16828"/>
                  <a:pt x="6477" y="16828"/>
                </a:cubicBezTo>
                <a:cubicBezTo>
                  <a:pt x="6729" y="16828"/>
                  <a:pt x="6622" y="17049"/>
                  <a:pt x="6509" y="17145"/>
                </a:cubicBezTo>
                <a:cubicBezTo>
                  <a:pt x="6488" y="17156"/>
                  <a:pt x="6466" y="17166"/>
                  <a:pt x="6445" y="17177"/>
                </a:cubicBezTo>
                <a:cubicBezTo>
                  <a:pt x="6596" y="17147"/>
                  <a:pt x="6751" y="17198"/>
                  <a:pt x="6636" y="17399"/>
                </a:cubicBezTo>
                <a:cubicBezTo>
                  <a:pt x="6558" y="17535"/>
                  <a:pt x="6285" y="17586"/>
                  <a:pt x="6160" y="17494"/>
                </a:cubicBezTo>
                <a:cubicBezTo>
                  <a:pt x="6160" y="17449"/>
                  <a:pt x="6171" y="17433"/>
                  <a:pt x="6223" y="1743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492280" y="6240600"/>
            <a:ext cx="1800" cy="46080"/>
          </a:xfrm>
          <a:custGeom>
            <a:avLst/>
            <a:gdLst/>
            <a:ahLst/>
            <a:rect l="l" t="t" r="r" b="b"/>
            <a:pathLst>
              <a:path w="1" h="127">
                <a:moveTo>
                  <a:pt x="6922" y="17336"/>
                </a:moveTo>
                <a:cubicBezTo>
                  <a:pt x="6922" y="17410"/>
                  <a:pt x="6922" y="17420"/>
                  <a:pt x="6922" y="17462"/>
                </a:cubicBezTo>
              </a:path>
            </a:pathLst>
          </a:custGeom>
          <a:noFill/>
          <a:ln cap="rnd" w="34920">
            <a:solidFill>
              <a:srgbClr val="ff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 name=""/>
          <p:cNvSpPr/>
          <p:nvPr/>
        </p:nvSpPr>
        <p:spPr>
          <a:xfrm>
            <a:off x="3017880" y="6126120"/>
            <a:ext cx="11160" cy="1800"/>
          </a:xfrm>
          <a:custGeom>
            <a:avLst/>
            <a:gdLst/>
            <a:ahLst/>
            <a:rect l="l" t="t" r="r" b="b"/>
            <a:pathLst>
              <a:path w="33" h="1">
                <a:moveTo>
                  <a:pt x="8382" y="17018"/>
                </a:moveTo>
                <a:cubicBezTo>
                  <a:pt x="8393" y="17018"/>
                  <a:pt x="8403" y="17018"/>
                  <a:pt x="8414" y="17018"/>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3017880" y="6126120"/>
            <a:ext cx="1440" cy="1800"/>
          </a:xfrm>
          <a:custGeom>
            <a:avLst/>
            <a:gdLst/>
            <a:ahLst/>
            <a:rect l="l" t="t" r="r" b="b"/>
            <a:pathLst>
              <a:path w="1" h="1">
                <a:moveTo>
                  <a:pt x="8382" y="17018"/>
                </a:moveTo>
                <a:lnTo>
                  <a:pt x="8382" y="17018"/>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2960640" y="6114960"/>
            <a:ext cx="193680" cy="182520"/>
          </a:xfrm>
          <a:custGeom>
            <a:avLst/>
            <a:gdLst/>
            <a:ahLst/>
            <a:rect l="l" t="t" r="r" b="b"/>
            <a:pathLst>
              <a:path w="541" h="509">
                <a:moveTo>
                  <a:pt x="8382" y="17018"/>
                </a:moveTo>
                <a:cubicBezTo>
                  <a:pt x="8365" y="17086"/>
                  <a:pt x="8294" y="17143"/>
                  <a:pt x="8255" y="17208"/>
                </a:cubicBezTo>
                <a:cubicBezTo>
                  <a:pt x="8214" y="17277"/>
                  <a:pt x="8190" y="17433"/>
                  <a:pt x="8255" y="17462"/>
                </a:cubicBezTo>
                <a:cubicBezTo>
                  <a:pt x="8399" y="17526"/>
                  <a:pt x="8599" y="17504"/>
                  <a:pt x="8700" y="17367"/>
                </a:cubicBezTo>
                <a:cubicBezTo>
                  <a:pt x="8770" y="17272"/>
                  <a:pt x="8780" y="17148"/>
                  <a:pt x="8668" y="17082"/>
                </a:cubicBezTo>
                <a:cubicBezTo>
                  <a:pt x="8553" y="17014"/>
                  <a:pt x="8434" y="17121"/>
                  <a:pt x="8477" y="1698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685960" y="4983120"/>
            <a:ext cx="11160" cy="149400"/>
          </a:xfrm>
          <a:custGeom>
            <a:avLst/>
            <a:gdLst/>
            <a:ahLst/>
            <a:rect l="l" t="t" r="r" b="b"/>
            <a:pathLst>
              <a:path w="33" h="414">
                <a:moveTo>
                  <a:pt x="7461" y="13843"/>
                </a:moveTo>
                <a:cubicBezTo>
                  <a:pt x="7477" y="13974"/>
                  <a:pt x="7493" y="14092"/>
                  <a:pt x="7493" y="14224"/>
                </a:cubicBezTo>
                <a:cubicBezTo>
                  <a:pt x="7493" y="14235"/>
                  <a:pt x="7493" y="14245"/>
                  <a:pt x="7493" y="1425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639880" y="6093000"/>
            <a:ext cx="114480" cy="114120"/>
          </a:xfrm>
          <a:custGeom>
            <a:avLst/>
            <a:gdLst/>
            <a:ahLst/>
            <a:rect l="l" t="t" r="r" b="b"/>
            <a:pathLst>
              <a:path w="319" h="318">
                <a:moveTo>
                  <a:pt x="7398" y="16923"/>
                </a:moveTo>
                <a:cubicBezTo>
                  <a:pt x="7398" y="17023"/>
                  <a:pt x="7361" y="17085"/>
                  <a:pt x="7334" y="17177"/>
                </a:cubicBezTo>
                <a:cubicBezTo>
                  <a:pt x="7334" y="17187"/>
                  <a:pt x="7334" y="17198"/>
                  <a:pt x="7334" y="17208"/>
                </a:cubicBezTo>
                <a:cubicBezTo>
                  <a:pt x="7449" y="17234"/>
                  <a:pt x="7526" y="17195"/>
                  <a:pt x="7652" y="171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732040" y="6022800"/>
            <a:ext cx="22320" cy="274680"/>
          </a:xfrm>
          <a:custGeom>
            <a:avLst/>
            <a:gdLst/>
            <a:ahLst/>
            <a:rect l="l" t="t" r="r" b="b"/>
            <a:pathLst>
              <a:path w="65" h="763">
                <a:moveTo>
                  <a:pt x="7652" y="16732"/>
                </a:moveTo>
                <a:cubicBezTo>
                  <a:pt x="7652" y="16942"/>
                  <a:pt x="7650" y="17160"/>
                  <a:pt x="7620" y="17367"/>
                </a:cubicBezTo>
                <a:cubicBezTo>
                  <a:pt x="7609" y="17409"/>
                  <a:pt x="7599" y="17452"/>
                  <a:pt x="7588" y="174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99">
                                            <p:txEl>
                                              <p:pRg st="0" end="0"/>
                                            </p:txEl>
                                          </p:spTgt>
                                        </p:tgtEl>
                                        <p:attrNameLst>
                                          <p:attrName>style.visibility</p:attrName>
                                        </p:attrNameLst>
                                      </p:cBhvr>
                                      <p:to>
                                        <p:strVal val="visible"/>
                                      </p:to>
                                    </p:set>
                                    <p:anim calcmode="lin" valueType="num">
                                      <p:cBhvr additive="base">
                                        <p:cTn id="69"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0"/>
                                        </p:tgtEl>
                                        <p:attrNameLst>
                                          <p:attrName>style.visibility</p:attrName>
                                        </p:attrNameLst>
                                      </p:cBhvr>
                                      <p:to>
                                        <p:strVal val="visible"/>
                                      </p:to>
                                    </p:set>
                                    <p:anim calcmode="lin" valueType="num">
                                      <p:cBhvr additive="base">
                                        <p:cTn id="75" dur="500" fill="hold"/>
                                        <p:tgtEl>
                                          <p:spTgt spid="100"/>
                                        </p:tgtEl>
                                        <p:attrNameLst>
                                          <p:attrName>ppt_x</p:attrName>
                                        </p:attrNameLst>
                                      </p:cBhvr>
                                      <p:tavLst>
                                        <p:tav tm="0">
                                          <p:val>
                                            <p:strVal val="0-#ppt_w/2"/>
                                          </p:val>
                                        </p:tav>
                                        <p:tav tm="100000">
                                          <p:val>
                                            <p:strVal val="#ppt_x"/>
                                          </p:val>
                                        </p:tav>
                                      </p:tavLst>
                                    </p:anim>
                                    <p:anim calcmode="lin" valueType="num">
                                      <p:cBhvr additive="base">
                                        <p:cTn id="7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p:txBody>
      </p:sp>
      <p:sp>
        <p:nvSpPr>
          <p:cNvPr id="128" name="PlaceHolder 2"/>
          <p:cNvSpPr>
            <a:spLocks noGrp="1"/>
          </p:cNvSpPr>
          <p:nvPr>
            <p:ph type="subTitle"/>
          </p:nvPr>
        </p:nvSpPr>
        <p:spPr>
          <a:xfrm>
            <a:off x="1371600" y="1295280"/>
            <a:ext cx="6400800" cy="609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 + 2.6 = 12.3</a:t>
            </a:r>
            <a:endParaRPr b="0" lang="en-US" sz="3200" spc="-1" strike="noStrike">
              <a:solidFill>
                <a:srgbClr val="000000"/>
              </a:solidFill>
              <a:latin typeface="Arial"/>
            </a:endParaRPr>
          </a:p>
        </p:txBody>
      </p:sp>
      <p:sp>
        <p:nvSpPr>
          <p:cNvPr id="129" name=""/>
          <p:cNvSpPr/>
          <p:nvPr/>
        </p:nvSpPr>
        <p:spPr>
          <a:xfrm>
            <a:off x="3533040" y="3098880"/>
            <a:ext cx="207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 ÷ 9 = 12</a:t>
            </a:r>
            <a:endParaRPr b="0" lang="en-US" sz="3200" spc="-1" strike="noStrike">
              <a:solidFill>
                <a:srgbClr val="000000"/>
              </a:solidFill>
              <a:latin typeface="Arial"/>
            </a:endParaRPr>
          </a:p>
        </p:txBody>
      </p:sp>
      <p:sp>
        <p:nvSpPr>
          <p:cNvPr id="130" name=""/>
          <p:cNvSpPr/>
          <p:nvPr/>
        </p:nvSpPr>
        <p:spPr>
          <a:xfrm>
            <a:off x="3583080" y="5029200"/>
            <a:ext cx="197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8N = 34.4</a:t>
            </a:r>
            <a:endParaRPr b="0" lang="en-US" sz="3200" spc="-1" strike="noStrike">
              <a:solidFill>
                <a:srgbClr val="000000"/>
              </a:solidFill>
              <a:latin typeface="Arial"/>
            </a:endParaRPr>
          </a:p>
        </p:txBody>
      </p:sp>
      <p:sp>
        <p:nvSpPr>
          <p:cNvPr id="131" name=""/>
          <p:cNvSpPr/>
          <p:nvPr/>
        </p:nvSpPr>
        <p:spPr>
          <a:xfrm>
            <a:off x="3760920" y="1897200"/>
            <a:ext cx="125280" cy="23760"/>
          </a:xfrm>
          <a:custGeom>
            <a:avLst/>
            <a:gdLst/>
            <a:ahLst/>
            <a:rect l="l" t="t" r="r" b="b"/>
            <a:pathLst>
              <a:path w="350" h="65">
                <a:moveTo>
                  <a:pt x="10446" y="5334"/>
                </a:moveTo>
                <a:cubicBezTo>
                  <a:pt x="10459" y="5296"/>
                  <a:pt x="10545" y="5277"/>
                  <a:pt x="10604" y="5270"/>
                </a:cubicBezTo>
                <a:cubicBezTo>
                  <a:pt x="10665" y="5263"/>
                  <a:pt x="10733" y="5270"/>
                  <a:pt x="10795" y="5270"/>
                </a:cubicBezTo>
              </a:path>
            </a:pathLst>
          </a:custGeom>
          <a:noFill/>
          <a:ln cap="rnd" w="34920">
            <a:solidFill>
              <a:srgbClr val="ff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2" name=""/>
          <p:cNvSpPr/>
          <p:nvPr/>
        </p:nvSpPr>
        <p:spPr>
          <a:xfrm>
            <a:off x="4114800" y="1828800"/>
            <a:ext cx="549360" cy="263520"/>
          </a:xfrm>
          <a:custGeom>
            <a:avLst/>
            <a:gdLst/>
            <a:ahLst/>
            <a:rect l="l" t="t" r="r" b="b"/>
            <a:pathLst>
              <a:path w="1525" h="731">
                <a:moveTo>
                  <a:pt x="11494" y="5270"/>
                </a:moveTo>
                <a:cubicBezTo>
                  <a:pt x="11430" y="5207"/>
                  <a:pt x="11551" y="5175"/>
                  <a:pt x="11620" y="5144"/>
                </a:cubicBezTo>
                <a:cubicBezTo>
                  <a:pt x="11641" y="5133"/>
                  <a:pt x="11663" y="5123"/>
                  <a:pt x="11684" y="5112"/>
                </a:cubicBezTo>
                <a:cubicBezTo>
                  <a:pt x="11749" y="5242"/>
                  <a:pt x="11689" y="5364"/>
                  <a:pt x="11620" y="5493"/>
                </a:cubicBezTo>
                <a:cubicBezTo>
                  <a:pt x="11585" y="5558"/>
                  <a:pt x="11415" y="5787"/>
                  <a:pt x="11462" y="5810"/>
                </a:cubicBezTo>
                <a:cubicBezTo>
                  <a:pt x="11592" y="5680"/>
                  <a:pt x="11622" y="5601"/>
                  <a:pt x="11779" y="5683"/>
                </a:cubicBezTo>
                <a:cubicBezTo>
                  <a:pt x="11880" y="5736"/>
                  <a:pt x="11890" y="5758"/>
                  <a:pt x="12002" y="5778"/>
                </a:cubicBezTo>
              </a:path>
              <a:path w="1525" h="731">
                <a:moveTo>
                  <a:pt x="12319" y="5524"/>
                </a:moveTo>
                <a:cubicBezTo>
                  <a:pt x="12344" y="5583"/>
                  <a:pt x="12349" y="5606"/>
                  <a:pt x="12382" y="5652"/>
                </a:cubicBezTo>
              </a:path>
              <a:path w="1525" h="731">
                <a:moveTo>
                  <a:pt x="12510" y="5080"/>
                </a:moveTo>
                <a:cubicBezTo>
                  <a:pt x="12510" y="5239"/>
                  <a:pt x="12477" y="5391"/>
                  <a:pt x="12573" y="5524"/>
                </a:cubicBezTo>
                <a:cubicBezTo>
                  <a:pt x="12664" y="5650"/>
                  <a:pt x="12844" y="5566"/>
                  <a:pt x="12922" y="5461"/>
                </a:cubicBezTo>
                <a:cubicBezTo>
                  <a:pt x="12933" y="5429"/>
                  <a:pt x="12943" y="5398"/>
                  <a:pt x="12954" y="5366"/>
                </a:cubicBezTo>
                <a:cubicBezTo>
                  <a:pt x="12804" y="5385"/>
                  <a:pt x="12781" y="5440"/>
                  <a:pt x="12764" y="5588"/>
                </a:cubicBezTo>
                <a:cubicBezTo>
                  <a:pt x="12764" y="5599"/>
                  <a:pt x="12764" y="5609"/>
                  <a:pt x="12764" y="56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971960" y="1074600"/>
            <a:ext cx="949320" cy="892440"/>
          </a:xfrm>
          <a:custGeom>
            <a:avLst/>
            <a:gdLst/>
            <a:ahLst/>
            <a:rect l="l" t="t" r="r" b="b"/>
            <a:pathLst>
              <a:path w="2636" h="2478">
                <a:moveTo>
                  <a:pt x="13906" y="5398"/>
                </a:moveTo>
                <a:cubicBezTo>
                  <a:pt x="13990" y="5384"/>
                  <a:pt x="14077" y="5357"/>
                  <a:pt x="14160" y="5334"/>
                </a:cubicBezTo>
              </a:path>
              <a:path w="2636" h="2478">
                <a:moveTo>
                  <a:pt x="14891" y="5080"/>
                </a:moveTo>
                <a:cubicBezTo>
                  <a:pt x="14940" y="4980"/>
                  <a:pt x="15138" y="5022"/>
                  <a:pt x="15208" y="5112"/>
                </a:cubicBezTo>
                <a:cubicBezTo>
                  <a:pt x="15323" y="5259"/>
                  <a:pt x="15188" y="5458"/>
                  <a:pt x="15018" y="5429"/>
                </a:cubicBezTo>
                <a:cubicBezTo>
                  <a:pt x="15007" y="5419"/>
                  <a:pt x="14997" y="5408"/>
                  <a:pt x="14986" y="5398"/>
                </a:cubicBezTo>
                <a:cubicBezTo>
                  <a:pt x="15002" y="5333"/>
                  <a:pt x="15094" y="5256"/>
                  <a:pt x="15176" y="5302"/>
                </a:cubicBezTo>
                <a:cubicBezTo>
                  <a:pt x="15196" y="5314"/>
                  <a:pt x="15259" y="5439"/>
                  <a:pt x="15272" y="5461"/>
                </a:cubicBezTo>
              </a:path>
              <a:path w="2636" h="2478">
                <a:moveTo>
                  <a:pt x="15589" y="5270"/>
                </a:moveTo>
                <a:cubicBezTo>
                  <a:pt x="15641" y="5322"/>
                  <a:pt x="15680" y="5326"/>
                  <a:pt x="15748" y="5270"/>
                </a:cubicBezTo>
              </a:path>
              <a:path w="2636" h="2478">
                <a:moveTo>
                  <a:pt x="16066" y="4921"/>
                </a:moveTo>
                <a:cubicBezTo>
                  <a:pt x="16066" y="5059"/>
                  <a:pt x="16077" y="5168"/>
                  <a:pt x="16097" y="5302"/>
                </a:cubicBezTo>
                <a:cubicBezTo>
                  <a:pt x="16117" y="5438"/>
                  <a:pt x="16321" y="5342"/>
                  <a:pt x="16383" y="5302"/>
                </a:cubicBezTo>
                <a:cubicBezTo>
                  <a:pt x="16404" y="5281"/>
                  <a:pt x="16425" y="5260"/>
                  <a:pt x="16446" y="5239"/>
                </a:cubicBezTo>
                <a:cubicBezTo>
                  <a:pt x="16417" y="5296"/>
                  <a:pt x="16341" y="5366"/>
                  <a:pt x="16288" y="5429"/>
                </a:cubicBezTo>
              </a:path>
              <a:path w="2636" h="2478">
                <a:moveTo>
                  <a:pt x="16320" y="5239"/>
                </a:moveTo>
                <a:cubicBezTo>
                  <a:pt x="16320" y="5203"/>
                  <a:pt x="16308" y="5137"/>
                  <a:pt x="16256" y="5144"/>
                </a:cubicBezTo>
                <a:cubicBezTo>
                  <a:pt x="16218" y="5149"/>
                  <a:pt x="16109" y="5281"/>
                  <a:pt x="16161" y="5302"/>
                </a:cubicBezTo>
                <a:cubicBezTo>
                  <a:pt x="16182" y="5302"/>
                  <a:pt x="16203" y="5302"/>
                  <a:pt x="16224" y="5302"/>
                </a:cubicBezTo>
              </a:path>
              <a:path w="2636" h="2478">
                <a:moveTo>
                  <a:pt x="14732" y="4096"/>
                </a:moveTo>
                <a:cubicBezTo>
                  <a:pt x="14732" y="4060"/>
                  <a:pt x="14735" y="4046"/>
                  <a:pt x="14764" y="4032"/>
                </a:cubicBezTo>
                <a:cubicBezTo>
                  <a:pt x="14865" y="4073"/>
                  <a:pt x="14901" y="4187"/>
                  <a:pt x="14954" y="4286"/>
                </a:cubicBezTo>
                <a:cubicBezTo>
                  <a:pt x="15036" y="4439"/>
                  <a:pt x="15055" y="4612"/>
                  <a:pt x="15113" y="4762"/>
                </a:cubicBezTo>
                <a:cubicBezTo>
                  <a:pt x="15133" y="4814"/>
                  <a:pt x="15155" y="4908"/>
                  <a:pt x="15208" y="4890"/>
                </a:cubicBezTo>
                <a:cubicBezTo>
                  <a:pt x="15208" y="4879"/>
                  <a:pt x="15208" y="4869"/>
                  <a:pt x="15208" y="4858"/>
                </a:cubicBezTo>
              </a:path>
              <a:path w="2636" h="2478">
                <a:moveTo>
                  <a:pt x="14922" y="3238"/>
                </a:moveTo>
                <a:cubicBezTo>
                  <a:pt x="14933" y="3346"/>
                  <a:pt x="14954" y="3446"/>
                  <a:pt x="14954" y="3556"/>
                </a:cubicBezTo>
              </a:path>
              <a:path w="2636" h="2478">
                <a:moveTo>
                  <a:pt x="15589" y="3842"/>
                </a:moveTo>
                <a:cubicBezTo>
                  <a:pt x="15601" y="3936"/>
                  <a:pt x="15619" y="4073"/>
                  <a:pt x="15653" y="4159"/>
                </a:cubicBezTo>
                <a:cubicBezTo>
                  <a:pt x="15672" y="4208"/>
                  <a:pt x="15684" y="4196"/>
                  <a:pt x="15684" y="4254"/>
                </a:cubicBezTo>
              </a:path>
              <a:path w="2636" h="2478">
                <a:moveTo>
                  <a:pt x="14034" y="4128"/>
                </a:moveTo>
                <a:cubicBezTo>
                  <a:pt x="14232" y="4340"/>
                  <a:pt x="14411" y="4563"/>
                  <a:pt x="14542" y="4826"/>
                </a:cubicBezTo>
                <a:cubicBezTo>
                  <a:pt x="14552" y="4858"/>
                  <a:pt x="14563" y="4889"/>
                  <a:pt x="14573" y="4921"/>
                </a:cubicBezTo>
              </a:path>
              <a:path w="2636" h="2478">
                <a:moveTo>
                  <a:pt x="13843" y="3238"/>
                </a:moveTo>
                <a:cubicBezTo>
                  <a:pt x="13837" y="3321"/>
                  <a:pt x="13750" y="3581"/>
                  <a:pt x="13906" y="3588"/>
                </a:cubicBezTo>
                <a:cubicBezTo>
                  <a:pt x="14129" y="3598"/>
                  <a:pt x="14060" y="3343"/>
                  <a:pt x="14002" y="3238"/>
                </a:cubicBezTo>
                <a:cubicBezTo>
                  <a:pt x="13973" y="3210"/>
                  <a:pt x="13967" y="3200"/>
                  <a:pt x="13938" y="3207"/>
                </a:cubicBezTo>
              </a:path>
              <a:path w="2636" h="2478">
                <a:moveTo>
                  <a:pt x="14605" y="2984"/>
                </a:moveTo>
                <a:cubicBezTo>
                  <a:pt x="14605" y="3102"/>
                  <a:pt x="14632" y="3215"/>
                  <a:pt x="14637" y="3334"/>
                </a:cubicBezTo>
                <a:cubicBezTo>
                  <a:pt x="14637" y="3366"/>
                  <a:pt x="14637" y="3376"/>
                  <a:pt x="14637" y="33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224160" y="2171880"/>
            <a:ext cx="2901960" cy="239400"/>
          </a:xfrm>
          <a:custGeom>
            <a:avLst/>
            <a:gdLst/>
            <a:ahLst/>
            <a:rect l="l" t="t" r="r" b="b"/>
            <a:pathLst>
              <a:path w="8065" h="668">
                <a:moveTo>
                  <a:pt x="8954" y="6572"/>
                </a:moveTo>
                <a:cubicBezTo>
                  <a:pt x="9373" y="6499"/>
                  <a:pt x="9800" y="6420"/>
                  <a:pt x="10224" y="6382"/>
                </a:cubicBezTo>
                <a:cubicBezTo>
                  <a:pt x="11112" y="6303"/>
                  <a:pt x="12001" y="6277"/>
                  <a:pt x="12890" y="6223"/>
                </a:cubicBezTo>
                <a:cubicBezTo>
                  <a:pt x="13864" y="6164"/>
                  <a:pt x="14837" y="6152"/>
                  <a:pt x="15812" y="6096"/>
                </a:cubicBezTo>
                <a:cubicBezTo>
                  <a:pt x="16216" y="6073"/>
                  <a:pt x="16614" y="6041"/>
                  <a:pt x="17018" y="6032"/>
                </a:cubicBezTo>
              </a:path>
              <a:path w="8065" h="668">
                <a:moveTo>
                  <a:pt x="12446" y="6509"/>
                </a:moveTo>
                <a:cubicBezTo>
                  <a:pt x="12397" y="6569"/>
                  <a:pt x="12392" y="6592"/>
                  <a:pt x="12382" y="6668"/>
                </a:cubicBezTo>
                <a:cubicBezTo>
                  <a:pt x="12564" y="6685"/>
                  <a:pt x="12645" y="6610"/>
                  <a:pt x="12700" y="6445"/>
                </a:cubicBezTo>
                <a:cubicBezTo>
                  <a:pt x="12603" y="6445"/>
                  <a:pt x="12570" y="6446"/>
                  <a:pt x="12510" y="64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206960" y="2400480"/>
            <a:ext cx="239760" cy="285480"/>
          </a:xfrm>
          <a:custGeom>
            <a:avLst/>
            <a:gdLst/>
            <a:ahLst/>
            <a:rect l="l" t="t" r="r" b="b"/>
            <a:pathLst>
              <a:path w="668" h="794">
                <a:moveTo>
                  <a:pt x="11684" y="6826"/>
                </a:moveTo>
                <a:cubicBezTo>
                  <a:pt x="11684" y="6686"/>
                  <a:pt x="11737" y="7036"/>
                  <a:pt x="11748" y="7176"/>
                </a:cubicBezTo>
                <a:cubicBezTo>
                  <a:pt x="11756" y="7281"/>
                  <a:pt x="11748" y="7325"/>
                  <a:pt x="11748" y="7430"/>
                </a:cubicBezTo>
              </a:path>
              <a:path w="668" h="794">
                <a:moveTo>
                  <a:pt x="11684" y="6826"/>
                </a:moveTo>
                <a:cubicBezTo>
                  <a:pt x="11709" y="6750"/>
                  <a:pt x="11812" y="6916"/>
                  <a:pt x="11874" y="6953"/>
                </a:cubicBezTo>
                <a:cubicBezTo>
                  <a:pt x="12007" y="7033"/>
                  <a:pt x="12208" y="7184"/>
                  <a:pt x="12319" y="7239"/>
                </a:cubicBezTo>
                <a:cubicBezTo>
                  <a:pt x="12330" y="7239"/>
                  <a:pt x="12340" y="7239"/>
                  <a:pt x="12351" y="7239"/>
                </a:cubicBezTo>
                <a:cubicBezTo>
                  <a:pt x="12351" y="7141"/>
                  <a:pt x="12311" y="7049"/>
                  <a:pt x="12287" y="6953"/>
                </a:cubicBezTo>
                <a:cubicBezTo>
                  <a:pt x="12260" y="6848"/>
                  <a:pt x="12256" y="6776"/>
                  <a:pt x="12256" y="66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46680" y="2479680"/>
            <a:ext cx="171360" cy="69840"/>
          </a:xfrm>
          <a:custGeom>
            <a:avLst/>
            <a:gdLst/>
            <a:ahLst/>
            <a:rect l="l" t="t" r="r" b="b"/>
            <a:pathLst>
              <a:path w="477" h="191">
                <a:moveTo>
                  <a:pt x="13462" y="6922"/>
                </a:moveTo>
                <a:cubicBezTo>
                  <a:pt x="13578" y="6922"/>
                  <a:pt x="13673" y="6907"/>
                  <a:pt x="13780" y="6890"/>
                </a:cubicBezTo>
                <a:cubicBezTo>
                  <a:pt x="13801" y="6890"/>
                  <a:pt x="13822" y="6890"/>
                  <a:pt x="13843" y="6890"/>
                </a:cubicBezTo>
              </a:path>
              <a:path w="477" h="191">
                <a:moveTo>
                  <a:pt x="13526" y="7080"/>
                </a:moveTo>
                <a:cubicBezTo>
                  <a:pt x="13669" y="7080"/>
                  <a:pt x="13778" y="7056"/>
                  <a:pt x="13906" y="7017"/>
                </a:cubicBezTo>
                <a:cubicBezTo>
                  <a:pt x="13917" y="7017"/>
                  <a:pt x="13927" y="7017"/>
                  <a:pt x="13938" y="7017"/>
                </a:cubicBezTo>
              </a:path>
            </a:pathLst>
          </a:custGeom>
          <a:noFill/>
          <a:ln cap="rnd" w="34920">
            <a:solidFill>
              <a:srgbClr val="ff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7" name=""/>
          <p:cNvSpPr/>
          <p:nvPr/>
        </p:nvSpPr>
        <p:spPr>
          <a:xfrm>
            <a:off x="5337000" y="2343240"/>
            <a:ext cx="149400" cy="296640"/>
          </a:xfrm>
          <a:custGeom>
            <a:avLst/>
            <a:gdLst/>
            <a:ahLst/>
            <a:rect l="l" t="t" r="r" b="b"/>
            <a:pathLst>
              <a:path w="414" h="826">
                <a:moveTo>
                  <a:pt x="15240" y="6763"/>
                </a:moveTo>
                <a:cubicBezTo>
                  <a:pt x="15227" y="6683"/>
                  <a:pt x="15193" y="6513"/>
                  <a:pt x="15081" y="6509"/>
                </a:cubicBezTo>
                <a:cubicBezTo>
                  <a:pt x="14851" y="6500"/>
                  <a:pt x="14750" y="6791"/>
                  <a:pt x="14891" y="6953"/>
                </a:cubicBezTo>
                <a:cubicBezTo>
                  <a:pt x="15080" y="7170"/>
                  <a:pt x="15196" y="6711"/>
                  <a:pt x="15208" y="6636"/>
                </a:cubicBezTo>
                <a:cubicBezTo>
                  <a:pt x="15208" y="6615"/>
                  <a:pt x="15208" y="6593"/>
                  <a:pt x="15208" y="6572"/>
                </a:cubicBezTo>
                <a:cubicBezTo>
                  <a:pt x="15233" y="6796"/>
                  <a:pt x="15240" y="7012"/>
                  <a:pt x="15240" y="7239"/>
                </a:cubicBezTo>
                <a:cubicBezTo>
                  <a:pt x="15240" y="7271"/>
                  <a:pt x="15240" y="7302"/>
                  <a:pt x="15240" y="733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635800" y="2309760"/>
            <a:ext cx="296640" cy="297000"/>
          </a:xfrm>
          <a:custGeom>
            <a:avLst/>
            <a:gdLst/>
            <a:ahLst/>
            <a:rect l="l" t="t" r="r" b="b"/>
            <a:pathLst>
              <a:path w="826" h="826">
                <a:moveTo>
                  <a:pt x="16034" y="6509"/>
                </a:moveTo>
                <a:cubicBezTo>
                  <a:pt x="16055" y="6447"/>
                  <a:pt x="16117" y="6489"/>
                  <a:pt x="16192" y="6477"/>
                </a:cubicBezTo>
                <a:cubicBezTo>
                  <a:pt x="16198" y="6476"/>
                  <a:pt x="16469" y="6456"/>
                  <a:pt x="16478" y="6445"/>
                </a:cubicBezTo>
                <a:cubicBezTo>
                  <a:pt x="16512" y="6404"/>
                  <a:pt x="16451" y="6553"/>
                  <a:pt x="16446" y="6604"/>
                </a:cubicBezTo>
                <a:cubicBezTo>
                  <a:pt x="16431" y="6763"/>
                  <a:pt x="16391" y="6922"/>
                  <a:pt x="16383" y="7080"/>
                </a:cubicBezTo>
                <a:cubicBezTo>
                  <a:pt x="16380" y="7147"/>
                  <a:pt x="16365" y="7152"/>
                  <a:pt x="16351" y="7207"/>
                </a:cubicBezTo>
              </a:path>
              <a:path w="826" h="826">
                <a:moveTo>
                  <a:pt x="15653" y="7239"/>
                </a:moveTo>
                <a:cubicBezTo>
                  <a:pt x="15653" y="7187"/>
                  <a:pt x="15668" y="7223"/>
                  <a:pt x="15684" y="7176"/>
                </a:cubicBezTo>
              </a:path>
              <a:path w="826" h="826">
                <a:moveTo>
                  <a:pt x="15716" y="7207"/>
                </a:moveTo>
                <a:lnTo>
                  <a:pt x="15716" y="7207"/>
                </a:lnTo>
              </a:path>
              <a:path w="826" h="826">
                <a:moveTo>
                  <a:pt x="15716" y="7239"/>
                </a:moveTo>
                <a:cubicBezTo>
                  <a:pt x="15727" y="7239"/>
                  <a:pt x="15737" y="7239"/>
                  <a:pt x="15748" y="72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43040" y="3451320"/>
            <a:ext cx="1760400" cy="652320"/>
          </a:xfrm>
          <a:custGeom>
            <a:avLst/>
            <a:gdLst/>
            <a:ahLst/>
            <a:rect l="l" t="t" r="r" b="b"/>
            <a:pathLst>
              <a:path w="4890" h="1811">
                <a:moveTo>
                  <a:pt x="3048" y="9588"/>
                </a:moveTo>
                <a:cubicBezTo>
                  <a:pt x="3048" y="9784"/>
                  <a:pt x="3004" y="9966"/>
                  <a:pt x="2984" y="10160"/>
                </a:cubicBezTo>
                <a:cubicBezTo>
                  <a:pt x="2984" y="10234"/>
                  <a:pt x="2984" y="10245"/>
                  <a:pt x="2984" y="10287"/>
                </a:cubicBezTo>
              </a:path>
              <a:path w="4890" h="1811">
                <a:moveTo>
                  <a:pt x="3048" y="9620"/>
                </a:moveTo>
                <a:cubicBezTo>
                  <a:pt x="3147" y="9739"/>
                  <a:pt x="3263" y="9827"/>
                  <a:pt x="3366" y="9938"/>
                </a:cubicBezTo>
                <a:cubicBezTo>
                  <a:pt x="3416" y="10014"/>
                  <a:pt x="3421" y="10029"/>
                  <a:pt x="3461" y="10065"/>
                </a:cubicBezTo>
                <a:cubicBezTo>
                  <a:pt x="3563" y="10030"/>
                  <a:pt x="3505" y="9772"/>
                  <a:pt x="3524" y="9684"/>
                </a:cubicBezTo>
                <a:cubicBezTo>
                  <a:pt x="3553" y="9655"/>
                  <a:pt x="3564" y="9649"/>
                  <a:pt x="3556" y="9620"/>
                </a:cubicBezTo>
              </a:path>
              <a:path w="4890" h="1811">
                <a:moveTo>
                  <a:pt x="2508" y="10319"/>
                </a:moveTo>
                <a:cubicBezTo>
                  <a:pt x="2789" y="10319"/>
                  <a:pt x="3053" y="10312"/>
                  <a:pt x="3334" y="10319"/>
                </a:cubicBezTo>
                <a:cubicBezTo>
                  <a:pt x="3477" y="10323"/>
                  <a:pt x="3622" y="10304"/>
                  <a:pt x="3746" y="10350"/>
                </a:cubicBezTo>
              </a:path>
              <a:path w="4890" h="1811">
                <a:moveTo>
                  <a:pt x="3302" y="10700"/>
                </a:moveTo>
                <a:cubicBezTo>
                  <a:pt x="3302" y="10638"/>
                  <a:pt x="3300" y="10622"/>
                  <a:pt x="3270" y="10573"/>
                </a:cubicBezTo>
                <a:cubicBezTo>
                  <a:pt x="3088" y="10552"/>
                  <a:pt x="2984" y="10708"/>
                  <a:pt x="2921" y="10890"/>
                </a:cubicBezTo>
                <a:cubicBezTo>
                  <a:pt x="2921" y="10911"/>
                  <a:pt x="2921" y="10933"/>
                  <a:pt x="2921" y="10954"/>
                </a:cubicBezTo>
                <a:cubicBezTo>
                  <a:pt x="3117" y="10974"/>
                  <a:pt x="3159" y="10883"/>
                  <a:pt x="3270" y="10732"/>
                </a:cubicBezTo>
                <a:cubicBezTo>
                  <a:pt x="3299" y="10703"/>
                  <a:pt x="3310" y="10688"/>
                  <a:pt x="3302" y="10732"/>
                </a:cubicBezTo>
                <a:cubicBezTo>
                  <a:pt x="3288" y="10937"/>
                  <a:pt x="3239" y="11132"/>
                  <a:pt x="3207" y="11335"/>
                </a:cubicBezTo>
                <a:cubicBezTo>
                  <a:pt x="3205" y="11346"/>
                  <a:pt x="3207" y="11451"/>
                  <a:pt x="3207" y="11366"/>
                </a:cubicBezTo>
              </a:path>
              <a:path w="4890" h="1811">
                <a:moveTo>
                  <a:pt x="4000" y="10509"/>
                </a:moveTo>
                <a:cubicBezTo>
                  <a:pt x="4040" y="10509"/>
                  <a:pt x="4246" y="10461"/>
                  <a:pt x="4254" y="10478"/>
                </a:cubicBezTo>
                <a:cubicBezTo>
                  <a:pt x="4244" y="10499"/>
                  <a:pt x="4233" y="10520"/>
                  <a:pt x="4223" y="10541"/>
                </a:cubicBezTo>
              </a:path>
              <a:path w="4890" h="1811">
                <a:moveTo>
                  <a:pt x="3969" y="10732"/>
                </a:moveTo>
                <a:cubicBezTo>
                  <a:pt x="4094" y="10732"/>
                  <a:pt x="4198" y="10711"/>
                  <a:pt x="4318" y="10700"/>
                </a:cubicBezTo>
              </a:path>
              <a:path w="4890" h="1811">
                <a:moveTo>
                  <a:pt x="4826" y="10287"/>
                </a:moveTo>
                <a:cubicBezTo>
                  <a:pt x="4826" y="10477"/>
                  <a:pt x="4826" y="10668"/>
                  <a:pt x="4826" y="10858"/>
                </a:cubicBezTo>
              </a:path>
              <a:path w="4890" h="1811">
                <a:moveTo>
                  <a:pt x="5144" y="10287"/>
                </a:moveTo>
                <a:cubicBezTo>
                  <a:pt x="5177" y="10274"/>
                  <a:pt x="5351" y="10157"/>
                  <a:pt x="5398" y="10224"/>
                </a:cubicBezTo>
                <a:cubicBezTo>
                  <a:pt x="5527" y="10407"/>
                  <a:pt x="5333" y="10596"/>
                  <a:pt x="5239" y="10732"/>
                </a:cubicBezTo>
                <a:cubicBezTo>
                  <a:pt x="5218" y="10764"/>
                  <a:pt x="5196" y="10795"/>
                  <a:pt x="5175" y="10827"/>
                </a:cubicBezTo>
                <a:cubicBezTo>
                  <a:pt x="5106" y="10827"/>
                  <a:pt x="5288" y="10735"/>
                  <a:pt x="5302" y="10732"/>
                </a:cubicBezTo>
                <a:cubicBezTo>
                  <a:pt x="5434" y="10701"/>
                  <a:pt x="5562" y="10788"/>
                  <a:pt x="5683" y="10763"/>
                </a:cubicBezTo>
                <a:cubicBezTo>
                  <a:pt x="5735" y="10738"/>
                  <a:pt x="5743" y="10727"/>
                  <a:pt x="5778" y="10732"/>
                </a:cubicBezTo>
              </a:path>
              <a:path w="4890" h="1811">
                <a:moveTo>
                  <a:pt x="2064" y="10160"/>
                </a:moveTo>
                <a:cubicBezTo>
                  <a:pt x="2136" y="10246"/>
                  <a:pt x="2197" y="10314"/>
                  <a:pt x="2222" y="10414"/>
                </a:cubicBezTo>
              </a:path>
              <a:path w="4890" h="1811">
                <a:moveTo>
                  <a:pt x="2222" y="10033"/>
                </a:moveTo>
                <a:cubicBezTo>
                  <a:pt x="2202" y="10157"/>
                  <a:pt x="2155" y="10302"/>
                  <a:pt x="2096" y="10414"/>
                </a:cubicBezTo>
                <a:cubicBezTo>
                  <a:pt x="2067" y="10443"/>
                  <a:pt x="2056" y="10458"/>
                  <a:pt x="2064" y="10414"/>
                </a:cubicBezTo>
              </a:path>
              <a:path w="4890" h="1811">
                <a:moveTo>
                  <a:pt x="6001" y="10382"/>
                </a:moveTo>
                <a:cubicBezTo>
                  <a:pt x="6080" y="10501"/>
                  <a:pt x="6154" y="10599"/>
                  <a:pt x="6255" y="10700"/>
                </a:cubicBezTo>
              </a:path>
              <a:path w="4890" h="1811">
                <a:moveTo>
                  <a:pt x="6160" y="10287"/>
                </a:moveTo>
                <a:cubicBezTo>
                  <a:pt x="6120" y="10414"/>
                  <a:pt x="6086" y="10561"/>
                  <a:pt x="6032" y="10668"/>
                </a:cubicBezTo>
              </a:path>
              <a:path w="4890" h="1811">
                <a:moveTo>
                  <a:pt x="6953" y="10319"/>
                </a:moveTo>
                <a:cubicBezTo>
                  <a:pt x="6889" y="10239"/>
                  <a:pt x="6756" y="10097"/>
                  <a:pt x="6636" y="10224"/>
                </a:cubicBezTo>
                <a:cubicBezTo>
                  <a:pt x="6546" y="10319"/>
                  <a:pt x="6593" y="10401"/>
                  <a:pt x="6636" y="10478"/>
                </a:cubicBezTo>
                <a:cubicBezTo>
                  <a:pt x="6794" y="10451"/>
                  <a:pt x="6793" y="10391"/>
                  <a:pt x="6890" y="10319"/>
                </a:cubicBezTo>
                <a:cubicBezTo>
                  <a:pt x="6902" y="10448"/>
                  <a:pt x="6922" y="10570"/>
                  <a:pt x="6922" y="1070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863880" y="4011480"/>
            <a:ext cx="1257480" cy="320760"/>
          </a:xfrm>
          <a:custGeom>
            <a:avLst/>
            <a:gdLst/>
            <a:ahLst/>
            <a:rect l="l" t="t" r="r" b="b"/>
            <a:pathLst>
              <a:path w="3493" h="890">
                <a:moveTo>
                  <a:pt x="10732" y="11525"/>
                </a:moveTo>
                <a:cubicBezTo>
                  <a:pt x="10778" y="11735"/>
                  <a:pt x="10805" y="11828"/>
                  <a:pt x="10763" y="12033"/>
                </a:cubicBezTo>
                <a:cubicBezTo>
                  <a:pt x="10737" y="11819"/>
                  <a:pt x="10659" y="11498"/>
                  <a:pt x="10795" y="11303"/>
                </a:cubicBezTo>
                <a:cubicBezTo>
                  <a:pt x="10806" y="11303"/>
                  <a:pt x="10816" y="11303"/>
                  <a:pt x="10827" y="11303"/>
                </a:cubicBezTo>
                <a:cubicBezTo>
                  <a:pt x="10972" y="11530"/>
                  <a:pt x="11088" y="11786"/>
                  <a:pt x="11271" y="11970"/>
                </a:cubicBezTo>
                <a:cubicBezTo>
                  <a:pt x="11279" y="11866"/>
                  <a:pt x="11215" y="11203"/>
                  <a:pt x="11303" y="11176"/>
                </a:cubicBezTo>
                <a:cubicBezTo>
                  <a:pt x="11324" y="11197"/>
                  <a:pt x="11345" y="11219"/>
                  <a:pt x="11366" y="11240"/>
                </a:cubicBezTo>
              </a:path>
              <a:path w="3493" h="890">
                <a:moveTo>
                  <a:pt x="11684" y="11525"/>
                </a:moveTo>
                <a:cubicBezTo>
                  <a:pt x="11810" y="11525"/>
                  <a:pt x="11981" y="11551"/>
                  <a:pt x="12097" y="11494"/>
                </a:cubicBezTo>
                <a:cubicBezTo>
                  <a:pt x="12086" y="11494"/>
                  <a:pt x="12076" y="11494"/>
                  <a:pt x="12065" y="11494"/>
                </a:cubicBezTo>
              </a:path>
              <a:path w="3493" h="890">
                <a:moveTo>
                  <a:pt x="11779" y="11843"/>
                </a:moveTo>
                <a:cubicBezTo>
                  <a:pt x="11964" y="11834"/>
                  <a:pt x="12080" y="11809"/>
                  <a:pt x="12256" y="11748"/>
                </a:cubicBezTo>
              </a:path>
              <a:path w="3493" h="890">
                <a:moveTo>
                  <a:pt x="12541" y="11176"/>
                </a:moveTo>
                <a:cubicBezTo>
                  <a:pt x="12567" y="11431"/>
                  <a:pt x="12630" y="11682"/>
                  <a:pt x="12668" y="11938"/>
                </a:cubicBezTo>
                <a:cubicBezTo>
                  <a:pt x="12668" y="12007"/>
                  <a:pt x="12685" y="11985"/>
                  <a:pt x="12732" y="11843"/>
                </a:cubicBezTo>
              </a:path>
              <a:path w="3493" h="890">
                <a:moveTo>
                  <a:pt x="13144" y="11208"/>
                </a:moveTo>
                <a:cubicBezTo>
                  <a:pt x="13055" y="11413"/>
                  <a:pt x="12979" y="11711"/>
                  <a:pt x="13081" y="11938"/>
                </a:cubicBezTo>
                <a:cubicBezTo>
                  <a:pt x="13113" y="11970"/>
                  <a:pt x="13144" y="12001"/>
                  <a:pt x="13176" y="12033"/>
                </a:cubicBezTo>
                <a:cubicBezTo>
                  <a:pt x="13499" y="11905"/>
                  <a:pt x="13647" y="11739"/>
                  <a:pt x="13526" y="11366"/>
                </a:cubicBezTo>
                <a:cubicBezTo>
                  <a:pt x="13456" y="11150"/>
                  <a:pt x="13306" y="11147"/>
                  <a:pt x="13144" y="11240"/>
                </a:cubicBezTo>
              </a:path>
              <a:path w="3493" h="890">
                <a:moveTo>
                  <a:pt x="14034" y="11144"/>
                </a:moveTo>
                <a:cubicBezTo>
                  <a:pt x="13811" y="11239"/>
                  <a:pt x="13736" y="11302"/>
                  <a:pt x="13652" y="11525"/>
                </a:cubicBezTo>
                <a:cubicBezTo>
                  <a:pt x="13752" y="11592"/>
                  <a:pt x="14232" y="11678"/>
                  <a:pt x="14224" y="11811"/>
                </a:cubicBezTo>
                <a:cubicBezTo>
                  <a:pt x="14135" y="11931"/>
                  <a:pt x="14112" y="11971"/>
                  <a:pt x="14002" y="11970"/>
                </a:cubicBezTo>
                <a:cubicBezTo>
                  <a:pt x="13852" y="11714"/>
                  <a:pt x="14105" y="11647"/>
                  <a:pt x="14160" y="11366"/>
                </a:cubicBezTo>
                <a:cubicBezTo>
                  <a:pt x="14192" y="11202"/>
                  <a:pt x="13962" y="11279"/>
                  <a:pt x="13906" y="1130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1000" y="4365720"/>
            <a:ext cx="160200" cy="69840"/>
          </a:xfrm>
          <a:custGeom>
            <a:avLst/>
            <a:gdLst/>
            <a:ahLst/>
            <a:rect l="l" t="t" r="r" b="b"/>
            <a:pathLst>
              <a:path w="445" h="192">
                <a:moveTo>
                  <a:pt x="4223" y="12224"/>
                </a:moveTo>
                <a:cubicBezTo>
                  <a:pt x="4327" y="12203"/>
                  <a:pt x="4433" y="12152"/>
                  <a:pt x="4540" y="12128"/>
                </a:cubicBezTo>
                <a:cubicBezTo>
                  <a:pt x="4551" y="12128"/>
                  <a:pt x="4561" y="12128"/>
                  <a:pt x="4572" y="12128"/>
                </a:cubicBezTo>
              </a:path>
              <a:path w="445" h="192">
                <a:moveTo>
                  <a:pt x="4350" y="12319"/>
                </a:moveTo>
                <a:cubicBezTo>
                  <a:pt x="4464" y="12319"/>
                  <a:pt x="4553" y="12295"/>
                  <a:pt x="4667" y="12287"/>
                </a:cubicBezTo>
              </a:path>
            </a:pathLst>
          </a:custGeom>
          <a:noFill/>
          <a:ln cap="rnd" w="34920">
            <a:solidFill>
              <a:srgbClr val="ff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2" name=""/>
          <p:cNvSpPr/>
          <p:nvPr/>
        </p:nvSpPr>
        <p:spPr>
          <a:xfrm>
            <a:off x="2022480" y="4160880"/>
            <a:ext cx="412920" cy="239760"/>
          </a:xfrm>
          <a:custGeom>
            <a:avLst/>
            <a:gdLst/>
            <a:ahLst/>
            <a:rect l="l" t="t" r="r" b="b"/>
            <a:pathLst>
              <a:path w="1144" h="668">
                <a:moveTo>
                  <a:pt x="5652" y="11748"/>
                </a:moveTo>
                <a:cubicBezTo>
                  <a:pt x="5652" y="11904"/>
                  <a:pt x="5645" y="12042"/>
                  <a:pt x="5620" y="12192"/>
                </a:cubicBezTo>
                <a:cubicBezTo>
                  <a:pt x="5620" y="12203"/>
                  <a:pt x="5620" y="12213"/>
                  <a:pt x="5620" y="12224"/>
                </a:cubicBezTo>
              </a:path>
              <a:path w="1144" h="668">
                <a:moveTo>
                  <a:pt x="6223" y="11684"/>
                </a:moveTo>
                <a:cubicBezTo>
                  <a:pt x="6111" y="11712"/>
                  <a:pt x="6049" y="11836"/>
                  <a:pt x="6001" y="11938"/>
                </a:cubicBezTo>
                <a:cubicBezTo>
                  <a:pt x="5970" y="12030"/>
                  <a:pt x="5957" y="12059"/>
                  <a:pt x="6032" y="12097"/>
                </a:cubicBezTo>
                <a:cubicBezTo>
                  <a:pt x="6188" y="12107"/>
                  <a:pt x="6452" y="12055"/>
                  <a:pt x="6414" y="11811"/>
                </a:cubicBezTo>
                <a:cubicBezTo>
                  <a:pt x="6391" y="11666"/>
                  <a:pt x="6220" y="11785"/>
                  <a:pt x="6255" y="11684"/>
                </a:cubicBezTo>
              </a:path>
              <a:path w="1144" h="668">
                <a:moveTo>
                  <a:pt x="6763" y="11557"/>
                </a:moveTo>
                <a:cubicBezTo>
                  <a:pt x="6667" y="11589"/>
                  <a:pt x="6552" y="11654"/>
                  <a:pt x="6572" y="11779"/>
                </a:cubicBezTo>
                <a:cubicBezTo>
                  <a:pt x="6591" y="11901"/>
                  <a:pt x="6793" y="11936"/>
                  <a:pt x="6763" y="12065"/>
                </a:cubicBezTo>
                <a:cubicBezTo>
                  <a:pt x="6752" y="12076"/>
                  <a:pt x="6742" y="12086"/>
                  <a:pt x="6731" y="12097"/>
                </a:cubicBezTo>
                <a:cubicBezTo>
                  <a:pt x="6577" y="12062"/>
                  <a:pt x="6618" y="11963"/>
                  <a:pt x="6699" y="11811"/>
                </a:cubicBezTo>
                <a:cubicBezTo>
                  <a:pt x="6748" y="11739"/>
                  <a:pt x="6769" y="11735"/>
                  <a:pt x="6763" y="1168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33440" y="3417840"/>
            <a:ext cx="847800" cy="1143000"/>
          </a:xfrm>
          <a:custGeom>
            <a:avLst/>
            <a:gdLst/>
            <a:ahLst/>
            <a:rect l="l" t="t" r="r" b="b"/>
            <a:pathLst>
              <a:path w="2351" h="3176">
                <a:moveTo>
                  <a:pt x="1588" y="9779"/>
                </a:moveTo>
                <a:cubicBezTo>
                  <a:pt x="1648" y="9758"/>
                  <a:pt x="1623" y="9678"/>
                  <a:pt x="1588" y="9620"/>
                </a:cubicBezTo>
                <a:cubicBezTo>
                  <a:pt x="1565" y="9583"/>
                  <a:pt x="1469" y="9561"/>
                  <a:pt x="1429" y="9557"/>
                </a:cubicBezTo>
                <a:cubicBezTo>
                  <a:pt x="1369" y="9551"/>
                  <a:pt x="1301" y="9603"/>
                  <a:pt x="1270" y="9652"/>
                </a:cubicBezTo>
                <a:cubicBezTo>
                  <a:pt x="1239" y="9713"/>
                  <a:pt x="1229" y="9732"/>
                  <a:pt x="1238" y="9779"/>
                </a:cubicBezTo>
                <a:cubicBezTo>
                  <a:pt x="1276" y="9792"/>
                  <a:pt x="1387" y="9854"/>
                  <a:pt x="1460" y="9811"/>
                </a:cubicBezTo>
                <a:cubicBezTo>
                  <a:pt x="1499" y="9788"/>
                  <a:pt x="1552" y="9661"/>
                  <a:pt x="1556" y="9620"/>
                </a:cubicBezTo>
                <a:cubicBezTo>
                  <a:pt x="1556" y="9588"/>
                  <a:pt x="1556" y="9577"/>
                  <a:pt x="1556" y="9620"/>
                </a:cubicBezTo>
                <a:cubicBezTo>
                  <a:pt x="1556" y="9800"/>
                  <a:pt x="1556" y="9980"/>
                  <a:pt x="1556" y="10160"/>
                </a:cubicBezTo>
              </a:path>
              <a:path w="2351" h="3176">
                <a:moveTo>
                  <a:pt x="1206" y="10700"/>
                </a:moveTo>
                <a:cubicBezTo>
                  <a:pt x="1297" y="10579"/>
                  <a:pt x="1590" y="10602"/>
                  <a:pt x="1746" y="10573"/>
                </a:cubicBezTo>
                <a:cubicBezTo>
                  <a:pt x="1841" y="10549"/>
                  <a:pt x="1883" y="10505"/>
                  <a:pt x="1873" y="10573"/>
                </a:cubicBezTo>
              </a:path>
              <a:path w="2351" h="3176">
                <a:moveTo>
                  <a:pt x="1492" y="10858"/>
                </a:moveTo>
                <a:cubicBezTo>
                  <a:pt x="1505" y="10988"/>
                  <a:pt x="1524" y="11106"/>
                  <a:pt x="1524" y="11240"/>
                </a:cubicBezTo>
                <a:cubicBezTo>
                  <a:pt x="1524" y="11250"/>
                  <a:pt x="1524" y="11261"/>
                  <a:pt x="1524" y="11271"/>
                </a:cubicBezTo>
              </a:path>
              <a:path w="2351" h="3176">
                <a:moveTo>
                  <a:pt x="1270" y="9493"/>
                </a:moveTo>
                <a:cubicBezTo>
                  <a:pt x="1284" y="9606"/>
                  <a:pt x="1306" y="9622"/>
                  <a:pt x="1397" y="9716"/>
                </a:cubicBezTo>
                <a:cubicBezTo>
                  <a:pt x="1527" y="9852"/>
                  <a:pt x="1645" y="9994"/>
                  <a:pt x="1778" y="10128"/>
                </a:cubicBezTo>
                <a:cubicBezTo>
                  <a:pt x="1889" y="10239"/>
                  <a:pt x="2005" y="10384"/>
                  <a:pt x="2127" y="10478"/>
                </a:cubicBezTo>
                <a:cubicBezTo>
                  <a:pt x="2171" y="10512"/>
                  <a:pt x="2204" y="10561"/>
                  <a:pt x="2254" y="10604"/>
                </a:cubicBezTo>
                <a:cubicBezTo>
                  <a:pt x="2310" y="10652"/>
                  <a:pt x="2397" y="10693"/>
                  <a:pt x="2445" y="10732"/>
                </a:cubicBezTo>
                <a:cubicBezTo>
                  <a:pt x="2498" y="10775"/>
                  <a:pt x="2557" y="10825"/>
                  <a:pt x="2604" y="10858"/>
                </a:cubicBezTo>
                <a:cubicBezTo>
                  <a:pt x="2668" y="10902"/>
                  <a:pt x="2724" y="10950"/>
                  <a:pt x="2794" y="10986"/>
                </a:cubicBezTo>
                <a:cubicBezTo>
                  <a:pt x="2841" y="11010"/>
                  <a:pt x="2918" y="11054"/>
                  <a:pt x="2953" y="11081"/>
                </a:cubicBezTo>
                <a:cubicBezTo>
                  <a:pt x="3012" y="11127"/>
                  <a:pt x="3052" y="11134"/>
                  <a:pt x="3112" y="11176"/>
                </a:cubicBezTo>
                <a:cubicBezTo>
                  <a:pt x="3135" y="11192"/>
                  <a:pt x="3144" y="11220"/>
                  <a:pt x="3175" y="11240"/>
                </a:cubicBezTo>
                <a:cubicBezTo>
                  <a:pt x="3221" y="11270"/>
                  <a:pt x="3241" y="11280"/>
                  <a:pt x="3270" y="11303"/>
                </a:cubicBezTo>
              </a:path>
              <a:path w="2351" h="3176">
                <a:moveTo>
                  <a:pt x="2889" y="11589"/>
                </a:moveTo>
                <a:cubicBezTo>
                  <a:pt x="2985" y="11612"/>
                  <a:pt x="3000" y="11750"/>
                  <a:pt x="3016" y="11843"/>
                </a:cubicBezTo>
                <a:cubicBezTo>
                  <a:pt x="3016" y="11896"/>
                  <a:pt x="3016" y="11906"/>
                  <a:pt x="3016" y="11938"/>
                </a:cubicBezTo>
                <a:cubicBezTo>
                  <a:pt x="2995" y="11831"/>
                  <a:pt x="2962" y="11734"/>
                  <a:pt x="2953" y="11620"/>
                </a:cubicBezTo>
                <a:cubicBezTo>
                  <a:pt x="3054" y="11672"/>
                  <a:pt x="3161" y="11825"/>
                  <a:pt x="3270" y="11906"/>
                </a:cubicBezTo>
                <a:cubicBezTo>
                  <a:pt x="3322" y="11932"/>
                  <a:pt x="3330" y="11943"/>
                  <a:pt x="3366" y="11938"/>
                </a:cubicBezTo>
                <a:cubicBezTo>
                  <a:pt x="3366" y="11813"/>
                  <a:pt x="3357" y="11712"/>
                  <a:pt x="3334" y="11589"/>
                </a:cubicBezTo>
              </a:path>
              <a:path w="2351" h="3176">
                <a:moveTo>
                  <a:pt x="2984" y="12128"/>
                </a:moveTo>
                <a:cubicBezTo>
                  <a:pt x="3165" y="12112"/>
                  <a:pt x="3341" y="12073"/>
                  <a:pt x="3524" y="12065"/>
                </a:cubicBezTo>
                <a:cubicBezTo>
                  <a:pt x="3535" y="12065"/>
                  <a:pt x="3545" y="12065"/>
                  <a:pt x="3556" y="12065"/>
                </a:cubicBezTo>
              </a:path>
              <a:path w="2351" h="3176">
                <a:moveTo>
                  <a:pt x="3270" y="12287"/>
                </a:moveTo>
                <a:cubicBezTo>
                  <a:pt x="3279" y="12409"/>
                  <a:pt x="3305" y="12532"/>
                  <a:pt x="3334" y="12636"/>
                </a:cubicBezTo>
                <a:cubicBezTo>
                  <a:pt x="3334" y="12647"/>
                  <a:pt x="3334" y="12657"/>
                  <a:pt x="3334" y="126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611520" y="5064120"/>
            <a:ext cx="628560" cy="765360"/>
          </a:xfrm>
          <a:custGeom>
            <a:avLst/>
            <a:gdLst/>
            <a:ahLst/>
            <a:rect l="l" t="t" r="r" b="b"/>
            <a:pathLst>
              <a:path w="1747" h="2128">
                <a:moveTo>
                  <a:pt x="10192" y="15462"/>
                </a:moveTo>
                <a:cubicBezTo>
                  <a:pt x="10171" y="15446"/>
                  <a:pt x="10071" y="15437"/>
                  <a:pt x="10065" y="15430"/>
                </a:cubicBezTo>
                <a:cubicBezTo>
                  <a:pt x="10045" y="15405"/>
                  <a:pt x="10044" y="15401"/>
                  <a:pt x="10033" y="15367"/>
                </a:cubicBezTo>
                <a:cubicBezTo>
                  <a:pt x="10084" y="15384"/>
                  <a:pt x="10134" y="15420"/>
                  <a:pt x="10224" y="15430"/>
                </a:cubicBezTo>
                <a:cubicBezTo>
                  <a:pt x="10382" y="15448"/>
                  <a:pt x="10541" y="15444"/>
                  <a:pt x="10700" y="15462"/>
                </a:cubicBezTo>
                <a:cubicBezTo>
                  <a:pt x="11003" y="15497"/>
                  <a:pt x="11324" y="15545"/>
                  <a:pt x="11620" y="15621"/>
                </a:cubicBezTo>
                <a:cubicBezTo>
                  <a:pt x="11622" y="15622"/>
                  <a:pt x="11829" y="15653"/>
                  <a:pt x="11748" y="15653"/>
                </a:cubicBezTo>
              </a:path>
              <a:path w="1747" h="2128">
                <a:moveTo>
                  <a:pt x="10890" y="15684"/>
                </a:moveTo>
                <a:cubicBezTo>
                  <a:pt x="10895" y="15649"/>
                  <a:pt x="10964" y="15549"/>
                  <a:pt x="10954" y="15526"/>
                </a:cubicBezTo>
                <a:cubicBezTo>
                  <a:pt x="10943" y="15515"/>
                  <a:pt x="10933" y="15505"/>
                  <a:pt x="10922" y="15494"/>
                </a:cubicBezTo>
                <a:cubicBezTo>
                  <a:pt x="10762" y="15570"/>
                  <a:pt x="10671" y="15628"/>
                  <a:pt x="10541" y="15748"/>
                </a:cubicBezTo>
                <a:cubicBezTo>
                  <a:pt x="10671" y="15878"/>
                  <a:pt x="10921" y="15762"/>
                  <a:pt x="11017" y="15938"/>
                </a:cubicBezTo>
                <a:cubicBezTo>
                  <a:pt x="11077" y="16049"/>
                  <a:pt x="10840" y="16163"/>
                  <a:pt x="10795" y="16192"/>
                </a:cubicBezTo>
                <a:cubicBezTo>
                  <a:pt x="10763" y="15986"/>
                  <a:pt x="10851" y="15879"/>
                  <a:pt x="10922" y="15684"/>
                </a:cubicBezTo>
                <a:cubicBezTo>
                  <a:pt x="10941" y="15632"/>
                  <a:pt x="10901" y="15652"/>
                  <a:pt x="10890" y="15684"/>
                </a:cubicBezTo>
              </a:path>
              <a:path w="1747" h="2128">
                <a:moveTo>
                  <a:pt x="10160" y="14065"/>
                </a:moveTo>
                <a:cubicBezTo>
                  <a:pt x="10248" y="14128"/>
                  <a:pt x="10256" y="14153"/>
                  <a:pt x="10287" y="14288"/>
                </a:cubicBezTo>
                <a:cubicBezTo>
                  <a:pt x="10354" y="14578"/>
                  <a:pt x="10462" y="14857"/>
                  <a:pt x="10541" y="15145"/>
                </a:cubicBezTo>
                <a:cubicBezTo>
                  <a:pt x="10584" y="15304"/>
                  <a:pt x="10617" y="15464"/>
                  <a:pt x="10668" y="15621"/>
                </a:cubicBezTo>
                <a:cubicBezTo>
                  <a:pt x="10704" y="15731"/>
                  <a:pt x="10700" y="15823"/>
                  <a:pt x="10700" y="15938"/>
                </a:cubicBezTo>
                <a:cubicBezTo>
                  <a:pt x="10700" y="15991"/>
                  <a:pt x="10700" y="16044"/>
                  <a:pt x="10700" y="160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765680" y="5543640"/>
            <a:ext cx="755640" cy="241200"/>
          </a:xfrm>
          <a:custGeom>
            <a:avLst/>
            <a:gdLst/>
            <a:ahLst/>
            <a:rect l="l" t="t" r="r" b="b"/>
            <a:pathLst>
              <a:path w="2096" h="668">
                <a:moveTo>
                  <a:pt x="13240" y="15462"/>
                </a:moveTo>
                <a:cubicBezTo>
                  <a:pt x="13729" y="15462"/>
                  <a:pt x="14214" y="15452"/>
                  <a:pt x="14700" y="15430"/>
                </a:cubicBezTo>
                <a:cubicBezTo>
                  <a:pt x="14903" y="15421"/>
                  <a:pt x="15101" y="15399"/>
                  <a:pt x="15304" y="15399"/>
                </a:cubicBezTo>
                <a:cubicBezTo>
                  <a:pt x="15335" y="15399"/>
                  <a:pt x="15345" y="15399"/>
                  <a:pt x="15304" y="15399"/>
                </a:cubicBezTo>
              </a:path>
              <a:path w="2096" h="668">
                <a:moveTo>
                  <a:pt x="14414" y="15558"/>
                </a:moveTo>
                <a:cubicBezTo>
                  <a:pt x="14300" y="15558"/>
                  <a:pt x="14175" y="15592"/>
                  <a:pt x="14065" y="15621"/>
                </a:cubicBezTo>
                <a:cubicBezTo>
                  <a:pt x="14033" y="15632"/>
                  <a:pt x="14002" y="15642"/>
                  <a:pt x="13970" y="15653"/>
                </a:cubicBezTo>
                <a:cubicBezTo>
                  <a:pt x="14026" y="15859"/>
                  <a:pt x="14222" y="15850"/>
                  <a:pt x="14383" y="16002"/>
                </a:cubicBezTo>
                <a:cubicBezTo>
                  <a:pt x="14383" y="16013"/>
                  <a:pt x="14383" y="16023"/>
                  <a:pt x="14383" y="16034"/>
                </a:cubicBezTo>
                <a:cubicBezTo>
                  <a:pt x="14278" y="16069"/>
                  <a:pt x="14098" y="16104"/>
                  <a:pt x="14065" y="15938"/>
                </a:cubicBezTo>
                <a:cubicBezTo>
                  <a:pt x="14036" y="15791"/>
                  <a:pt x="14359" y="15711"/>
                  <a:pt x="14414" y="15621"/>
                </a:cubicBezTo>
                <a:cubicBezTo>
                  <a:pt x="14414" y="15579"/>
                  <a:pt x="14404" y="15568"/>
                  <a:pt x="14351" y="1558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469200" y="4743360"/>
            <a:ext cx="1212840" cy="1121040"/>
          </a:xfrm>
          <a:custGeom>
            <a:avLst/>
            <a:gdLst/>
            <a:ahLst/>
            <a:rect l="l" t="t" r="r" b="b"/>
            <a:pathLst>
              <a:path w="3367" h="3113">
                <a:moveTo>
                  <a:pt x="19272" y="14224"/>
                </a:moveTo>
                <a:cubicBezTo>
                  <a:pt x="19367" y="14224"/>
                  <a:pt x="19437" y="14226"/>
                  <a:pt x="19526" y="14256"/>
                </a:cubicBezTo>
                <a:cubicBezTo>
                  <a:pt x="19456" y="14438"/>
                  <a:pt x="19429" y="14452"/>
                  <a:pt x="19272" y="14542"/>
                </a:cubicBezTo>
                <a:cubicBezTo>
                  <a:pt x="19360" y="14542"/>
                  <a:pt x="19515" y="14662"/>
                  <a:pt x="19494" y="14764"/>
                </a:cubicBezTo>
                <a:cubicBezTo>
                  <a:pt x="19444" y="15014"/>
                  <a:pt x="19172" y="14886"/>
                  <a:pt x="19082" y="14796"/>
                </a:cubicBezTo>
              </a:path>
              <a:path w="3367" h="3113">
                <a:moveTo>
                  <a:pt x="19717" y="14224"/>
                </a:moveTo>
                <a:cubicBezTo>
                  <a:pt x="19706" y="14277"/>
                  <a:pt x="19627" y="14517"/>
                  <a:pt x="19748" y="14542"/>
                </a:cubicBezTo>
                <a:cubicBezTo>
                  <a:pt x="19909" y="14576"/>
                  <a:pt x="19944" y="14515"/>
                  <a:pt x="20034" y="14414"/>
                </a:cubicBezTo>
              </a:path>
              <a:path w="3367" h="3113">
                <a:moveTo>
                  <a:pt x="20002" y="14097"/>
                </a:moveTo>
                <a:cubicBezTo>
                  <a:pt x="19960" y="14330"/>
                  <a:pt x="19917" y="14560"/>
                  <a:pt x="19907" y="14796"/>
                </a:cubicBezTo>
                <a:cubicBezTo>
                  <a:pt x="19907" y="14840"/>
                  <a:pt x="19919" y="14845"/>
                  <a:pt x="19971" y="14796"/>
                </a:cubicBezTo>
              </a:path>
              <a:path w="3367" h="3113">
                <a:moveTo>
                  <a:pt x="20161" y="14796"/>
                </a:moveTo>
                <a:lnTo>
                  <a:pt x="20161" y="14796"/>
                </a:lnTo>
                <a:lnTo>
                  <a:pt x="20161" y="14796"/>
                </a:lnTo>
              </a:path>
              <a:path w="3367" h="3113">
                <a:moveTo>
                  <a:pt x="20161" y="14796"/>
                </a:moveTo>
                <a:lnTo>
                  <a:pt x="20161" y="14796"/>
                </a:lnTo>
              </a:path>
              <a:path w="3367" h="3113">
                <a:moveTo>
                  <a:pt x="20606" y="14129"/>
                </a:moveTo>
                <a:cubicBezTo>
                  <a:pt x="20586" y="14267"/>
                  <a:pt x="20525" y="14374"/>
                  <a:pt x="20510" y="14510"/>
                </a:cubicBezTo>
                <a:cubicBezTo>
                  <a:pt x="20494" y="14654"/>
                  <a:pt x="20717" y="14515"/>
                  <a:pt x="20733" y="14510"/>
                </a:cubicBezTo>
              </a:path>
              <a:path w="3367" h="3113">
                <a:moveTo>
                  <a:pt x="20828" y="14129"/>
                </a:moveTo>
                <a:cubicBezTo>
                  <a:pt x="20733" y="14371"/>
                  <a:pt x="20657" y="14605"/>
                  <a:pt x="20606" y="14859"/>
                </a:cubicBezTo>
                <a:cubicBezTo>
                  <a:pt x="20606" y="14891"/>
                  <a:pt x="20606" y="14902"/>
                  <a:pt x="20574" y="14891"/>
                </a:cubicBezTo>
              </a:path>
              <a:path w="3367" h="3113">
                <a:moveTo>
                  <a:pt x="18828" y="15018"/>
                </a:moveTo>
                <a:cubicBezTo>
                  <a:pt x="18850" y="14797"/>
                  <a:pt x="18862" y="14574"/>
                  <a:pt x="18891" y="14351"/>
                </a:cubicBezTo>
                <a:cubicBezTo>
                  <a:pt x="18906" y="14238"/>
                  <a:pt x="18901" y="14099"/>
                  <a:pt x="19018" y="14065"/>
                </a:cubicBezTo>
                <a:cubicBezTo>
                  <a:pt x="19172" y="14020"/>
                  <a:pt x="19409" y="14112"/>
                  <a:pt x="19558" y="14129"/>
                </a:cubicBezTo>
                <a:cubicBezTo>
                  <a:pt x="19985" y="14179"/>
                  <a:pt x="20400" y="14195"/>
                  <a:pt x="20828" y="14160"/>
                </a:cubicBezTo>
                <a:cubicBezTo>
                  <a:pt x="20973" y="14148"/>
                  <a:pt x="21207" y="14074"/>
                  <a:pt x="21336" y="14160"/>
                </a:cubicBezTo>
                <a:cubicBezTo>
                  <a:pt x="21336" y="14192"/>
                  <a:pt x="21336" y="14203"/>
                  <a:pt x="21304" y="14192"/>
                </a:cubicBezTo>
              </a:path>
              <a:path w="3367" h="3113">
                <a:moveTo>
                  <a:pt x="18415" y="14224"/>
                </a:moveTo>
                <a:cubicBezTo>
                  <a:pt x="18205" y="14239"/>
                  <a:pt x="18088" y="14253"/>
                  <a:pt x="17970" y="14414"/>
                </a:cubicBezTo>
                <a:cubicBezTo>
                  <a:pt x="18084" y="14552"/>
                  <a:pt x="18192" y="14679"/>
                  <a:pt x="18288" y="14827"/>
                </a:cubicBezTo>
                <a:cubicBezTo>
                  <a:pt x="18163" y="14915"/>
                  <a:pt x="17948" y="14977"/>
                  <a:pt x="18034" y="14700"/>
                </a:cubicBezTo>
                <a:cubicBezTo>
                  <a:pt x="18065" y="14598"/>
                  <a:pt x="18377" y="14326"/>
                  <a:pt x="18352" y="14319"/>
                </a:cubicBezTo>
                <a:cubicBezTo>
                  <a:pt x="18331" y="14319"/>
                  <a:pt x="18309" y="14319"/>
                  <a:pt x="18288" y="14319"/>
                </a:cubicBezTo>
              </a:path>
              <a:path w="3367" h="3113">
                <a:moveTo>
                  <a:pt x="19876" y="13367"/>
                </a:moveTo>
                <a:cubicBezTo>
                  <a:pt x="19815" y="13407"/>
                  <a:pt x="19737" y="13477"/>
                  <a:pt x="19717" y="13557"/>
                </a:cubicBezTo>
                <a:cubicBezTo>
                  <a:pt x="19812" y="13579"/>
                  <a:pt x="19953" y="13631"/>
                  <a:pt x="20002" y="13557"/>
                </a:cubicBezTo>
              </a:path>
              <a:path w="3367" h="3113">
                <a:moveTo>
                  <a:pt x="20034" y="13176"/>
                </a:moveTo>
                <a:cubicBezTo>
                  <a:pt x="19980" y="13412"/>
                  <a:pt x="19909" y="13642"/>
                  <a:pt x="19844" y="13875"/>
                </a:cubicBezTo>
              </a:path>
              <a:path w="3367" h="3113">
                <a:moveTo>
                  <a:pt x="19050" y="15081"/>
                </a:moveTo>
                <a:cubicBezTo>
                  <a:pt x="19152" y="15069"/>
                  <a:pt x="19199" y="15064"/>
                  <a:pt x="19304" y="15081"/>
                </a:cubicBezTo>
                <a:cubicBezTo>
                  <a:pt x="19245" y="15189"/>
                  <a:pt x="19225" y="15210"/>
                  <a:pt x="19114" y="15272"/>
                </a:cubicBezTo>
                <a:cubicBezTo>
                  <a:pt x="19189" y="15272"/>
                  <a:pt x="19342" y="15285"/>
                  <a:pt x="19336" y="15399"/>
                </a:cubicBezTo>
                <a:cubicBezTo>
                  <a:pt x="19328" y="15545"/>
                  <a:pt x="19110" y="15487"/>
                  <a:pt x="19082" y="15430"/>
                </a:cubicBezTo>
              </a:path>
              <a:path w="3367" h="3113">
                <a:moveTo>
                  <a:pt x="19653" y="15081"/>
                </a:moveTo>
                <a:cubicBezTo>
                  <a:pt x="19782" y="15081"/>
                  <a:pt x="19821" y="15145"/>
                  <a:pt x="19844" y="15272"/>
                </a:cubicBezTo>
                <a:cubicBezTo>
                  <a:pt x="19880" y="15475"/>
                  <a:pt x="19611" y="15542"/>
                  <a:pt x="19494" y="15399"/>
                </a:cubicBezTo>
                <a:cubicBezTo>
                  <a:pt x="19494" y="15378"/>
                  <a:pt x="19494" y="15356"/>
                  <a:pt x="19494" y="15335"/>
                </a:cubicBezTo>
                <a:cubicBezTo>
                  <a:pt x="19621" y="15349"/>
                  <a:pt x="19700" y="15400"/>
                  <a:pt x="19812" y="15462"/>
                </a:cubicBezTo>
              </a:path>
              <a:path w="3367" h="3113">
                <a:moveTo>
                  <a:pt x="18510" y="15621"/>
                </a:moveTo>
                <a:cubicBezTo>
                  <a:pt x="18955" y="15663"/>
                  <a:pt x="19398" y="15626"/>
                  <a:pt x="19844" y="15653"/>
                </a:cubicBezTo>
                <a:cubicBezTo>
                  <a:pt x="19984" y="15661"/>
                  <a:pt x="20134" y="15685"/>
                  <a:pt x="20256" y="15716"/>
                </a:cubicBezTo>
              </a:path>
              <a:path w="3367" h="3113">
                <a:moveTo>
                  <a:pt x="18415" y="15335"/>
                </a:moveTo>
                <a:cubicBezTo>
                  <a:pt x="18511" y="15311"/>
                  <a:pt x="18554" y="15320"/>
                  <a:pt x="18669" y="15304"/>
                </a:cubicBezTo>
              </a:path>
              <a:path w="3367" h="3113">
                <a:moveTo>
                  <a:pt x="19653" y="16002"/>
                </a:moveTo>
                <a:cubicBezTo>
                  <a:pt x="19669" y="15923"/>
                  <a:pt x="19693" y="15906"/>
                  <a:pt x="19748" y="15843"/>
                </a:cubicBezTo>
                <a:cubicBezTo>
                  <a:pt x="19914" y="15948"/>
                  <a:pt x="19972" y="16095"/>
                  <a:pt x="19780" y="16256"/>
                </a:cubicBezTo>
                <a:cubicBezTo>
                  <a:pt x="19698" y="16325"/>
                  <a:pt x="19651" y="16282"/>
                  <a:pt x="19622" y="16224"/>
                </a:cubicBezTo>
                <a:cubicBezTo>
                  <a:pt x="19641" y="16090"/>
                  <a:pt x="19809" y="16053"/>
                  <a:pt x="19939" y="16097"/>
                </a:cubicBezTo>
                <a:cubicBezTo>
                  <a:pt x="20016" y="16123"/>
                  <a:pt x="20024" y="16226"/>
                  <a:pt x="20034" y="16288"/>
                </a:cubicBezTo>
              </a:path>
              <a:path w="3367" h="3113">
                <a:moveTo>
                  <a:pt x="20510" y="15050"/>
                </a:moveTo>
                <a:cubicBezTo>
                  <a:pt x="20510" y="15182"/>
                  <a:pt x="20496" y="15301"/>
                  <a:pt x="20479" y="15430"/>
                </a:cubicBezTo>
                <a:cubicBezTo>
                  <a:pt x="20479" y="15462"/>
                  <a:pt x="20479" y="15473"/>
                  <a:pt x="20479" y="15494"/>
                </a:cubicBezTo>
              </a:path>
              <a:path w="3367" h="3113">
                <a:moveTo>
                  <a:pt x="20352" y="15462"/>
                </a:moveTo>
                <a:cubicBezTo>
                  <a:pt x="20454" y="15551"/>
                  <a:pt x="20513" y="15525"/>
                  <a:pt x="20638" y="15430"/>
                </a:cubicBezTo>
                <a:cubicBezTo>
                  <a:pt x="20670" y="15398"/>
                  <a:pt x="20701" y="15367"/>
                  <a:pt x="20733" y="15335"/>
                </a:cubicBezTo>
              </a:path>
              <a:path w="3367" h="3113">
                <a:moveTo>
                  <a:pt x="20384" y="15907"/>
                </a:moveTo>
                <a:cubicBezTo>
                  <a:pt x="20384" y="15983"/>
                  <a:pt x="20393" y="15979"/>
                  <a:pt x="20352" y="16034"/>
                </a:cubicBezTo>
                <a:cubicBezTo>
                  <a:pt x="20457" y="16034"/>
                  <a:pt x="20584" y="16038"/>
                  <a:pt x="20638" y="16066"/>
                </a:cubicBezTo>
                <a:cubicBezTo>
                  <a:pt x="20648" y="16066"/>
                  <a:pt x="20659" y="16066"/>
                  <a:pt x="20669" y="16066"/>
                </a:cubicBezTo>
              </a:path>
              <a:path w="3367" h="3113">
                <a:moveTo>
                  <a:pt x="20669" y="15780"/>
                </a:moveTo>
                <a:cubicBezTo>
                  <a:pt x="20638" y="15917"/>
                  <a:pt x="20614" y="16052"/>
                  <a:pt x="20606" y="16192"/>
                </a:cubicBezTo>
                <a:cubicBezTo>
                  <a:pt x="20606" y="16203"/>
                  <a:pt x="20606" y="16213"/>
                  <a:pt x="20606" y="16224"/>
                </a:cubicBezTo>
              </a:path>
              <a:path w="3367" h="3113">
                <a:moveTo>
                  <a:pt x="20193" y="14034"/>
                </a:moveTo>
                <a:cubicBezTo>
                  <a:pt x="20274" y="13980"/>
                  <a:pt x="20182" y="13981"/>
                  <a:pt x="20288" y="14034"/>
                </a:cubicBezTo>
                <a:cubicBezTo>
                  <a:pt x="20273" y="13944"/>
                  <a:pt x="20244" y="13954"/>
                  <a:pt x="20225" y="14034"/>
                </a:cubicBezTo>
              </a:path>
              <a:path w="3367" h="3113">
                <a:moveTo>
                  <a:pt x="20828" y="13367"/>
                </a:moveTo>
                <a:cubicBezTo>
                  <a:pt x="20933" y="13279"/>
                  <a:pt x="20925" y="13293"/>
                  <a:pt x="21050" y="13303"/>
                </a:cubicBezTo>
                <a:cubicBezTo>
                  <a:pt x="21033" y="13444"/>
                  <a:pt x="21037" y="13562"/>
                  <a:pt x="20892" y="13621"/>
                </a:cubicBezTo>
                <a:cubicBezTo>
                  <a:pt x="20950" y="13604"/>
                  <a:pt x="21237" y="13615"/>
                  <a:pt x="21146" y="13780"/>
                </a:cubicBezTo>
                <a:cubicBezTo>
                  <a:pt x="21051" y="13952"/>
                  <a:pt x="20875" y="13969"/>
                  <a:pt x="20733" y="1387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068720" y="5989680"/>
            <a:ext cx="857160" cy="307800"/>
          </a:xfrm>
          <a:custGeom>
            <a:avLst/>
            <a:gdLst/>
            <a:ahLst/>
            <a:rect l="l" t="t" r="r" b="b"/>
            <a:pathLst>
              <a:path w="2382" h="858">
                <a:moveTo>
                  <a:pt x="11335" y="16891"/>
                </a:moveTo>
                <a:cubicBezTo>
                  <a:pt x="11335" y="17087"/>
                  <a:pt x="11344" y="17273"/>
                  <a:pt x="11303" y="17462"/>
                </a:cubicBezTo>
              </a:path>
              <a:path w="2382" h="858">
                <a:moveTo>
                  <a:pt x="11303" y="16891"/>
                </a:moveTo>
                <a:cubicBezTo>
                  <a:pt x="11387" y="16933"/>
                  <a:pt x="11501" y="17115"/>
                  <a:pt x="11557" y="17208"/>
                </a:cubicBezTo>
                <a:cubicBezTo>
                  <a:pt x="11612" y="17320"/>
                  <a:pt x="11621" y="17350"/>
                  <a:pt x="11684" y="17399"/>
                </a:cubicBezTo>
                <a:cubicBezTo>
                  <a:pt x="11660" y="17234"/>
                  <a:pt x="11627" y="17061"/>
                  <a:pt x="11652" y="16891"/>
                </a:cubicBezTo>
                <a:cubicBezTo>
                  <a:pt x="11663" y="16859"/>
                  <a:pt x="11673" y="16828"/>
                  <a:pt x="11684" y="16796"/>
                </a:cubicBezTo>
              </a:path>
              <a:path w="2382" h="858">
                <a:moveTo>
                  <a:pt x="11970" y="17050"/>
                </a:moveTo>
                <a:cubicBezTo>
                  <a:pt x="12039" y="17085"/>
                  <a:pt x="12127" y="17050"/>
                  <a:pt x="12192" y="17082"/>
                </a:cubicBezTo>
                <a:cubicBezTo>
                  <a:pt x="12203" y="17092"/>
                  <a:pt x="12213" y="17103"/>
                  <a:pt x="12224" y="17113"/>
                </a:cubicBezTo>
              </a:path>
              <a:path w="2382" h="858">
                <a:moveTo>
                  <a:pt x="11938" y="17336"/>
                </a:moveTo>
                <a:cubicBezTo>
                  <a:pt x="12040" y="17315"/>
                  <a:pt x="12121" y="17304"/>
                  <a:pt x="12224" y="17304"/>
                </a:cubicBezTo>
              </a:path>
              <a:path w="2382" h="858">
                <a:moveTo>
                  <a:pt x="12573" y="16828"/>
                </a:moveTo>
                <a:cubicBezTo>
                  <a:pt x="12518" y="16846"/>
                  <a:pt x="12497" y="16977"/>
                  <a:pt x="12478" y="17050"/>
                </a:cubicBezTo>
                <a:cubicBezTo>
                  <a:pt x="12478" y="17061"/>
                  <a:pt x="12478" y="17071"/>
                  <a:pt x="12478" y="17082"/>
                </a:cubicBezTo>
                <a:cubicBezTo>
                  <a:pt x="12600" y="17057"/>
                  <a:pt x="12706" y="16989"/>
                  <a:pt x="12827" y="16954"/>
                </a:cubicBezTo>
                <a:cubicBezTo>
                  <a:pt x="12838" y="16954"/>
                  <a:pt x="12848" y="16954"/>
                  <a:pt x="12859" y="16954"/>
                </a:cubicBezTo>
              </a:path>
              <a:path w="2382" h="858">
                <a:moveTo>
                  <a:pt x="12700" y="16637"/>
                </a:moveTo>
                <a:cubicBezTo>
                  <a:pt x="12724" y="16848"/>
                  <a:pt x="12778" y="17060"/>
                  <a:pt x="12795" y="17272"/>
                </a:cubicBezTo>
                <a:cubicBezTo>
                  <a:pt x="12802" y="17356"/>
                  <a:pt x="12795" y="17547"/>
                  <a:pt x="12795" y="17462"/>
                </a:cubicBezTo>
              </a:path>
              <a:path w="2382" h="858">
                <a:moveTo>
                  <a:pt x="13049" y="17336"/>
                </a:moveTo>
                <a:cubicBezTo>
                  <a:pt x="13049" y="17325"/>
                  <a:pt x="13049" y="17315"/>
                  <a:pt x="13049" y="17304"/>
                </a:cubicBezTo>
              </a:path>
              <a:path w="2382" h="858">
                <a:moveTo>
                  <a:pt x="13049" y="17304"/>
                </a:moveTo>
                <a:lnTo>
                  <a:pt x="13049" y="17304"/>
                </a:lnTo>
              </a:path>
              <a:path w="2382" h="858">
                <a:moveTo>
                  <a:pt x="13335" y="16828"/>
                </a:moveTo>
                <a:cubicBezTo>
                  <a:pt x="13216" y="16788"/>
                  <a:pt x="13419" y="16736"/>
                  <a:pt x="13462" y="16732"/>
                </a:cubicBezTo>
                <a:cubicBezTo>
                  <a:pt x="13654" y="16714"/>
                  <a:pt x="13510" y="16979"/>
                  <a:pt x="13462" y="17050"/>
                </a:cubicBezTo>
                <a:cubicBezTo>
                  <a:pt x="13451" y="17061"/>
                  <a:pt x="13441" y="17071"/>
                  <a:pt x="13430" y="17082"/>
                </a:cubicBezTo>
                <a:cubicBezTo>
                  <a:pt x="13464" y="16996"/>
                  <a:pt x="13617" y="16905"/>
                  <a:pt x="13684" y="17050"/>
                </a:cubicBezTo>
                <a:cubicBezTo>
                  <a:pt x="13766" y="17229"/>
                  <a:pt x="13565" y="17359"/>
                  <a:pt x="13430" y="17399"/>
                </a:cubicBezTo>
                <a:cubicBezTo>
                  <a:pt x="13419" y="17399"/>
                  <a:pt x="13409" y="17399"/>
                  <a:pt x="13398" y="173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8">
                                            <p:txEl>
                                              <p:pRg st="0" end="0"/>
                                            </p:txEl>
                                          </p:spTgt>
                                        </p:tgtEl>
                                        <p:attrNameLst>
                                          <p:attrName>style.visibility</p:attrName>
                                        </p:attrNameLst>
                                      </p:cBhvr>
                                      <p:to>
                                        <p:strVal val="visible"/>
                                      </p:to>
                                    </p:set>
                                    <p:anim calcmode="lin" valueType="num">
                                      <p:cBhvr additive="base">
                                        <p:cTn id="83"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29"/>
                                        </p:tgtEl>
                                        <p:attrNameLst>
                                          <p:attrName>style.visibility</p:attrName>
                                        </p:attrNameLst>
                                      </p:cBhvr>
                                      <p:to>
                                        <p:strVal val="visible"/>
                                      </p:to>
                                    </p:set>
                                    <p:anim calcmode="lin" valueType="num">
                                      <p:cBhvr additive="base">
                                        <p:cTn id="89" dur="500" fill="hold"/>
                                        <p:tgtEl>
                                          <p:spTgt spid="129"/>
                                        </p:tgtEl>
                                        <p:attrNameLst>
                                          <p:attrName>ppt_x</p:attrName>
                                        </p:attrNameLst>
                                      </p:cBhvr>
                                      <p:tavLst>
                                        <p:tav tm="0">
                                          <p:val>
                                            <p:strVal val="0-#ppt_w/2"/>
                                          </p:val>
                                        </p:tav>
                                        <p:tav tm="100000">
                                          <p:val>
                                            <p:strVal val="#ppt_x"/>
                                          </p:val>
                                        </p:tav>
                                      </p:tavLst>
                                    </p:anim>
                                    <p:anim calcmode="lin" valueType="num">
                                      <p:cBhvr additive="base">
                                        <p:cTn id="90"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30"/>
                                        </p:tgtEl>
                                        <p:attrNameLst>
                                          <p:attrName>style.visibility</p:attrName>
                                        </p:attrNameLst>
                                      </p:cBhvr>
                                      <p:to>
                                        <p:strVal val="visible"/>
                                      </p:to>
                                    </p:set>
                                    <p:anim calcmode="lin" valueType="num">
                                      <p:cBhvr additive="base">
                                        <p:cTn id="95" dur="500" fill="hold"/>
                                        <p:tgtEl>
                                          <p:spTgt spid="130"/>
                                        </p:tgtEl>
                                        <p:attrNameLst>
                                          <p:attrName>ppt_x</p:attrName>
                                        </p:attrNameLst>
                                      </p:cBhvr>
                                      <p:tavLst>
                                        <p:tav tm="0">
                                          <p:val>
                                            <p:strVal val="0-#ppt_w/2"/>
                                          </p:val>
                                        </p:tav>
                                        <p:tav tm="100000">
                                          <p:val>
                                            <p:strVal val="#ppt_x"/>
                                          </p:val>
                                        </p:tav>
                                      </p:tavLst>
                                    </p:anim>
                                    <p:anim calcmode="lin" valueType="num">
                                      <p:cBhvr additive="base">
                                        <p:cTn id="96"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p:txBody>
      </p:sp>
      <p:sp>
        <p:nvSpPr>
          <p:cNvPr id="149" name="PlaceHolder 2"/>
          <p:cNvSpPr>
            <a:spLocks noGrp="1"/>
          </p:cNvSpPr>
          <p:nvPr>
            <p:ph type="subTitle"/>
          </p:nvPr>
        </p:nvSpPr>
        <p:spPr>
          <a:xfrm>
            <a:off x="1371600" y="3124080"/>
            <a:ext cx="6400800" cy="609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 - 11 = 33</a:t>
            </a:r>
            <a:endParaRPr b="0" lang="en-US" sz="3200" spc="-1" strike="noStrike">
              <a:solidFill>
                <a:srgbClr val="000000"/>
              </a:solidFill>
              <a:latin typeface="Arial"/>
            </a:endParaRPr>
          </a:p>
        </p:txBody>
      </p:sp>
      <mc:AlternateContent>
        <mc:Choice xmlns:a14="http://schemas.microsoft.com/office/drawing/2010/main" Requires="a14">
          <p:sp>
            <p:nvSpPr>
              <p:cNvPr id="150" name=""/>
              <p:cNvSpPr txBox="1"/>
              <p:nvPr/>
            </p:nvSpPr>
            <p:spPr>
              <a:xfrm>
                <a:off x="3886200" y="1386000"/>
                <a:ext cx="1295280" cy="884160"/>
              </a:xfrm>
              <a:prstGeom prst="rect">
                <a:avLst/>
              </a:prstGeom>
            </p:spPr>
            <p:txBody>
              <a:bodyPr/>
              <a:p>
                <a14:m>
                  <m:oMath xmlns:m="http://schemas.openxmlformats.org/officeDocument/2006/math">
                    <m:f>
                      <m:num>
                        <m:r>
                          <m:t xml:space="preserve">N</m:t>
                        </m:r>
                      </m:num>
                      <m:den>
                        <m:r>
                          <m:t xml:space="preserve">4</m:t>
                        </m:r>
                      </m:den>
                    </m:f>
                    <m:r>
                      <m:t xml:space="preserve">=</m:t>
                    </m:r>
                    <m:r>
                      <m:t xml:space="preserve">2</m:t>
                    </m:r>
                    <m:r>
                      <m:rPr>
                        <m:lit/>
                        <m:nor/>
                      </m:rPr>
                      <m:t xml:space="preserve">.</m:t>
                    </m:r>
                    <m:r>
                      <m:t xml:space="preserve">9</m:t>
                    </m:r>
                  </m:oMath>
                </a14:m>
              </a:p>
            </p:txBody>
          </p:sp>
        </mc:Choice>
        <mc:Fallback/>
      </mc:AlternateContent>
      <p:sp>
        <p:nvSpPr>
          <p:cNvPr id="151" name=""/>
          <p:cNvSpPr/>
          <p:nvPr/>
        </p:nvSpPr>
        <p:spPr>
          <a:xfrm>
            <a:off x="3542760" y="4800600"/>
            <a:ext cx="205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x N = 90</a:t>
            </a:r>
            <a:endParaRPr b="0" lang="en-US" sz="3200" spc="-1" strike="noStrike">
              <a:solidFill>
                <a:srgbClr val="000000"/>
              </a:solidFill>
              <a:latin typeface="Arial"/>
            </a:endParaRPr>
          </a:p>
        </p:txBody>
      </p:sp>
      <p:sp>
        <p:nvSpPr>
          <p:cNvPr id="152" name=""/>
          <p:cNvSpPr/>
          <p:nvPr/>
        </p:nvSpPr>
        <p:spPr>
          <a:xfrm>
            <a:off x="5246640" y="1679400"/>
            <a:ext cx="92160" cy="173160"/>
          </a:xfrm>
          <a:custGeom>
            <a:avLst/>
            <a:gdLst/>
            <a:ahLst/>
            <a:rect l="l" t="t" r="r" b="b"/>
            <a:pathLst>
              <a:path w="255" h="478">
                <a:moveTo>
                  <a:pt x="14573" y="4858"/>
                </a:moveTo>
                <a:cubicBezTo>
                  <a:pt x="14655" y="4939"/>
                  <a:pt x="14720" y="5027"/>
                  <a:pt x="14796" y="5112"/>
                </a:cubicBezTo>
                <a:cubicBezTo>
                  <a:pt x="14824" y="5141"/>
                  <a:pt x="14834" y="5156"/>
                  <a:pt x="14827" y="5112"/>
                </a:cubicBezTo>
              </a:path>
              <a:path w="255" h="478">
                <a:moveTo>
                  <a:pt x="14796" y="4667"/>
                </a:moveTo>
                <a:cubicBezTo>
                  <a:pt x="14742" y="4818"/>
                  <a:pt x="14655" y="4962"/>
                  <a:pt x="14605" y="5112"/>
                </a:cubicBezTo>
                <a:cubicBezTo>
                  <a:pt x="14605" y="5123"/>
                  <a:pt x="14605" y="5133"/>
                  <a:pt x="14605" y="51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440320" y="1646280"/>
            <a:ext cx="103320" cy="206280"/>
          </a:xfrm>
          <a:custGeom>
            <a:avLst/>
            <a:gdLst/>
            <a:ahLst/>
            <a:rect l="l" t="t" r="r" b="b"/>
            <a:pathLst>
              <a:path w="287" h="573">
                <a:moveTo>
                  <a:pt x="15113" y="4794"/>
                </a:moveTo>
                <a:cubicBezTo>
                  <a:pt x="15113" y="4847"/>
                  <a:pt x="15113" y="4858"/>
                  <a:pt x="15113" y="4890"/>
                </a:cubicBezTo>
                <a:cubicBezTo>
                  <a:pt x="15198" y="4890"/>
                  <a:pt x="15282" y="4890"/>
                  <a:pt x="15367" y="4890"/>
                </a:cubicBezTo>
              </a:path>
              <a:path w="287" h="573">
                <a:moveTo>
                  <a:pt x="15399" y="4572"/>
                </a:moveTo>
                <a:cubicBezTo>
                  <a:pt x="15399" y="4738"/>
                  <a:pt x="15385" y="4886"/>
                  <a:pt x="15367" y="5048"/>
                </a:cubicBezTo>
                <a:cubicBezTo>
                  <a:pt x="15359" y="5117"/>
                  <a:pt x="15353" y="5129"/>
                  <a:pt x="15399" y="51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400800" y="925560"/>
            <a:ext cx="880920" cy="1131840"/>
          </a:xfrm>
          <a:custGeom>
            <a:avLst/>
            <a:gdLst/>
            <a:ahLst/>
            <a:rect l="l" t="t" r="r" b="b"/>
            <a:pathLst>
              <a:path w="2446" h="3144">
                <a:moveTo>
                  <a:pt x="18891" y="3334"/>
                </a:moveTo>
                <a:cubicBezTo>
                  <a:pt x="18891" y="3320"/>
                  <a:pt x="18948" y="3254"/>
                  <a:pt x="19018" y="3207"/>
                </a:cubicBezTo>
                <a:cubicBezTo>
                  <a:pt x="19188" y="3350"/>
                  <a:pt x="19259" y="3613"/>
                  <a:pt x="18955" y="3746"/>
                </a:cubicBezTo>
                <a:cubicBezTo>
                  <a:pt x="18775" y="3825"/>
                  <a:pt x="18641" y="3799"/>
                  <a:pt x="18574" y="3683"/>
                </a:cubicBezTo>
                <a:cubicBezTo>
                  <a:pt x="18807" y="3636"/>
                  <a:pt x="18909" y="3636"/>
                  <a:pt x="19050" y="3842"/>
                </a:cubicBezTo>
                <a:cubicBezTo>
                  <a:pt x="19061" y="3863"/>
                  <a:pt x="19071" y="3884"/>
                  <a:pt x="19082" y="3905"/>
                </a:cubicBezTo>
              </a:path>
              <a:path w="2446" h="3144">
                <a:moveTo>
                  <a:pt x="19336" y="3683"/>
                </a:moveTo>
                <a:cubicBezTo>
                  <a:pt x="19347" y="3683"/>
                  <a:pt x="19357" y="3683"/>
                  <a:pt x="19368" y="3683"/>
                </a:cubicBezTo>
              </a:path>
              <a:path w="2446" h="3144">
                <a:moveTo>
                  <a:pt x="19368" y="3683"/>
                </a:moveTo>
                <a:lnTo>
                  <a:pt x="19368" y="3683"/>
                </a:lnTo>
              </a:path>
              <a:path w="2446" h="3144">
                <a:moveTo>
                  <a:pt x="19907" y="3112"/>
                </a:moveTo>
                <a:cubicBezTo>
                  <a:pt x="19808" y="3062"/>
                  <a:pt x="19635" y="3101"/>
                  <a:pt x="19590" y="3238"/>
                </a:cubicBezTo>
                <a:cubicBezTo>
                  <a:pt x="19601" y="3259"/>
                  <a:pt x="19611" y="3281"/>
                  <a:pt x="19622" y="3302"/>
                </a:cubicBezTo>
                <a:cubicBezTo>
                  <a:pt x="19786" y="3350"/>
                  <a:pt x="19829" y="3234"/>
                  <a:pt x="19939" y="3112"/>
                </a:cubicBezTo>
                <a:cubicBezTo>
                  <a:pt x="19939" y="3313"/>
                  <a:pt x="19939" y="3514"/>
                  <a:pt x="19939" y="3715"/>
                </a:cubicBezTo>
              </a:path>
              <a:path w="2446" h="3144">
                <a:moveTo>
                  <a:pt x="19717" y="4000"/>
                </a:moveTo>
                <a:cubicBezTo>
                  <a:pt x="19707" y="4091"/>
                  <a:pt x="19683" y="4165"/>
                  <a:pt x="19653" y="4254"/>
                </a:cubicBezTo>
                <a:cubicBezTo>
                  <a:pt x="19854" y="4240"/>
                  <a:pt x="19859" y="4229"/>
                  <a:pt x="20002" y="4096"/>
                </a:cubicBezTo>
              </a:path>
              <a:path w="2446" h="3144">
                <a:moveTo>
                  <a:pt x="19971" y="3969"/>
                </a:moveTo>
                <a:cubicBezTo>
                  <a:pt x="19908" y="4157"/>
                  <a:pt x="19908" y="4346"/>
                  <a:pt x="19876" y="4540"/>
                </a:cubicBezTo>
              </a:path>
              <a:path w="2446" h="3144">
                <a:moveTo>
                  <a:pt x="17780" y="4921"/>
                </a:moveTo>
                <a:cubicBezTo>
                  <a:pt x="18295" y="4793"/>
                  <a:pt x="18813" y="4693"/>
                  <a:pt x="19336" y="4604"/>
                </a:cubicBezTo>
                <a:cubicBezTo>
                  <a:pt x="19580" y="4563"/>
                  <a:pt x="19821" y="4523"/>
                  <a:pt x="20066" y="4508"/>
                </a:cubicBezTo>
              </a:path>
              <a:path w="2446" h="3144">
                <a:moveTo>
                  <a:pt x="19876" y="5016"/>
                </a:moveTo>
                <a:cubicBezTo>
                  <a:pt x="19876" y="4913"/>
                  <a:pt x="19781" y="5360"/>
                  <a:pt x="19780" y="5366"/>
                </a:cubicBezTo>
                <a:cubicBezTo>
                  <a:pt x="19769" y="5419"/>
                  <a:pt x="19759" y="5471"/>
                  <a:pt x="19748" y="5524"/>
                </a:cubicBezTo>
                <a:cubicBezTo>
                  <a:pt x="19947" y="5638"/>
                  <a:pt x="20147" y="5587"/>
                  <a:pt x="20225" y="5302"/>
                </a:cubicBezTo>
                <a:cubicBezTo>
                  <a:pt x="20214" y="5281"/>
                  <a:pt x="20204" y="5260"/>
                  <a:pt x="20193" y="5239"/>
                </a:cubicBezTo>
                <a:cubicBezTo>
                  <a:pt x="20045" y="5325"/>
                  <a:pt x="19996" y="5375"/>
                  <a:pt x="19971" y="5556"/>
                </a:cubicBezTo>
              </a:path>
              <a:path w="2446" h="3144">
                <a:moveTo>
                  <a:pt x="18510" y="2699"/>
                </a:moveTo>
                <a:cubicBezTo>
                  <a:pt x="18579" y="2649"/>
                  <a:pt x="18754" y="2496"/>
                  <a:pt x="18796" y="2635"/>
                </a:cubicBezTo>
                <a:cubicBezTo>
                  <a:pt x="18834" y="2760"/>
                  <a:pt x="18717" y="2799"/>
                  <a:pt x="18637" y="2858"/>
                </a:cubicBezTo>
                <a:cubicBezTo>
                  <a:pt x="18666" y="2742"/>
                  <a:pt x="18844" y="2727"/>
                  <a:pt x="18923" y="2826"/>
                </a:cubicBezTo>
                <a:cubicBezTo>
                  <a:pt x="19107" y="3055"/>
                  <a:pt x="18584" y="3056"/>
                  <a:pt x="18510" y="3048"/>
                </a:cubicBezTo>
              </a:path>
              <a:path w="2446" h="3144">
                <a:moveTo>
                  <a:pt x="18320" y="5112"/>
                </a:moveTo>
                <a:cubicBezTo>
                  <a:pt x="18320" y="5324"/>
                  <a:pt x="18320" y="5895"/>
                  <a:pt x="18320" y="5683"/>
                </a:cubicBezTo>
              </a:path>
              <a:path w="2446" h="3144">
                <a:moveTo>
                  <a:pt x="18701" y="5048"/>
                </a:moveTo>
                <a:cubicBezTo>
                  <a:pt x="18789" y="5225"/>
                  <a:pt x="18822" y="5388"/>
                  <a:pt x="18828" y="5588"/>
                </a:cubicBezTo>
                <a:cubicBezTo>
                  <a:pt x="18830" y="5641"/>
                  <a:pt x="18828" y="5736"/>
                  <a:pt x="18828" y="5683"/>
                </a:cubicBezTo>
              </a:path>
              <a:path w="2446" h="3144">
                <a:moveTo>
                  <a:pt x="19304" y="5556"/>
                </a:moveTo>
                <a:cubicBezTo>
                  <a:pt x="19304" y="5588"/>
                  <a:pt x="19304" y="5620"/>
                  <a:pt x="19304" y="5652"/>
                </a:cubicBezTo>
                <a:cubicBezTo>
                  <a:pt x="19330" y="5613"/>
                  <a:pt x="19314" y="5631"/>
                  <a:pt x="19272" y="5652"/>
                </a:cubicBezTo>
                <a:cubicBezTo>
                  <a:pt x="19188" y="5694"/>
                  <a:pt x="19344" y="5633"/>
                  <a:pt x="19304" y="5620"/>
                </a:cubicBezTo>
                <a:cubicBezTo>
                  <a:pt x="19283" y="5620"/>
                  <a:pt x="19261" y="5620"/>
                  <a:pt x="19240" y="56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63480" y="1668600"/>
            <a:ext cx="1657440" cy="527040"/>
          </a:xfrm>
          <a:custGeom>
            <a:avLst/>
            <a:gdLst/>
            <a:ahLst/>
            <a:rect l="l" t="t" r="r" b="b"/>
            <a:pathLst>
              <a:path w="4604" h="1461">
                <a:moveTo>
                  <a:pt x="1873" y="4731"/>
                </a:moveTo>
                <a:cubicBezTo>
                  <a:pt x="1894" y="4892"/>
                  <a:pt x="1930" y="5044"/>
                  <a:pt x="1937" y="5207"/>
                </a:cubicBezTo>
                <a:cubicBezTo>
                  <a:pt x="1937" y="5243"/>
                  <a:pt x="1934" y="5251"/>
                  <a:pt x="1905" y="5207"/>
                </a:cubicBezTo>
              </a:path>
              <a:path w="4604" h="1461">
                <a:moveTo>
                  <a:pt x="1842" y="4794"/>
                </a:moveTo>
                <a:cubicBezTo>
                  <a:pt x="1947" y="4900"/>
                  <a:pt x="2123" y="5030"/>
                  <a:pt x="2191" y="5144"/>
                </a:cubicBezTo>
                <a:cubicBezTo>
                  <a:pt x="2191" y="5021"/>
                  <a:pt x="2101" y="4734"/>
                  <a:pt x="2191" y="4636"/>
                </a:cubicBezTo>
                <a:cubicBezTo>
                  <a:pt x="2212" y="4646"/>
                  <a:pt x="2233" y="4657"/>
                  <a:pt x="2254" y="4667"/>
                </a:cubicBezTo>
              </a:path>
              <a:path w="4604" h="1461">
                <a:moveTo>
                  <a:pt x="1937" y="5429"/>
                </a:moveTo>
                <a:cubicBezTo>
                  <a:pt x="2077" y="5401"/>
                  <a:pt x="2213" y="5373"/>
                  <a:pt x="2350" y="5334"/>
                </a:cubicBezTo>
              </a:path>
              <a:path w="4604" h="1461">
                <a:moveTo>
                  <a:pt x="2191" y="5588"/>
                </a:moveTo>
                <a:cubicBezTo>
                  <a:pt x="2248" y="5761"/>
                  <a:pt x="2254" y="5915"/>
                  <a:pt x="2254" y="6096"/>
                </a:cubicBezTo>
                <a:cubicBezTo>
                  <a:pt x="2254" y="6043"/>
                  <a:pt x="2254" y="6011"/>
                  <a:pt x="2254" y="5969"/>
                </a:cubicBezTo>
              </a:path>
              <a:path w="4604" h="1461">
                <a:moveTo>
                  <a:pt x="2635" y="5429"/>
                </a:moveTo>
                <a:cubicBezTo>
                  <a:pt x="2736" y="5421"/>
                  <a:pt x="2796" y="5408"/>
                  <a:pt x="2889" y="5366"/>
                </a:cubicBezTo>
              </a:path>
              <a:path w="4604" h="1461">
                <a:moveTo>
                  <a:pt x="2762" y="5556"/>
                </a:moveTo>
                <a:cubicBezTo>
                  <a:pt x="2890" y="5620"/>
                  <a:pt x="2921" y="5556"/>
                  <a:pt x="3016" y="5461"/>
                </a:cubicBezTo>
              </a:path>
              <a:path w="4604" h="1461">
                <a:moveTo>
                  <a:pt x="3461" y="5144"/>
                </a:moveTo>
                <a:cubicBezTo>
                  <a:pt x="3490" y="5348"/>
                  <a:pt x="3546" y="5534"/>
                  <a:pt x="3556" y="5747"/>
                </a:cubicBezTo>
              </a:path>
              <a:path w="4604" h="1461">
                <a:moveTo>
                  <a:pt x="3429" y="5270"/>
                </a:moveTo>
                <a:cubicBezTo>
                  <a:pt x="3582" y="5376"/>
                  <a:pt x="3780" y="5485"/>
                  <a:pt x="3905" y="5620"/>
                </a:cubicBezTo>
                <a:cubicBezTo>
                  <a:pt x="3905" y="5631"/>
                  <a:pt x="3905" y="5641"/>
                  <a:pt x="3905" y="5652"/>
                </a:cubicBezTo>
                <a:cubicBezTo>
                  <a:pt x="3881" y="5482"/>
                  <a:pt x="3874" y="5318"/>
                  <a:pt x="3874" y="5144"/>
                </a:cubicBezTo>
                <a:cubicBezTo>
                  <a:pt x="3874" y="5133"/>
                  <a:pt x="3874" y="5123"/>
                  <a:pt x="3874" y="5112"/>
                </a:cubicBezTo>
              </a:path>
              <a:path w="4604" h="1461">
                <a:moveTo>
                  <a:pt x="4254" y="5366"/>
                </a:moveTo>
                <a:cubicBezTo>
                  <a:pt x="4357" y="5335"/>
                  <a:pt x="4464" y="5320"/>
                  <a:pt x="4572" y="5302"/>
                </a:cubicBezTo>
              </a:path>
              <a:path w="4604" h="1461">
                <a:moveTo>
                  <a:pt x="4382" y="5524"/>
                </a:moveTo>
                <a:cubicBezTo>
                  <a:pt x="4481" y="5496"/>
                  <a:pt x="4546" y="5474"/>
                  <a:pt x="4636" y="5429"/>
                </a:cubicBezTo>
              </a:path>
              <a:path w="4604" h="1461">
                <a:moveTo>
                  <a:pt x="5016" y="5080"/>
                </a:moveTo>
                <a:cubicBezTo>
                  <a:pt x="4932" y="5109"/>
                  <a:pt x="5012" y="5337"/>
                  <a:pt x="5016" y="5398"/>
                </a:cubicBezTo>
                <a:cubicBezTo>
                  <a:pt x="5016" y="5525"/>
                  <a:pt x="5016" y="5546"/>
                  <a:pt x="5016" y="5620"/>
                </a:cubicBezTo>
              </a:path>
              <a:path w="4604" h="1461">
                <a:moveTo>
                  <a:pt x="5207" y="4985"/>
                </a:moveTo>
                <a:cubicBezTo>
                  <a:pt x="5257" y="5196"/>
                  <a:pt x="5302" y="5371"/>
                  <a:pt x="5302" y="5588"/>
                </a:cubicBezTo>
              </a:path>
              <a:path w="4604" h="1461">
                <a:moveTo>
                  <a:pt x="5620" y="5429"/>
                </a:moveTo>
                <a:cubicBezTo>
                  <a:pt x="5620" y="5474"/>
                  <a:pt x="5626" y="5473"/>
                  <a:pt x="5652" y="5398"/>
                </a:cubicBezTo>
              </a:path>
              <a:path w="4604" h="1461">
                <a:moveTo>
                  <a:pt x="5842" y="4858"/>
                </a:moveTo>
                <a:cubicBezTo>
                  <a:pt x="5892" y="5020"/>
                  <a:pt x="5906" y="5173"/>
                  <a:pt x="5937" y="5334"/>
                </a:cubicBezTo>
                <a:cubicBezTo>
                  <a:pt x="5975" y="5531"/>
                  <a:pt x="6154" y="5466"/>
                  <a:pt x="6286" y="5398"/>
                </a:cubicBezTo>
                <a:cubicBezTo>
                  <a:pt x="6369" y="5355"/>
                  <a:pt x="6506" y="5239"/>
                  <a:pt x="6414" y="5175"/>
                </a:cubicBezTo>
                <a:cubicBezTo>
                  <a:pt x="6276" y="5159"/>
                  <a:pt x="6203" y="5266"/>
                  <a:pt x="6223" y="5429"/>
                </a:cubicBezTo>
                <a:cubicBezTo>
                  <a:pt x="6234" y="5450"/>
                  <a:pt x="6244" y="5472"/>
                  <a:pt x="6255" y="549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224160" y="1382760"/>
            <a:ext cx="1119240" cy="824040"/>
          </a:xfrm>
          <a:custGeom>
            <a:avLst/>
            <a:gdLst/>
            <a:ahLst/>
            <a:rect l="l" t="t" r="r" b="b"/>
            <a:pathLst>
              <a:path w="3112" h="2287">
                <a:moveTo>
                  <a:pt x="10096" y="5016"/>
                </a:moveTo>
                <a:cubicBezTo>
                  <a:pt x="10213" y="5104"/>
                  <a:pt x="10223" y="5236"/>
                  <a:pt x="10319" y="5334"/>
                </a:cubicBezTo>
                <a:cubicBezTo>
                  <a:pt x="10364" y="5334"/>
                  <a:pt x="10380" y="5322"/>
                  <a:pt x="10382" y="5270"/>
                </a:cubicBezTo>
              </a:path>
              <a:path w="3112" h="2287">
                <a:moveTo>
                  <a:pt x="10350" y="5016"/>
                </a:moveTo>
                <a:cubicBezTo>
                  <a:pt x="10316" y="5120"/>
                  <a:pt x="10280" y="5247"/>
                  <a:pt x="10224" y="5334"/>
                </a:cubicBezTo>
                <a:cubicBezTo>
                  <a:pt x="10188" y="5370"/>
                  <a:pt x="10171" y="5381"/>
                  <a:pt x="10128" y="5366"/>
                </a:cubicBezTo>
              </a:path>
              <a:path w="3112" h="2287">
                <a:moveTo>
                  <a:pt x="9366" y="4572"/>
                </a:moveTo>
                <a:cubicBezTo>
                  <a:pt x="9366" y="4645"/>
                  <a:pt x="9348" y="4695"/>
                  <a:pt x="9334" y="4762"/>
                </a:cubicBezTo>
                <a:cubicBezTo>
                  <a:pt x="9432" y="4762"/>
                  <a:pt x="9498" y="4739"/>
                  <a:pt x="9588" y="4699"/>
                </a:cubicBezTo>
              </a:path>
              <a:path w="3112" h="2287">
                <a:moveTo>
                  <a:pt x="9588" y="4382"/>
                </a:moveTo>
                <a:cubicBezTo>
                  <a:pt x="9588" y="4583"/>
                  <a:pt x="9588" y="4784"/>
                  <a:pt x="9588" y="4985"/>
                </a:cubicBezTo>
              </a:path>
              <a:path w="3112" h="2287">
                <a:moveTo>
                  <a:pt x="9239" y="5270"/>
                </a:moveTo>
                <a:cubicBezTo>
                  <a:pt x="9419" y="5228"/>
                  <a:pt x="9571" y="5180"/>
                  <a:pt x="9747" y="5207"/>
                </a:cubicBezTo>
              </a:path>
              <a:path w="3112" h="2287">
                <a:moveTo>
                  <a:pt x="9588" y="5429"/>
                </a:moveTo>
                <a:cubicBezTo>
                  <a:pt x="9548" y="5636"/>
                  <a:pt x="9554" y="5823"/>
                  <a:pt x="9588" y="6032"/>
                </a:cubicBezTo>
              </a:path>
              <a:path w="3112" h="2287">
                <a:moveTo>
                  <a:pt x="8985" y="4350"/>
                </a:moveTo>
                <a:cubicBezTo>
                  <a:pt x="9001" y="4413"/>
                  <a:pt x="9016" y="4413"/>
                  <a:pt x="9080" y="4413"/>
                </a:cubicBezTo>
                <a:cubicBezTo>
                  <a:pt x="9105" y="4462"/>
                  <a:pt x="9149" y="4494"/>
                  <a:pt x="9208" y="4508"/>
                </a:cubicBezTo>
                <a:cubicBezTo>
                  <a:pt x="9225" y="4560"/>
                  <a:pt x="9255" y="4526"/>
                  <a:pt x="9303" y="4572"/>
                </a:cubicBezTo>
                <a:cubicBezTo>
                  <a:pt x="9410" y="4672"/>
                  <a:pt x="9536" y="4737"/>
                  <a:pt x="9652" y="4826"/>
                </a:cubicBezTo>
                <a:cubicBezTo>
                  <a:pt x="9696" y="4860"/>
                  <a:pt x="9692" y="4858"/>
                  <a:pt x="9747" y="4858"/>
                </a:cubicBezTo>
                <a:cubicBezTo>
                  <a:pt x="9763" y="4907"/>
                  <a:pt x="9779" y="4884"/>
                  <a:pt x="9779" y="4953"/>
                </a:cubicBezTo>
                <a:cubicBezTo>
                  <a:pt x="9811" y="4953"/>
                  <a:pt x="9822" y="4953"/>
                  <a:pt x="9811" y="4985"/>
                </a:cubicBezTo>
              </a:path>
              <a:path w="3112" h="2287">
                <a:moveTo>
                  <a:pt x="9620" y="4890"/>
                </a:moveTo>
                <a:cubicBezTo>
                  <a:pt x="9664" y="4917"/>
                  <a:pt x="9702" y="4943"/>
                  <a:pt x="9747" y="4985"/>
                </a:cubicBezTo>
                <a:cubicBezTo>
                  <a:pt x="9820" y="5053"/>
                  <a:pt x="9877" y="5135"/>
                  <a:pt x="9970" y="5175"/>
                </a:cubicBezTo>
                <a:cubicBezTo>
                  <a:pt x="10038" y="5204"/>
                  <a:pt x="10120" y="5242"/>
                  <a:pt x="10192" y="5270"/>
                </a:cubicBezTo>
                <a:cubicBezTo>
                  <a:pt x="10290" y="5308"/>
                  <a:pt x="10381" y="5360"/>
                  <a:pt x="10478" y="5398"/>
                </a:cubicBezTo>
                <a:cubicBezTo>
                  <a:pt x="10567" y="5432"/>
                  <a:pt x="10691" y="5473"/>
                  <a:pt x="10763" y="5524"/>
                </a:cubicBezTo>
                <a:cubicBezTo>
                  <a:pt x="10864" y="5596"/>
                  <a:pt x="10982" y="5644"/>
                  <a:pt x="11081" y="5715"/>
                </a:cubicBezTo>
                <a:cubicBezTo>
                  <a:pt x="11189" y="5792"/>
                  <a:pt x="11321" y="5832"/>
                  <a:pt x="11430" y="5906"/>
                </a:cubicBezTo>
                <a:cubicBezTo>
                  <a:pt x="11542" y="5982"/>
                  <a:pt x="11666" y="6016"/>
                  <a:pt x="11779" y="6096"/>
                </a:cubicBezTo>
                <a:cubicBezTo>
                  <a:pt x="11811" y="6096"/>
                  <a:pt x="11822" y="6096"/>
                  <a:pt x="11811" y="6128"/>
                </a:cubicBezTo>
              </a:path>
              <a:path w="3112" h="2287">
                <a:moveTo>
                  <a:pt x="12002" y="5715"/>
                </a:moveTo>
                <a:cubicBezTo>
                  <a:pt x="12002" y="5606"/>
                  <a:pt x="12052" y="5861"/>
                  <a:pt x="12065" y="5969"/>
                </a:cubicBezTo>
                <a:cubicBezTo>
                  <a:pt x="12077" y="6069"/>
                  <a:pt x="12091" y="6128"/>
                  <a:pt x="12033" y="6032"/>
                </a:cubicBezTo>
              </a:path>
              <a:path w="3112" h="2287">
                <a:moveTo>
                  <a:pt x="8954" y="3842"/>
                </a:moveTo>
                <a:cubicBezTo>
                  <a:pt x="8954" y="3957"/>
                  <a:pt x="8993" y="4049"/>
                  <a:pt x="9017" y="4159"/>
                </a:cubicBezTo>
                <a:cubicBezTo>
                  <a:pt x="9017" y="4191"/>
                  <a:pt x="9017" y="4202"/>
                  <a:pt x="9049" y="41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897360" y="3726000"/>
            <a:ext cx="446040" cy="663480"/>
          </a:xfrm>
          <a:custGeom>
            <a:avLst/>
            <a:gdLst/>
            <a:ahLst/>
            <a:rect l="l" t="t" r="r" b="b"/>
            <a:pathLst>
              <a:path w="1239" h="1843">
                <a:moveTo>
                  <a:pt x="11494" y="10414"/>
                </a:moveTo>
                <a:cubicBezTo>
                  <a:pt x="11494" y="10545"/>
                  <a:pt x="11515" y="10666"/>
                  <a:pt x="11525" y="10795"/>
                </a:cubicBezTo>
              </a:path>
              <a:path w="1239" h="1843">
                <a:moveTo>
                  <a:pt x="11366" y="10668"/>
                </a:moveTo>
                <a:cubicBezTo>
                  <a:pt x="11490" y="10668"/>
                  <a:pt x="11597" y="10656"/>
                  <a:pt x="11716" y="10636"/>
                </a:cubicBezTo>
              </a:path>
              <a:path w="1239" h="1843">
                <a:moveTo>
                  <a:pt x="11906" y="10350"/>
                </a:moveTo>
                <a:cubicBezTo>
                  <a:pt x="11945" y="10476"/>
                  <a:pt x="11973" y="10620"/>
                  <a:pt x="12002" y="10732"/>
                </a:cubicBezTo>
                <a:cubicBezTo>
                  <a:pt x="12002" y="10782"/>
                  <a:pt x="12016" y="10779"/>
                  <a:pt x="12065" y="10700"/>
                </a:cubicBezTo>
              </a:path>
              <a:path w="1239" h="1843">
                <a:moveTo>
                  <a:pt x="10954" y="11684"/>
                </a:moveTo>
                <a:cubicBezTo>
                  <a:pt x="10954" y="11663"/>
                  <a:pt x="10954" y="11641"/>
                  <a:pt x="10954" y="11620"/>
                </a:cubicBezTo>
                <a:cubicBezTo>
                  <a:pt x="10915" y="11659"/>
                  <a:pt x="11008" y="11857"/>
                  <a:pt x="11017" y="11938"/>
                </a:cubicBezTo>
                <a:cubicBezTo>
                  <a:pt x="11025" y="12010"/>
                  <a:pt x="11035" y="12174"/>
                  <a:pt x="11017" y="12192"/>
                </a:cubicBezTo>
              </a:path>
              <a:path w="1239" h="1843">
                <a:moveTo>
                  <a:pt x="10827" y="11589"/>
                </a:moveTo>
                <a:cubicBezTo>
                  <a:pt x="11058" y="11730"/>
                  <a:pt x="11280" y="11895"/>
                  <a:pt x="11494" y="12065"/>
                </a:cubicBezTo>
                <a:cubicBezTo>
                  <a:pt x="11504" y="12076"/>
                  <a:pt x="11515" y="12086"/>
                  <a:pt x="11525" y="12097"/>
                </a:cubicBezTo>
                <a:cubicBezTo>
                  <a:pt x="11525" y="11947"/>
                  <a:pt x="11474" y="11802"/>
                  <a:pt x="11462" y="11652"/>
                </a:cubicBezTo>
                <a:cubicBezTo>
                  <a:pt x="11462" y="11599"/>
                  <a:pt x="11462" y="11547"/>
                  <a:pt x="11462" y="114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57880" y="3692520"/>
            <a:ext cx="125280" cy="318960"/>
          </a:xfrm>
          <a:custGeom>
            <a:avLst/>
            <a:gdLst/>
            <a:ahLst/>
            <a:rect l="l" t="t" r="r" b="b"/>
            <a:pathLst>
              <a:path w="351" h="890">
                <a:moveTo>
                  <a:pt x="12382" y="10255"/>
                </a:moveTo>
                <a:cubicBezTo>
                  <a:pt x="12392" y="10409"/>
                  <a:pt x="12439" y="10548"/>
                  <a:pt x="12446" y="10700"/>
                </a:cubicBezTo>
                <a:cubicBezTo>
                  <a:pt x="12446" y="10721"/>
                  <a:pt x="12446" y="10742"/>
                  <a:pt x="12446" y="10763"/>
                </a:cubicBezTo>
              </a:path>
              <a:path w="351" h="890">
                <a:moveTo>
                  <a:pt x="12668" y="10954"/>
                </a:moveTo>
                <a:cubicBezTo>
                  <a:pt x="12637" y="10860"/>
                  <a:pt x="12531" y="10996"/>
                  <a:pt x="12510" y="11049"/>
                </a:cubicBezTo>
                <a:cubicBezTo>
                  <a:pt x="12510" y="11106"/>
                  <a:pt x="12506" y="11122"/>
                  <a:pt x="12541" y="11144"/>
                </a:cubicBezTo>
                <a:cubicBezTo>
                  <a:pt x="12602" y="11129"/>
                  <a:pt x="12880" y="10975"/>
                  <a:pt x="12668" y="10922"/>
                </a:cubicBezTo>
                <a:cubicBezTo>
                  <a:pt x="12560" y="10922"/>
                  <a:pt x="12534" y="10913"/>
                  <a:pt x="12478" y="1095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79800" y="3622680"/>
            <a:ext cx="424080" cy="674640"/>
          </a:xfrm>
          <a:custGeom>
            <a:avLst/>
            <a:gdLst/>
            <a:ahLst/>
            <a:rect l="l" t="t" r="r" b="b"/>
            <a:pathLst>
              <a:path w="1176" h="1874">
                <a:moveTo>
                  <a:pt x="14065" y="10192"/>
                </a:moveTo>
                <a:cubicBezTo>
                  <a:pt x="13989" y="10218"/>
                  <a:pt x="14057" y="10313"/>
                  <a:pt x="14065" y="10382"/>
                </a:cubicBezTo>
                <a:cubicBezTo>
                  <a:pt x="14065" y="10461"/>
                  <a:pt x="14077" y="10505"/>
                  <a:pt x="14034" y="10446"/>
                </a:cubicBezTo>
              </a:path>
              <a:path w="1176" h="1874">
                <a:moveTo>
                  <a:pt x="13875" y="10319"/>
                </a:moveTo>
                <a:cubicBezTo>
                  <a:pt x="14005" y="10319"/>
                  <a:pt x="14165" y="10377"/>
                  <a:pt x="14288" y="10350"/>
                </a:cubicBezTo>
                <a:cubicBezTo>
                  <a:pt x="14298" y="10340"/>
                  <a:pt x="14309" y="10329"/>
                  <a:pt x="14319" y="10319"/>
                </a:cubicBezTo>
              </a:path>
              <a:path w="1176" h="1874">
                <a:moveTo>
                  <a:pt x="14605" y="10065"/>
                </a:moveTo>
                <a:cubicBezTo>
                  <a:pt x="14623" y="10171"/>
                  <a:pt x="14650" y="10275"/>
                  <a:pt x="14668" y="10382"/>
                </a:cubicBezTo>
                <a:cubicBezTo>
                  <a:pt x="14668" y="10414"/>
                  <a:pt x="14668" y="10425"/>
                  <a:pt x="14668" y="10446"/>
                </a:cubicBezTo>
              </a:path>
              <a:path w="1176" h="1874">
                <a:moveTo>
                  <a:pt x="14414" y="11398"/>
                </a:moveTo>
                <a:cubicBezTo>
                  <a:pt x="14414" y="11480"/>
                  <a:pt x="14375" y="11625"/>
                  <a:pt x="14446" y="11684"/>
                </a:cubicBezTo>
                <a:cubicBezTo>
                  <a:pt x="14574" y="11790"/>
                  <a:pt x="14659" y="11662"/>
                  <a:pt x="14732" y="11589"/>
                </a:cubicBezTo>
              </a:path>
              <a:path w="1176" h="1874">
                <a:moveTo>
                  <a:pt x="14700" y="11271"/>
                </a:moveTo>
                <a:cubicBezTo>
                  <a:pt x="14700" y="11493"/>
                  <a:pt x="14700" y="11716"/>
                  <a:pt x="14700" y="11938"/>
                </a:cubicBezTo>
              </a:path>
              <a:path w="1176" h="1874">
                <a:moveTo>
                  <a:pt x="13589" y="11620"/>
                </a:moveTo>
                <a:cubicBezTo>
                  <a:pt x="13665" y="11612"/>
                  <a:pt x="13735" y="11597"/>
                  <a:pt x="13811" y="11589"/>
                </a:cubicBezTo>
              </a:path>
              <a:path w="1176" h="1874">
                <a:moveTo>
                  <a:pt x="13557" y="11811"/>
                </a:moveTo>
                <a:cubicBezTo>
                  <a:pt x="13652" y="11787"/>
                  <a:pt x="13747" y="11761"/>
                  <a:pt x="13843" y="117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429160" y="3600360"/>
            <a:ext cx="160560" cy="685800"/>
          </a:xfrm>
          <a:custGeom>
            <a:avLst/>
            <a:gdLst/>
            <a:ahLst/>
            <a:rect l="l" t="t" r="r" b="b"/>
            <a:pathLst>
              <a:path w="446" h="1906">
                <a:moveTo>
                  <a:pt x="15081" y="10001"/>
                </a:moveTo>
                <a:cubicBezTo>
                  <a:pt x="15147" y="10023"/>
                  <a:pt x="15166" y="10234"/>
                  <a:pt x="15176" y="10319"/>
                </a:cubicBezTo>
                <a:cubicBezTo>
                  <a:pt x="15176" y="10397"/>
                  <a:pt x="15164" y="10417"/>
                  <a:pt x="15208" y="10446"/>
                </a:cubicBezTo>
              </a:path>
              <a:path w="446" h="1906">
                <a:moveTo>
                  <a:pt x="15113" y="11303"/>
                </a:moveTo>
                <a:cubicBezTo>
                  <a:pt x="15113" y="11413"/>
                  <a:pt x="15099" y="11516"/>
                  <a:pt x="15145" y="11620"/>
                </a:cubicBezTo>
                <a:cubicBezTo>
                  <a:pt x="15188" y="11718"/>
                  <a:pt x="15456" y="11624"/>
                  <a:pt x="15494" y="11557"/>
                </a:cubicBezTo>
                <a:cubicBezTo>
                  <a:pt x="15505" y="11504"/>
                  <a:pt x="15515" y="11451"/>
                  <a:pt x="15526" y="11398"/>
                </a:cubicBezTo>
              </a:path>
              <a:path w="446" h="1906">
                <a:moveTo>
                  <a:pt x="15367" y="11049"/>
                </a:moveTo>
                <a:cubicBezTo>
                  <a:pt x="15367" y="11335"/>
                  <a:pt x="15367" y="11620"/>
                  <a:pt x="15367" y="1190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424560" y="4675320"/>
            <a:ext cx="1143000" cy="1817640"/>
          </a:xfrm>
          <a:custGeom>
            <a:avLst/>
            <a:gdLst/>
            <a:ahLst/>
            <a:rect l="l" t="t" r="r" b="b"/>
            <a:pathLst>
              <a:path w="3175" h="5049">
                <a:moveTo>
                  <a:pt x="19526" y="14256"/>
                </a:moveTo>
                <a:cubicBezTo>
                  <a:pt x="19496" y="14120"/>
                  <a:pt x="19393" y="13958"/>
                  <a:pt x="19209" y="14034"/>
                </a:cubicBezTo>
                <a:cubicBezTo>
                  <a:pt x="18964" y="14136"/>
                  <a:pt x="18960" y="14513"/>
                  <a:pt x="19272" y="14414"/>
                </a:cubicBezTo>
                <a:cubicBezTo>
                  <a:pt x="19406" y="14314"/>
                  <a:pt x="19453" y="14274"/>
                  <a:pt x="19494" y="14160"/>
                </a:cubicBezTo>
                <a:cubicBezTo>
                  <a:pt x="19494" y="14320"/>
                  <a:pt x="19402" y="14656"/>
                  <a:pt x="19463" y="14796"/>
                </a:cubicBezTo>
                <a:cubicBezTo>
                  <a:pt x="19473" y="14785"/>
                  <a:pt x="19484" y="14775"/>
                  <a:pt x="19494" y="14764"/>
                </a:cubicBezTo>
              </a:path>
              <a:path w="3175" h="5049">
                <a:moveTo>
                  <a:pt x="19876" y="14097"/>
                </a:moveTo>
                <a:cubicBezTo>
                  <a:pt x="19732" y="14360"/>
                  <a:pt x="19613" y="14508"/>
                  <a:pt x="19748" y="14764"/>
                </a:cubicBezTo>
                <a:cubicBezTo>
                  <a:pt x="19863" y="14724"/>
                  <a:pt x="20412" y="14397"/>
                  <a:pt x="20066" y="14224"/>
                </a:cubicBezTo>
                <a:cubicBezTo>
                  <a:pt x="19860" y="14259"/>
                  <a:pt x="19781" y="14276"/>
                  <a:pt x="19653" y="14351"/>
                </a:cubicBezTo>
              </a:path>
              <a:path w="3175" h="5049">
                <a:moveTo>
                  <a:pt x="18796" y="15176"/>
                </a:moveTo>
                <a:cubicBezTo>
                  <a:pt x="18787" y="14972"/>
                  <a:pt x="18761" y="14776"/>
                  <a:pt x="18732" y="14573"/>
                </a:cubicBezTo>
                <a:cubicBezTo>
                  <a:pt x="18715" y="14452"/>
                  <a:pt x="18597" y="14168"/>
                  <a:pt x="18732" y="14097"/>
                </a:cubicBezTo>
                <a:cubicBezTo>
                  <a:pt x="19012" y="13950"/>
                  <a:pt x="19546" y="14089"/>
                  <a:pt x="19844" y="14065"/>
                </a:cubicBezTo>
                <a:cubicBezTo>
                  <a:pt x="19937" y="14057"/>
                  <a:pt x="20814" y="14025"/>
                  <a:pt x="20796" y="14034"/>
                </a:cubicBezTo>
                <a:cubicBezTo>
                  <a:pt x="20743" y="14044"/>
                  <a:pt x="20691" y="14055"/>
                  <a:pt x="20638" y="14065"/>
                </a:cubicBezTo>
              </a:path>
              <a:path w="3175" h="5049">
                <a:moveTo>
                  <a:pt x="18066" y="14446"/>
                </a:moveTo>
                <a:cubicBezTo>
                  <a:pt x="17987" y="14472"/>
                  <a:pt x="17905" y="14701"/>
                  <a:pt x="17875" y="14796"/>
                </a:cubicBezTo>
                <a:cubicBezTo>
                  <a:pt x="17786" y="15083"/>
                  <a:pt x="18003" y="15191"/>
                  <a:pt x="18256" y="15050"/>
                </a:cubicBezTo>
                <a:cubicBezTo>
                  <a:pt x="18371" y="14934"/>
                  <a:pt x="18409" y="14907"/>
                  <a:pt x="18415" y="14796"/>
                </a:cubicBezTo>
                <a:cubicBezTo>
                  <a:pt x="18295" y="14769"/>
                  <a:pt x="18091" y="14830"/>
                  <a:pt x="18129" y="15018"/>
                </a:cubicBezTo>
                <a:cubicBezTo>
                  <a:pt x="18150" y="15029"/>
                  <a:pt x="18172" y="15039"/>
                  <a:pt x="18193" y="15050"/>
                </a:cubicBezTo>
              </a:path>
              <a:path w="3175" h="5049">
                <a:moveTo>
                  <a:pt x="19304" y="13176"/>
                </a:moveTo>
                <a:cubicBezTo>
                  <a:pt x="19304" y="13058"/>
                  <a:pt x="19316" y="13346"/>
                  <a:pt x="19336" y="13462"/>
                </a:cubicBezTo>
                <a:cubicBezTo>
                  <a:pt x="19361" y="13589"/>
                  <a:pt x="19372" y="13609"/>
                  <a:pt x="19368" y="13684"/>
                </a:cubicBezTo>
              </a:path>
              <a:path w="3175" h="5049">
                <a:moveTo>
                  <a:pt x="19336" y="15081"/>
                </a:moveTo>
                <a:cubicBezTo>
                  <a:pt x="19316" y="15223"/>
                  <a:pt x="19226" y="15415"/>
                  <a:pt x="19272" y="15558"/>
                </a:cubicBezTo>
                <a:cubicBezTo>
                  <a:pt x="19293" y="15579"/>
                  <a:pt x="19315" y="15600"/>
                  <a:pt x="19336" y="15621"/>
                </a:cubicBezTo>
                <a:cubicBezTo>
                  <a:pt x="19521" y="15575"/>
                  <a:pt x="19576" y="15499"/>
                  <a:pt x="19558" y="15304"/>
                </a:cubicBezTo>
                <a:cubicBezTo>
                  <a:pt x="19373" y="15381"/>
                  <a:pt x="19336" y="15476"/>
                  <a:pt x="19368" y="15684"/>
                </a:cubicBezTo>
              </a:path>
              <a:path w="3175" h="5049">
                <a:moveTo>
                  <a:pt x="18796" y="15907"/>
                </a:moveTo>
                <a:cubicBezTo>
                  <a:pt x="19447" y="15838"/>
                  <a:pt x="20119" y="15697"/>
                  <a:pt x="20764" y="15558"/>
                </a:cubicBezTo>
                <a:cubicBezTo>
                  <a:pt x="20923" y="15512"/>
                  <a:pt x="20930" y="15491"/>
                  <a:pt x="21018" y="15494"/>
                </a:cubicBezTo>
              </a:path>
              <a:path w="3175" h="5049">
                <a:moveTo>
                  <a:pt x="19526" y="15938"/>
                </a:moveTo>
                <a:cubicBezTo>
                  <a:pt x="19610" y="15959"/>
                  <a:pt x="19863" y="15954"/>
                  <a:pt x="19685" y="16097"/>
                </a:cubicBezTo>
                <a:cubicBezTo>
                  <a:pt x="19549" y="16165"/>
                  <a:pt x="19498" y="16190"/>
                  <a:pt x="19399" y="16224"/>
                </a:cubicBezTo>
                <a:cubicBezTo>
                  <a:pt x="19609" y="16206"/>
                  <a:pt x="19695" y="16170"/>
                  <a:pt x="19844" y="16320"/>
                </a:cubicBezTo>
                <a:cubicBezTo>
                  <a:pt x="19768" y="16375"/>
                  <a:pt x="19379" y="16654"/>
                  <a:pt x="19304" y="16446"/>
                </a:cubicBezTo>
                <a:cubicBezTo>
                  <a:pt x="19315" y="16404"/>
                  <a:pt x="19325" y="16362"/>
                  <a:pt x="19336" y="16320"/>
                </a:cubicBezTo>
              </a:path>
              <a:path w="3175" h="5049">
                <a:moveTo>
                  <a:pt x="20034" y="15050"/>
                </a:moveTo>
                <a:cubicBezTo>
                  <a:pt x="20068" y="15184"/>
                  <a:pt x="20100" y="15346"/>
                  <a:pt x="20130" y="15494"/>
                </a:cubicBezTo>
                <a:cubicBezTo>
                  <a:pt x="20140" y="15536"/>
                  <a:pt x="20151" y="15579"/>
                  <a:pt x="20161" y="15621"/>
                </a:cubicBezTo>
              </a:path>
              <a:path w="3175" h="5049">
                <a:moveTo>
                  <a:pt x="20225" y="15875"/>
                </a:moveTo>
                <a:cubicBezTo>
                  <a:pt x="20065" y="16020"/>
                  <a:pt x="20022" y="16091"/>
                  <a:pt x="20098" y="16288"/>
                </a:cubicBezTo>
                <a:cubicBezTo>
                  <a:pt x="20167" y="16271"/>
                  <a:pt x="20501" y="16096"/>
                  <a:pt x="20320" y="15970"/>
                </a:cubicBezTo>
                <a:cubicBezTo>
                  <a:pt x="20172" y="15940"/>
                  <a:pt x="20131" y="15930"/>
                  <a:pt x="20034" y="15938"/>
                </a:cubicBezTo>
              </a:path>
              <a:path w="3175" h="5049">
                <a:moveTo>
                  <a:pt x="19907" y="13018"/>
                </a:moveTo>
                <a:cubicBezTo>
                  <a:pt x="19868" y="12959"/>
                  <a:pt x="19678" y="12991"/>
                  <a:pt x="19590" y="13018"/>
                </a:cubicBezTo>
                <a:cubicBezTo>
                  <a:pt x="19506" y="13044"/>
                  <a:pt x="19519" y="13276"/>
                  <a:pt x="19494" y="13335"/>
                </a:cubicBezTo>
                <a:cubicBezTo>
                  <a:pt x="19622" y="13335"/>
                  <a:pt x="19702" y="13275"/>
                  <a:pt x="19844" y="13303"/>
                </a:cubicBezTo>
                <a:cubicBezTo>
                  <a:pt x="19980" y="13358"/>
                  <a:pt x="20025" y="13357"/>
                  <a:pt x="20034" y="13462"/>
                </a:cubicBezTo>
                <a:cubicBezTo>
                  <a:pt x="19835" y="13644"/>
                  <a:pt x="19719" y="13660"/>
                  <a:pt x="19494" y="13526"/>
                </a:cubicBezTo>
              </a:path>
              <a:path w="3175" h="5049">
                <a:moveTo>
                  <a:pt x="19526" y="17018"/>
                </a:moveTo>
                <a:cubicBezTo>
                  <a:pt x="19590" y="17018"/>
                  <a:pt x="19653" y="17018"/>
                  <a:pt x="19717" y="17018"/>
                </a:cubicBezTo>
                <a:cubicBezTo>
                  <a:pt x="19703" y="17128"/>
                  <a:pt x="19669" y="17221"/>
                  <a:pt x="19558" y="17272"/>
                </a:cubicBezTo>
                <a:cubicBezTo>
                  <a:pt x="19547" y="17272"/>
                  <a:pt x="19537" y="17272"/>
                  <a:pt x="19526" y="17272"/>
                </a:cubicBezTo>
                <a:cubicBezTo>
                  <a:pt x="19668" y="17244"/>
                  <a:pt x="19716" y="17213"/>
                  <a:pt x="19844" y="17272"/>
                </a:cubicBezTo>
                <a:cubicBezTo>
                  <a:pt x="19865" y="17439"/>
                  <a:pt x="19721" y="17452"/>
                  <a:pt x="19558" y="17462"/>
                </a:cubicBezTo>
                <a:cubicBezTo>
                  <a:pt x="19457" y="17462"/>
                  <a:pt x="19429" y="17457"/>
                  <a:pt x="19526" y="17367"/>
                </a:cubicBezTo>
              </a:path>
              <a:path w="3175" h="5049">
                <a:moveTo>
                  <a:pt x="20098" y="17018"/>
                </a:moveTo>
                <a:cubicBezTo>
                  <a:pt x="20041" y="17131"/>
                  <a:pt x="20020" y="17158"/>
                  <a:pt x="20034" y="17240"/>
                </a:cubicBezTo>
                <a:cubicBezTo>
                  <a:pt x="20175" y="17268"/>
                  <a:pt x="20417" y="17214"/>
                  <a:pt x="20320" y="16986"/>
                </a:cubicBezTo>
                <a:cubicBezTo>
                  <a:pt x="20257" y="16838"/>
                  <a:pt x="20083" y="16923"/>
                  <a:pt x="20002" y="16954"/>
                </a:cubicBezTo>
              </a:path>
              <a:path w="3175" h="5049">
                <a:moveTo>
                  <a:pt x="19622" y="17653"/>
                </a:moveTo>
                <a:cubicBezTo>
                  <a:pt x="20042" y="17564"/>
                  <a:pt x="20465" y="17460"/>
                  <a:pt x="20892" y="17431"/>
                </a:cubicBezTo>
                <a:cubicBezTo>
                  <a:pt x="20902" y="17431"/>
                  <a:pt x="20913" y="17431"/>
                  <a:pt x="20923" y="17431"/>
                </a:cubicBezTo>
              </a:path>
              <a:path w="3175" h="5049">
                <a:moveTo>
                  <a:pt x="20923" y="17590"/>
                </a:moveTo>
                <a:cubicBezTo>
                  <a:pt x="20758" y="17716"/>
                  <a:pt x="20651" y="17805"/>
                  <a:pt x="20606" y="18002"/>
                </a:cubicBezTo>
                <a:cubicBezTo>
                  <a:pt x="20795" y="18019"/>
                  <a:pt x="20947" y="17944"/>
                  <a:pt x="20955" y="17716"/>
                </a:cubicBezTo>
                <a:cubicBezTo>
                  <a:pt x="20960" y="17565"/>
                  <a:pt x="20702" y="17674"/>
                  <a:pt x="20638" y="1768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440160" y="3794040"/>
            <a:ext cx="2571840" cy="252360"/>
          </a:xfrm>
          <a:custGeom>
            <a:avLst/>
            <a:gdLst/>
            <a:ahLst/>
            <a:rect l="l" t="t" r="r" b="b"/>
            <a:pathLst>
              <a:path w="7144" h="700">
                <a:moveTo>
                  <a:pt x="9557" y="11240"/>
                </a:moveTo>
                <a:cubicBezTo>
                  <a:pt x="9893" y="11167"/>
                  <a:pt x="10230" y="11095"/>
                  <a:pt x="10573" y="11049"/>
                </a:cubicBezTo>
                <a:cubicBezTo>
                  <a:pt x="11450" y="10932"/>
                  <a:pt x="12328" y="10787"/>
                  <a:pt x="13208" y="10700"/>
                </a:cubicBezTo>
                <a:cubicBezTo>
                  <a:pt x="14164" y="10605"/>
                  <a:pt x="15137" y="10571"/>
                  <a:pt x="16097" y="10541"/>
                </a:cubicBezTo>
                <a:cubicBezTo>
                  <a:pt x="16297" y="10535"/>
                  <a:pt x="16499" y="10541"/>
                  <a:pt x="16700" y="1054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121360" y="5280120"/>
            <a:ext cx="457200" cy="34920"/>
          </a:xfrm>
          <a:custGeom>
            <a:avLst/>
            <a:gdLst/>
            <a:ahLst/>
            <a:rect l="l" t="t" r="r" b="b"/>
            <a:pathLst>
              <a:path w="1271" h="97">
                <a:moveTo>
                  <a:pt x="14224" y="14764"/>
                </a:moveTo>
                <a:cubicBezTo>
                  <a:pt x="14533" y="14742"/>
                  <a:pt x="14834" y="14704"/>
                  <a:pt x="15145" y="14700"/>
                </a:cubicBezTo>
                <a:cubicBezTo>
                  <a:pt x="15204" y="14699"/>
                  <a:pt x="15470" y="14688"/>
                  <a:pt x="15494" y="14700"/>
                </a:cubicBezTo>
              </a:path>
            </a:pathLst>
          </a:custGeom>
          <a:noFill/>
          <a:ln cap="rnd" w="3492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4" name=""/>
          <p:cNvSpPr/>
          <p:nvPr/>
        </p:nvSpPr>
        <p:spPr>
          <a:xfrm>
            <a:off x="5211720" y="5394240"/>
            <a:ext cx="184320" cy="230400"/>
          </a:xfrm>
          <a:custGeom>
            <a:avLst/>
            <a:gdLst/>
            <a:ahLst/>
            <a:rect l="l" t="t" r="r" b="b"/>
            <a:pathLst>
              <a:path w="509" h="636">
                <a:moveTo>
                  <a:pt x="14573" y="14986"/>
                </a:moveTo>
                <a:cubicBezTo>
                  <a:pt x="14539" y="15173"/>
                  <a:pt x="14467" y="15299"/>
                  <a:pt x="14510" y="15494"/>
                </a:cubicBezTo>
                <a:cubicBezTo>
                  <a:pt x="14551" y="15680"/>
                  <a:pt x="14764" y="15645"/>
                  <a:pt x="14891" y="15558"/>
                </a:cubicBezTo>
                <a:cubicBezTo>
                  <a:pt x="14977" y="15471"/>
                  <a:pt x="15008" y="15453"/>
                  <a:pt x="14986" y="15367"/>
                </a:cubicBezTo>
                <a:cubicBezTo>
                  <a:pt x="14877" y="15280"/>
                  <a:pt x="14787" y="15303"/>
                  <a:pt x="14700" y="15430"/>
                </a:cubicBezTo>
                <a:cubicBezTo>
                  <a:pt x="14674" y="15508"/>
                  <a:pt x="14650" y="15527"/>
                  <a:pt x="14700" y="155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543480" y="5315040"/>
            <a:ext cx="1166760" cy="34920"/>
          </a:xfrm>
          <a:custGeom>
            <a:avLst/>
            <a:gdLst/>
            <a:ahLst/>
            <a:rect l="l" t="t" r="r" b="b"/>
            <a:pathLst>
              <a:path w="3240" h="96">
                <a:moveTo>
                  <a:pt x="9842" y="14859"/>
                </a:moveTo>
                <a:cubicBezTo>
                  <a:pt x="10014" y="14834"/>
                  <a:pt x="10222" y="14827"/>
                  <a:pt x="10414" y="14827"/>
                </a:cubicBezTo>
                <a:cubicBezTo>
                  <a:pt x="10761" y="14827"/>
                  <a:pt x="11119" y="14867"/>
                  <a:pt x="11462" y="14859"/>
                </a:cubicBezTo>
                <a:cubicBezTo>
                  <a:pt x="11877" y="14850"/>
                  <a:pt x="12287" y="14794"/>
                  <a:pt x="12700" y="14764"/>
                </a:cubicBezTo>
                <a:cubicBezTo>
                  <a:pt x="12825" y="14755"/>
                  <a:pt x="12955" y="14764"/>
                  <a:pt x="13081" y="14764"/>
                </a:cubicBezTo>
              </a:path>
            </a:pathLst>
          </a:custGeom>
          <a:noFill/>
          <a:ln cap="rnd" w="3492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6" name=""/>
          <p:cNvSpPr/>
          <p:nvPr/>
        </p:nvSpPr>
        <p:spPr>
          <a:xfrm>
            <a:off x="4068720" y="5394240"/>
            <a:ext cx="195480" cy="230400"/>
          </a:xfrm>
          <a:custGeom>
            <a:avLst/>
            <a:gdLst/>
            <a:ahLst/>
            <a:rect l="l" t="t" r="r" b="b"/>
            <a:pathLst>
              <a:path w="541" h="636">
                <a:moveTo>
                  <a:pt x="11462" y="14986"/>
                </a:moveTo>
                <a:cubicBezTo>
                  <a:pt x="11432" y="15107"/>
                  <a:pt x="11367" y="15231"/>
                  <a:pt x="11335" y="15367"/>
                </a:cubicBezTo>
                <a:cubicBezTo>
                  <a:pt x="11306" y="15484"/>
                  <a:pt x="11292" y="15517"/>
                  <a:pt x="11335" y="15589"/>
                </a:cubicBezTo>
                <a:cubicBezTo>
                  <a:pt x="11520" y="15611"/>
                  <a:pt x="11742" y="15608"/>
                  <a:pt x="11843" y="15399"/>
                </a:cubicBezTo>
                <a:cubicBezTo>
                  <a:pt x="11843" y="15367"/>
                  <a:pt x="11843" y="15336"/>
                  <a:pt x="11843" y="15304"/>
                </a:cubicBezTo>
                <a:cubicBezTo>
                  <a:pt x="11698" y="15255"/>
                  <a:pt x="11582" y="15292"/>
                  <a:pt x="11525" y="15462"/>
                </a:cubicBezTo>
                <a:cubicBezTo>
                  <a:pt x="11450" y="15686"/>
                  <a:pt x="11694" y="15476"/>
                  <a:pt x="11716" y="1546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611520" y="4950000"/>
            <a:ext cx="628560" cy="560160"/>
          </a:xfrm>
          <a:custGeom>
            <a:avLst/>
            <a:gdLst/>
            <a:ahLst/>
            <a:rect l="l" t="t" r="r" b="b"/>
            <a:pathLst>
              <a:path w="1747" h="1557">
                <a:moveTo>
                  <a:pt x="10033" y="13748"/>
                </a:moveTo>
                <a:cubicBezTo>
                  <a:pt x="10090" y="13791"/>
                  <a:pt x="10116" y="13796"/>
                  <a:pt x="10160" y="13875"/>
                </a:cubicBezTo>
                <a:cubicBezTo>
                  <a:pt x="10221" y="13984"/>
                  <a:pt x="10336" y="14019"/>
                  <a:pt x="10414" y="14097"/>
                </a:cubicBezTo>
                <a:cubicBezTo>
                  <a:pt x="10469" y="14152"/>
                  <a:pt x="10553" y="14247"/>
                  <a:pt x="10604" y="14288"/>
                </a:cubicBezTo>
                <a:cubicBezTo>
                  <a:pt x="10693" y="14359"/>
                  <a:pt x="10775" y="14427"/>
                  <a:pt x="10858" y="14510"/>
                </a:cubicBezTo>
                <a:cubicBezTo>
                  <a:pt x="10937" y="14589"/>
                  <a:pt x="11027" y="14623"/>
                  <a:pt x="11112" y="14700"/>
                </a:cubicBezTo>
                <a:cubicBezTo>
                  <a:pt x="11182" y="14764"/>
                  <a:pt x="11258" y="14836"/>
                  <a:pt x="11335" y="14891"/>
                </a:cubicBezTo>
                <a:cubicBezTo>
                  <a:pt x="11371" y="14917"/>
                  <a:pt x="11470" y="14960"/>
                  <a:pt x="11494" y="14986"/>
                </a:cubicBezTo>
                <a:cubicBezTo>
                  <a:pt x="11582" y="15081"/>
                  <a:pt x="11651" y="15190"/>
                  <a:pt x="11748" y="15272"/>
                </a:cubicBezTo>
                <a:cubicBezTo>
                  <a:pt x="11779" y="15272"/>
                  <a:pt x="11790" y="15272"/>
                  <a:pt x="11779" y="153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321080" y="5954760"/>
            <a:ext cx="22320" cy="252360"/>
          </a:xfrm>
          <a:custGeom>
            <a:avLst/>
            <a:gdLst/>
            <a:ahLst/>
            <a:rect l="l" t="t" r="r" b="b"/>
            <a:pathLst>
              <a:path w="64" h="699">
                <a:moveTo>
                  <a:pt x="12002" y="16542"/>
                </a:moveTo>
                <a:cubicBezTo>
                  <a:pt x="12061" y="16692"/>
                  <a:pt x="12065" y="16801"/>
                  <a:pt x="12065" y="16986"/>
                </a:cubicBezTo>
                <a:cubicBezTo>
                  <a:pt x="12065" y="17071"/>
                  <a:pt x="12065" y="17155"/>
                  <a:pt x="12065" y="172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354560" y="5967360"/>
            <a:ext cx="160200" cy="216000"/>
          </a:xfrm>
          <a:custGeom>
            <a:avLst/>
            <a:gdLst/>
            <a:ahLst/>
            <a:rect l="l" t="t" r="r" b="b"/>
            <a:pathLst>
              <a:path w="445" h="604">
                <a:moveTo>
                  <a:pt x="12097" y="16669"/>
                </a:moveTo>
                <a:cubicBezTo>
                  <a:pt x="12155" y="16803"/>
                  <a:pt x="12249" y="16938"/>
                  <a:pt x="12351" y="17050"/>
                </a:cubicBezTo>
                <a:cubicBezTo>
                  <a:pt x="12411" y="17116"/>
                  <a:pt x="12451" y="17177"/>
                  <a:pt x="12541" y="17177"/>
                </a:cubicBezTo>
                <a:cubicBezTo>
                  <a:pt x="12541" y="17025"/>
                  <a:pt x="12521" y="16881"/>
                  <a:pt x="12510" y="16732"/>
                </a:cubicBezTo>
                <a:cubicBezTo>
                  <a:pt x="12510" y="16633"/>
                  <a:pt x="12490" y="16610"/>
                  <a:pt x="12541" y="1657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629240" y="6046920"/>
            <a:ext cx="81000" cy="21960"/>
          </a:xfrm>
          <a:custGeom>
            <a:avLst/>
            <a:gdLst/>
            <a:ahLst/>
            <a:rect l="l" t="t" r="r" b="b"/>
            <a:pathLst>
              <a:path w="223" h="64">
                <a:moveTo>
                  <a:pt x="12859" y="16828"/>
                </a:moveTo>
                <a:cubicBezTo>
                  <a:pt x="12936" y="16828"/>
                  <a:pt x="13081" y="16719"/>
                  <a:pt x="13081" y="16796"/>
                </a:cubicBezTo>
                <a:cubicBezTo>
                  <a:pt x="13070" y="16817"/>
                  <a:pt x="13060" y="16838"/>
                  <a:pt x="13049" y="16859"/>
                </a:cubicBezTo>
              </a:path>
            </a:pathLst>
          </a:custGeom>
          <a:noFill/>
          <a:ln cap="rnd" w="3492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1" name=""/>
          <p:cNvSpPr/>
          <p:nvPr/>
        </p:nvSpPr>
        <p:spPr>
          <a:xfrm>
            <a:off x="4606920" y="6080040"/>
            <a:ext cx="125280" cy="34920"/>
          </a:xfrm>
          <a:custGeom>
            <a:avLst/>
            <a:gdLst/>
            <a:ahLst/>
            <a:rect l="l" t="t" r="r" b="b"/>
            <a:pathLst>
              <a:path w="350" h="96">
                <a:moveTo>
                  <a:pt x="12795" y="16986"/>
                </a:moveTo>
                <a:cubicBezTo>
                  <a:pt x="12966" y="16986"/>
                  <a:pt x="13040" y="17025"/>
                  <a:pt x="13144" y="16891"/>
                </a:cubicBezTo>
              </a:path>
            </a:pathLst>
          </a:custGeom>
          <a:noFill/>
          <a:ln cap="rnd" w="3492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2" name=""/>
          <p:cNvSpPr/>
          <p:nvPr/>
        </p:nvSpPr>
        <p:spPr>
          <a:xfrm>
            <a:off x="4835520" y="5897520"/>
            <a:ext cx="68400" cy="263520"/>
          </a:xfrm>
          <a:custGeom>
            <a:avLst/>
            <a:gdLst/>
            <a:ahLst/>
            <a:rect l="l" t="t" r="r" b="b"/>
            <a:pathLst>
              <a:path w="192" h="731">
                <a:moveTo>
                  <a:pt x="13430" y="16542"/>
                </a:moveTo>
                <a:cubicBezTo>
                  <a:pt x="13430" y="16489"/>
                  <a:pt x="13430" y="16436"/>
                  <a:pt x="13430" y="16383"/>
                </a:cubicBezTo>
                <a:cubicBezTo>
                  <a:pt x="13474" y="16602"/>
                  <a:pt x="13529" y="16821"/>
                  <a:pt x="13494" y="17050"/>
                </a:cubicBezTo>
                <a:cubicBezTo>
                  <a:pt x="13475" y="17173"/>
                  <a:pt x="13533" y="16977"/>
                  <a:pt x="13621" y="1682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937040" y="5897520"/>
            <a:ext cx="206640" cy="263520"/>
          </a:xfrm>
          <a:custGeom>
            <a:avLst/>
            <a:gdLst/>
            <a:ahLst/>
            <a:rect l="l" t="t" r="r" b="b"/>
            <a:pathLst>
              <a:path w="573" h="731">
                <a:moveTo>
                  <a:pt x="14129" y="16383"/>
                </a:moveTo>
                <a:cubicBezTo>
                  <a:pt x="13984" y="16446"/>
                  <a:pt x="13810" y="16400"/>
                  <a:pt x="13748" y="16415"/>
                </a:cubicBezTo>
                <a:cubicBezTo>
                  <a:pt x="13694" y="16428"/>
                  <a:pt x="13716" y="16651"/>
                  <a:pt x="13716" y="16700"/>
                </a:cubicBezTo>
                <a:cubicBezTo>
                  <a:pt x="13716" y="16721"/>
                  <a:pt x="13716" y="16743"/>
                  <a:pt x="13716" y="16764"/>
                </a:cubicBezTo>
                <a:cubicBezTo>
                  <a:pt x="13867" y="16713"/>
                  <a:pt x="13983" y="16624"/>
                  <a:pt x="14160" y="16700"/>
                </a:cubicBezTo>
                <a:cubicBezTo>
                  <a:pt x="14431" y="16815"/>
                  <a:pt x="14259" y="17092"/>
                  <a:pt x="14034" y="17113"/>
                </a:cubicBezTo>
                <a:cubicBezTo>
                  <a:pt x="13891" y="17085"/>
                  <a:pt x="13851" y="17084"/>
                  <a:pt x="13780" y="170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50"/>
                                        </p:tgtEl>
                                        <p:attrNameLst>
                                          <p:attrName>style.visibility</p:attrName>
                                        </p:attrNameLst>
                                      </p:cBhvr>
                                      <p:to>
                                        <p:strVal val="visible"/>
                                      </p:to>
                                    </p:set>
                                    <p:anim calcmode="lin" valueType="num">
                                      <p:cBhvr additive="base">
                                        <p:cTn id="103" dur="500" fill="hold"/>
                                        <p:tgtEl>
                                          <p:spTgt spid="150"/>
                                        </p:tgtEl>
                                        <p:attrNameLst>
                                          <p:attrName>ppt_x</p:attrName>
                                        </p:attrNameLst>
                                      </p:cBhvr>
                                      <p:tavLst>
                                        <p:tav tm="0">
                                          <p:val>
                                            <p:strVal val="0-#ppt_w/2"/>
                                          </p:val>
                                        </p:tav>
                                        <p:tav tm="100000">
                                          <p:val>
                                            <p:strVal val="#ppt_x"/>
                                          </p:val>
                                        </p:tav>
                                      </p:tavLst>
                                    </p:anim>
                                    <p:anim calcmode="lin" valueType="num">
                                      <p:cBhvr additive="base">
                                        <p:cTn id="104"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49">
                                            <p:txEl>
                                              <p:pRg st="0" end="0"/>
                                            </p:txEl>
                                          </p:spTgt>
                                        </p:tgtEl>
                                        <p:attrNameLst>
                                          <p:attrName>style.visibility</p:attrName>
                                        </p:attrNameLst>
                                      </p:cBhvr>
                                      <p:to>
                                        <p:strVal val="visible"/>
                                      </p:to>
                                    </p:set>
                                    <p:anim calcmode="lin" valueType="num">
                                      <p:cBhvr additive="base">
                                        <p:cTn id="10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1"/>
                                        </p:tgtEl>
                                        <p:attrNameLst>
                                          <p:attrName>style.visibility</p:attrName>
                                        </p:attrNameLst>
                                      </p:cBhvr>
                                      <p:to>
                                        <p:strVal val="visible"/>
                                      </p:to>
                                    </p:set>
                                    <p:anim calcmode="lin" valueType="num">
                                      <p:cBhvr additive="base">
                                        <p:cTn id="115" dur="500" fill="hold"/>
                                        <p:tgtEl>
                                          <p:spTgt spid="151"/>
                                        </p:tgtEl>
                                        <p:attrNameLst>
                                          <p:attrName>ppt_x</p:attrName>
                                        </p:attrNameLst>
                                      </p:cBhvr>
                                      <p:tavLst>
                                        <p:tav tm="0">
                                          <p:val>
                                            <p:strVal val="0-#ppt_w/2"/>
                                          </p:val>
                                        </p:tav>
                                        <p:tav tm="100000">
                                          <p:val>
                                            <p:strVal val="#ppt_x"/>
                                          </p:val>
                                        </p:tav>
                                      </p:tavLst>
                                    </p:anim>
                                    <p:anim calcmode="lin" valueType="num">
                                      <p:cBhvr additive="base">
                                        <p:cTn id="11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805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br>
              <a:rPr sz="2000"/>
            </a:br>
            <a:r>
              <a:rPr b="1" lang="en-US" sz="2000" spc="-1" strike="noStrike">
                <a:solidFill>
                  <a:srgbClr val="000000"/>
                </a:solidFill>
                <a:latin typeface="Comic Sans MS"/>
              </a:rPr>
              <a:t>Write the equation or inequality.</a:t>
            </a:r>
            <a:endParaRPr b="0" lang="en-US" sz="2000" spc="-1" strike="noStrike">
              <a:solidFill>
                <a:srgbClr val="000000"/>
              </a:solidFill>
              <a:latin typeface="Arial"/>
            </a:endParaRPr>
          </a:p>
        </p:txBody>
      </p:sp>
      <p:sp>
        <p:nvSpPr>
          <p:cNvPr id="175" name="PlaceHolder 2"/>
          <p:cNvSpPr>
            <a:spLocks noGrp="1"/>
          </p:cNvSpPr>
          <p:nvPr>
            <p:ph type="subTitle"/>
          </p:nvPr>
        </p:nvSpPr>
        <p:spPr>
          <a:xfrm>
            <a:off x="0" y="2133360"/>
            <a:ext cx="9144000" cy="533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 increased by a number N is less than 96.</a:t>
            </a:r>
            <a:endParaRPr b="0" lang="en-US" sz="3200" spc="-1" strike="noStrike">
              <a:solidFill>
                <a:srgbClr val="000000"/>
              </a:solidFill>
              <a:latin typeface="Arial"/>
            </a:endParaRPr>
          </a:p>
        </p:txBody>
      </p:sp>
      <p:sp>
        <p:nvSpPr>
          <p:cNvPr id="176" name=""/>
          <p:cNvSpPr/>
          <p:nvPr/>
        </p:nvSpPr>
        <p:spPr>
          <a:xfrm>
            <a:off x="1263240" y="4191120"/>
            <a:ext cx="696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umber N multiplied by 1.2 is 8.4.</a:t>
            </a:r>
            <a:endParaRPr b="0" lang="en-US" sz="3200" spc="-1" strike="noStrike">
              <a:solidFill>
                <a:srgbClr val="000000"/>
              </a:solidFill>
              <a:latin typeface="Arial"/>
            </a:endParaRPr>
          </a:p>
        </p:txBody>
      </p:sp>
      <p:sp>
        <p:nvSpPr>
          <p:cNvPr id="177" name=""/>
          <p:cNvSpPr/>
          <p:nvPr/>
        </p:nvSpPr>
        <p:spPr>
          <a:xfrm>
            <a:off x="971640" y="1828800"/>
            <a:ext cx="171360" cy="353880"/>
          </a:xfrm>
          <a:custGeom>
            <a:avLst/>
            <a:gdLst/>
            <a:ahLst/>
            <a:rect l="l" t="t" r="r" b="b"/>
            <a:pathLst>
              <a:path w="477" h="985">
                <a:moveTo>
                  <a:pt x="2730" y="5144"/>
                </a:moveTo>
                <a:cubicBezTo>
                  <a:pt x="2730" y="5218"/>
                  <a:pt x="2727" y="5243"/>
                  <a:pt x="2762" y="5302"/>
                </a:cubicBezTo>
                <a:cubicBezTo>
                  <a:pt x="2709" y="5236"/>
                  <a:pt x="2647" y="5180"/>
                  <a:pt x="2762" y="5175"/>
                </a:cubicBezTo>
                <a:cubicBezTo>
                  <a:pt x="2920" y="5167"/>
                  <a:pt x="3037" y="5126"/>
                  <a:pt x="3175" y="5080"/>
                </a:cubicBezTo>
                <a:cubicBezTo>
                  <a:pt x="3169" y="5223"/>
                  <a:pt x="2977" y="6010"/>
                  <a:pt x="3048" y="6064"/>
                </a:cubicBezTo>
                <a:cubicBezTo>
                  <a:pt x="3069" y="6053"/>
                  <a:pt x="3091" y="6043"/>
                  <a:pt x="3112" y="60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125800" y="1908000"/>
            <a:ext cx="309600" cy="263880"/>
          </a:xfrm>
          <a:custGeom>
            <a:avLst/>
            <a:gdLst/>
            <a:ahLst/>
            <a:rect l="l" t="t" r="r" b="b"/>
            <a:pathLst>
              <a:path w="858" h="731">
                <a:moveTo>
                  <a:pt x="6160" y="5302"/>
                </a:moveTo>
                <a:cubicBezTo>
                  <a:pt x="6190" y="5509"/>
                  <a:pt x="6260" y="5791"/>
                  <a:pt x="6223" y="6001"/>
                </a:cubicBezTo>
                <a:cubicBezTo>
                  <a:pt x="6212" y="6011"/>
                  <a:pt x="6202" y="6022"/>
                  <a:pt x="6191" y="6032"/>
                </a:cubicBezTo>
              </a:path>
              <a:path w="858" h="731">
                <a:moveTo>
                  <a:pt x="5906" y="5810"/>
                </a:moveTo>
                <a:cubicBezTo>
                  <a:pt x="6193" y="5789"/>
                  <a:pt x="6478" y="5754"/>
                  <a:pt x="6763" y="571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869000" y="1863720"/>
            <a:ext cx="160200" cy="274680"/>
          </a:xfrm>
          <a:custGeom>
            <a:avLst/>
            <a:gdLst/>
            <a:ahLst/>
            <a:rect l="l" t="t" r="r" b="b"/>
            <a:pathLst>
              <a:path w="445" h="763">
                <a:moveTo>
                  <a:pt x="13557" y="5302"/>
                </a:moveTo>
                <a:cubicBezTo>
                  <a:pt x="13557" y="5514"/>
                  <a:pt x="13557" y="5725"/>
                  <a:pt x="13557" y="5937"/>
                </a:cubicBezTo>
                <a:cubicBezTo>
                  <a:pt x="13507" y="5715"/>
                  <a:pt x="13526" y="5472"/>
                  <a:pt x="13526" y="5239"/>
                </a:cubicBezTo>
                <a:cubicBezTo>
                  <a:pt x="13526" y="5228"/>
                  <a:pt x="13526" y="5218"/>
                  <a:pt x="13526" y="5207"/>
                </a:cubicBezTo>
                <a:cubicBezTo>
                  <a:pt x="13594" y="5435"/>
                  <a:pt x="13706" y="5667"/>
                  <a:pt x="13875" y="5842"/>
                </a:cubicBezTo>
                <a:cubicBezTo>
                  <a:pt x="14085" y="6059"/>
                  <a:pt x="13975" y="5423"/>
                  <a:pt x="13970" y="5366"/>
                </a:cubicBezTo>
                <a:cubicBezTo>
                  <a:pt x="13968" y="5338"/>
                  <a:pt x="13947" y="5125"/>
                  <a:pt x="13906" y="520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503600" y="2651040"/>
            <a:ext cx="1474920" cy="298440"/>
          </a:xfrm>
          <a:custGeom>
            <a:avLst/>
            <a:gdLst/>
            <a:ahLst/>
            <a:rect l="l" t="t" r="r" b="b"/>
            <a:pathLst>
              <a:path w="4096" h="827">
                <a:moveTo>
                  <a:pt x="12510" y="7366"/>
                </a:moveTo>
                <a:cubicBezTo>
                  <a:pt x="12663" y="7392"/>
                  <a:pt x="12763" y="7433"/>
                  <a:pt x="12922" y="7398"/>
                </a:cubicBezTo>
                <a:cubicBezTo>
                  <a:pt x="12954" y="7387"/>
                  <a:pt x="12986" y="7377"/>
                  <a:pt x="13018" y="7366"/>
                </a:cubicBezTo>
                <a:cubicBezTo>
                  <a:pt x="12993" y="7566"/>
                  <a:pt x="12940" y="7767"/>
                  <a:pt x="12922" y="7969"/>
                </a:cubicBezTo>
                <a:cubicBezTo>
                  <a:pt x="12909" y="8112"/>
                  <a:pt x="12915" y="8148"/>
                  <a:pt x="13018" y="8192"/>
                </a:cubicBezTo>
              </a:path>
              <a:path w="4096" h="827">
                <a:moveTo>
                  <a:pt x="13462" y="7715"/>
                </a:moveTo>
                <a:cubicBezTo>
                  <a:pt x="13489" y="7867"/>
                  <a:pt x="13494" y="8004"/>
                  <a:pt x="13494" y="8160"/>
                </a:cubicBezTo>
              </a:path>
              <a:path w="4096" h="827">
                <a:moveTo>
                  <a:pt x="13335" y="7938"/>
                </a:moveTo>
                <a:cubicBezTo>
                  <a:pt x="13504" y="7961"/>
                  <a:pt x="13612" y="7945"/>
                  <a:pt x="13780" y="7906"/>
                </a:cubicBezTo>
              </a:path>
              <a:path w="4096" h="827">
                <a:moveTo>
                  <a:pt x="13875" y="7684"/>
                </a:moveTo>
                <a:cubicBezTo>
                  <a:pt x="13879" y="7750"/>
                  <a:pt x="13906" y="8185"/>
                  <a:pt x="13906" y="8033"/>
                </a:cubicBezTo>
              </a:path>
              <a:path w="4096" h="827">
                <a:moveTo>
                  <a:pt x="13811" y="7652"/>
                </a:moveTo>
                <a:cubicBezTo>
                  <a:pt x="13948" y="7821"/>
                  <a:pt x="14090" y="7958"/>
                  <a:pt x="14256" y="8096"/>
                </a:cubicBezTo>
                <a:cubicBezTo>
                  <a:pt x="14267" y="8107"/>
                  <a:pt x="14277" y="8117"/>
                  <a:pt x="14288" y="8128"/>
                </a:cubicBezTo>
                <a:cubicBezTo>
                  <a:pt x="14288" y="7932"/>
                  <a:pt x="14278" y="7749"/>
                  <a:pt x="14256" y="7556"/>
                </a:cubicBezTo>
                <a:cubicBezTo>
                  <a:pt x="14256" y="7546"/>
                  <a:pt x="14256" y="7535"/>
                  <a:pt x="14256" y="7525"/>
                </a:cubicBezTo>
              </a:path>
              <a:path w="4096" h="827">
                <a:moveTo>
                  <a:pt x="14891" y="7461"/>
                </a:moveTo>
                <a:cubicBezTo>
                  <a:pt x="14776" y="7599"/>
                  <a:pt x="14639" y="7713"/>
                  <a:pt x="14510" y="7842"/>
                </a:cubicBezTo>
                <a:cubicBezTo>
                  <a:pt x="14636" y="7926"/>
                  <a:pt x="14785" y="7909"/>
                  <a:pt x="14922" y="7969"/>
                </a:cubicBezTo>
                <a:cubicBezTo>
                  <a:pt x="15005" y="8005"/>
                  <a:pt x="15030" y="8078"/>
                  <a:pt x="15081" y="8096"/>
                </a:cubicBezTo>
              </a:path>
              <a:path w="4096" h="827">
                <a:moveTo>
                  <a:pt x="15716" y="7652"/>
                </a:moveTo>
                <a:cubicBezTo>
                  <a:pt x="15670" y="7513"/>
                  <a:pt x="15664" y="7493"/>
                  <a:pt x="15558" y="7398"/>
                </a:cubicBezTo>
                <a:cubicBezTo>
                  <a:pt x="15374" y="7459"/>
                  <a:pt x="15358" y="7562"/>
                  <a:pt x="15335" y="7747"/>
                </a:cubicBezTo>
                <a:cubicBezTo>
                  <a:pt x="15502" y="7723"/>
                  <a:pt x="15664" y="7693"/>
                  <a:pt x="15748" y="7525"/>
                </a:cubicBezTo>
                <a:cubicBezTo>
                  <a:pt x="15748" y="7493"/>
                  <a:pt x="15748" y="7482"/>
                  <a:pt x="15748" y="7525"/>
                </a:cubicBezTo>
                <a:cubicBezTo>
                  <a:pt x="15759" y="7716"/>
                  <a:pt x="15803" y="7880"/>
                  <a:pt x="15843" y="8064"/>
                </a:cubicBezTo>
                <a:cubicBezTo>
                  <a:pt x="15843" y="8119"/>
                  <a:pt x="15850" y="8108"/>
                  <a:pt x="15875" y="8001"/>
                </a:cubicBezTo>
              </a:path>
              <a:path w="4096" h="827">
                <a:moveTo>
                  <a:pt x="16066" y="7366"/>
                </a:moveTo>
                <a:cubicBezTo>
                  <a:pt x="16066" y="7540"/>
                  <a:pt x="16004" y="7831"/>
                  <a:pt x="16129" y="7969"/>
                </a:cubicBezTo>
                <a:cubicBezTo>
                  <a:pt x="16243" y="8095"/>
                  <a:pt x="16425" y="8081"/>
                  <a:pt x="16542" y="7969"/>
                </a:cubicBezTo>
                <a:cubicBezTo>
                  <a:pt x="16656" y="7860"/>
                  <a:pt x="16608" y="7785"/>
                  <a:pt x="16510" y="7715"/>
                </a:cubicBezTo>
                <a:cubicBezTo>
                  <a:pt x="16409" y="7783"/>
                  <a:pt x="16284" y="7855"/>
                  <a:pt x="16320" y="8001"/>
                </a:cubicBezTo>
                <a:cubicBezTo>
                  <a:pt x="16351" y="8033"/>
                  <a:pt x="16362" y="8044"/>
                  <a:pt x="16383" y="800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240760" y="1874880"/>
            <a:ext cx="331920" cy="297000"/>
          </a:xfrm>
          <a:custGeom>
            <a:avLst/>
            <a:gdLst/>
            <a:ahLst/>
            <a:rect l="l" t="t" r="r" b="b"/>
            <a:pathLst>
              <a:path w="921" h="826">
                <a:moveTo>
                  <a:pt x="23209" y="5429"/>
                </a:moveTo>
                <a:cubicBezTo>
                  <a:pt x="23209" y="5343"/>
                  <a:pt x="23204" y="5287"/>
                  <a:pt x="23178" y="5207"/>
                </a:cubicBezTo>
                <a:cubicBezTo>
                  <a:pt x="23033" y="5236"/>
                  <a:pt x="22767" y="5371"/>
                  <a:pt x="22924" y="5588"/>
                </a:cubicBezTo>
                <a:cubicBezTo>
                  <a:pt x="22956" y="5599"/>
                  <a:pt x="22987" y="5609"/>
                  <a:pt x="23019" y="5620"/>
                </a:cubicBezTo>
                <a:cubicBezTo>
                  <a:pt x="23112" y="5526"/>
                  <a:pt x="23151" y="5468"/>
                  <a:pt x="23178" y="5334"/>
                </a:cubicBezTo>
                <a:cubicBezTo>
                  <a:pt x="23178" y="5567"/>
                  <a:pt x="23178" y="5799"/>
                  <a:pt x="23178" y="6032"/>
                </a:cubicBezTo>
              </a:path>
              <a:path w="921" h="826">
                <a:moveTo>
                  <a:pt x="23463" y="5239"/>
                </a:moveTo>
                <a:cubicBezTo>
                  <a:pt x="23463" y="5404"/>
                  <a:pt x="23423" y="5589"/>
                  <a:pt x="23432" y="5747"/>
                </a:cubicBezTo>
                <a:cubicBezTo>
                  <a:pt x="23442" y="5779"/>
                  <a:pt x="23453" y="5810"/>
                  <a:pt x="23463" y="5842"/>
                </a:cubicBezTo>
                <a:cubicBezTo>
                  <a:pt x="23620" y="5894"/>
                  <a:pt x="23736" y="5851"/>
                  <a:pt x="23812" y="5683"/>
                </a:cubicBezTo>
                <a:cubicBezTo>
                  <a:pt x="23812" y="5630"/>
                  <a:pt x="23812" y="5620"/>
                  <a:pt x="23812" y="5588"/>
                </a:cubicBezTo>
                <a:cubicBezTo>
                  <a:pt x="23671" y="5641"/>
                  <a:pt x="23628" y="5780"/>
                  <a:pt x="23590" y="5937"/>
                </a:cubicBezTo>
                <a:cubicBezTo>
                  <a:pt x="23590" y="5948"/>
                  <a:pt x="23590" y="5958"/>
                  <a:pt x="23590" y="596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811920" y="1793880"/>
            <a:ext cx="480960" cy="378000"/>
          </a:xfrm>
          <a:custGeom>
            <a:avLst/>
            <a:gdLst/>
            <a:ahLst/>
            <a:rect l="l" t="t" r="r" b="b"/>
            <a:pathLst>
              <a:path w="1334" h="1048">
                <a:moveTo>
                  <a:pt x="19463" y="5048"/>
                </a:moveTo>
                <a:cubicBezTo>
                  <a:pt x="19543" y="5019"/>
                  <a:pt x="19603" y="4991"/>
                  <a:pt x="19685" y="4985"/>
                </a:cubicBezTo>
                <a:cubicBezTo>
                  <a:pt x="19696" y="4985"/>
                  <a:pt x="19706" y="4985"/>
                  <a:pt x="19717" y="4985"/>
                </a:cubicBezTo>
                <a:cubicBezTo>
                  <a:pt x="19540" y="5124"/>
                  <a:pt x="19317" y="5180"/>
                  <a:pt x="19114" y="5270"/>
                </a:cubicBezTo>
                <a:cubicBezTo>
                  <a:pt x="19008" y="5323"/>
                  <a:pt x="18986" y="5334"/>
                  <a:pt x="18923" y="5366"/>
                </a:cubicBezTo>
                <a:cubicBezTo>
                  <a:pt x="19116" y="5444"/>
                  <a:pt x="19307" y="5549"/>
                  <a:pt x="19494" y="5652"/>
                </a:cubicBezTo>
                <a:cubicBezTo>
                  <a:pt x="19727" y="5780"/>
                  <a:pt x="19980" y="5938"/>
                  <a:pt x="20225" y="6032"/>
                </a:cubicBezTo>
                <a:cubicBezTo>
                  <a:pt x="20235" y="6032"/>
                  <a:pt x="20246" y="6032"/>
                  <a:pt x="20256" y="60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618080" y="4022640"/>
            <a:ext cx="171360" cy="241560"/>
          </a:xfrm>
          <a:custGeom>
            <a:avLst/>
            <a:gdLst/>
            <a:ahLst/>
            <a:rect l="l" t="t" r="r" b="b"/>
            <a:pathLst>
              <a:path w="477" h="668">
                <a:moveTo>
                  <a:pt x="12827" y="11303"/>
                </a:moveTo>
                <a:cubicBezTo>
                  <a:pt x="12889" y="11324"/>
                  <a:pt x="13021" y="11497"/>
                  <a:pt x="13081" y="11557"/>
                </a:cubicBezTo>
                <a:cubicBezTo>
                  <a:pt x="13142" y="11618"/>
                  <a:pt x="13244" y="11728"/>
                  <a:pt x="13303" y="11748"/>
                </a:cubicBezTo>
              </a:path>
              <a:path w="477" h="668">
                <a:moveTo>
                  <a:pt x="13272" y="11176"/>
                </a:moveTo>
                <a:cubicBezTo>
                  <a:pt x="13244" y="11341"/>
                  <a:pt x="13137" y="11479"/>
                  <a:pt x="13049" y="11620"/>
                </a:cubicBezTo>
                <a:cubicBezTo>
                  <a:pt x="13014" y="11676"/>
                  <a:pt x="12942" y="11751"/>
                  <a:pt x="12922" y="11811"/>
                </a:cubicBezTo>
                <a:cubicBezTo>
                  <a:pt x="12922" y="11843"/>
                  <a:pt x="12922" y="11854"/>
                  <a:pt x="12890" y="1184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240080" y="4675320"/>
            <a:ext cx="1486080" cy="285480"/>
          </a:xfrm>
          <a:custGeom>
            <a:avLst/>
            <a:gdLst/>
            <a:ahLst/>
            <a:rect l="l" t="t" r="r" b="b"/>
            <a:pathLst>
              <a:path w="4129" h="795">
                <a:moveTo>
                  <a:pt x="11779" y="13144"/>
                </a:moveTo>
                <a:cubicBezTo>
                  <a:pt x="11779" y="13134"/>
                  <a:pt x="11779" y="13123"/>
                  <a:pt x="11779" y="13113"/>
                </a:cubicBezTo>
                <a:cubicBezTo>
                  <a:pt x="11837" y="13132"/>
                  <a:pt x="11833" y="13399"/>
                  <a:pt x="11843" y="13462"/>
                </a:cubicBezTo>
                <a:cubicBezTo>
                  <a:pt x="11862" y="13584"/>
                  <a:pt x="11874" y="13664"/>
                  <a:pt x="11874" y="13780"/>
                </a:cubicBezTo>
              </a:path>
              <a:path w="4129" h="795">
                <a:moveTo>
                  <a:pt x="12160" y="13621"/>
                </a:moveTo>
                <a:cubicBezTo>
                  <a:pt x="12189" y="13649"/>
                  <a:pt x="12195" y="13659"/>
                  <a:pt x="12224" y="13652"/>
                </a:cubicBezTo>
              </a:path>
              <a:path w="4129" h="795">
                <a:moveTo>
                  <a:pt x="12510" y="13176"/>
                </a:moveTo>
                <a:cubicBezTo>
                  <a:pt x="12664" y="13198"/>
                  <a:pt x="12789" y="13247"/>
                  <a:pt x="12795" y="13430"/>
                </a:cubicBezTo>
                <a:cubicBezTo>
                  <a:pt x="12801" y="13627"/>
                  <a:pt x="12611" y="13664"/>
                  <a:pt x="12478" y="13652"/>
                </a:cubicBezTo>
                <a:cubicBezTo>
                  <a:pt x="12478" y="13525"/>
                  <a:pt x="12522" y="13506"/>
                  <a:pt x="12668" y="13526"/>
                </a:cubicBezTo>
                <a:cubicBezTo>
                  <a:pt x="12725" y="13534"/>
                  <a:pt x="12900" y="13690"/>
                  <a:pt x="12922" y="13684"/>
                </a:cubicBezTo>
                <a:cubicBezTo>
                  <a:pt x="12922" y="13673"/>
                  <a:pt x="12922" y="13663"/>
                  <a:pt x="12922" y="13652"/>
                </a:cubicBezTo>
              </a:path>
              <a:path w="4129" h="795">
                <a:moveTo>
                  <a:pt x="13303" y="13208"/>
                </a:moveTo>
                <a:cubicBezTo>
                  <a:pt x="13285" y="13378"/>
                  <a:pt x="13301" y="13587"/>
                  <a:pt x="13240" y="13748"/>
                </a:cubicBezTo>
                <a:cubicBezTo>
                  <a:pt x="13240" y="13727"/>
                  <a:pt x="13240" y="13705"/>
                  <a:pt x="13240" y="13684"/>
                </a:cubicBezTo>
              </a:path>
              <a:path w="4129" h="795">
                <a:moveTo>
                  <a:pt x="13176" y="13208"/>
                </a:moveTo>
                <a:cubicBezTo>
                  <a:pt x="13326" y="13208"/>
                  <a:pt x="13223" y="13203"/>
                  <a:pt x="13367" y="13367"/>
                </a:cubicBezTo>
                <a:cubicBezTo>
                  <a:pt x="13454" y="13466"/>
                  <a:pt x="13558" y="13558"/>
                  <a:pt x="13652" y="13652"/>
                </a:cubicBezTo>
                <a:cubicBezTo>
                  <a:pt x="13652" y="13481"/>
                  <a:pt x="13625" y="13316"/>
                  <a:pt x="13621" y="13144"/>
                </a:cubicBezTo>
                <a:cubicBezTo>
                  <a:pt x="13620" y="13092"/>
                  <a:pt x="13621" y="12997"/>
                  <a:pt x="13621" y="13049"/>
                </a:cubicBezTo>
              </a:path>
              <a:path w="4129" h="795">
                <a:moveTo>
                  <a:pt x="14002" y="13303"/>
                </a:moveTo>
                <a:cubicBezTo>
                  <a:pt x="14109" y="13293"/>
                  <a:pt x="14320" y="13221"/>
                  <a:pt x="14414" y="13240"/>
                </a:cubicBezTo>
                <a:cubicBezTo>
                  <a:pt x="14414" y="13251"/>
                  <a:pt x="14414" y="13261"/>
                  <a:pt x="14414" y="13272"/>
                </a:cubicBezTo>
              </a:path>
              <a:path w="4129" h="795">
                <a:moveTo>
                  <a:pt x="14065" y="13462"/>
                </a:moveTo>
                <a:cubicBezTo>
                  <a:pt x="14188" y="13454"/>
                  <a:pt x="14268" y="13444"/>
                  <a:pt x="14383" y="13398"/>
                </a:cubicBezTo>
              </a:path>
              <a:path w="4129" h="795">
                <a:moveTo>
                  <a:pt x="14922" y="13081"/>
                </a:moveTo>
                <a:cubicBezTo>
                  <a:pt x="14781" y="13081"/>
                  <a:pt x="14630" y="13085"/>
                  <a:pt x="14605" y="13272"/>
                </a:cubicBezTo>
                <a:cubicBezTo>
                  <a:pt x="14588" y="13401"/>
                  <a:pt x="14896" y="13539"/>
                  <a:pt x="14986" y="13621"/>
                </a:cubicBezTo>
                <a:cubicBezTo>
                  <a:pt x="14844" y="13683"/>
                  <a:pt x="14716" y="13713"/>
                  <a:pt x="14796" y="13494"/>
                </a:cubicBezTo>
                <a:cubicBezTo>
                  <a:pt x="14827" y="13408"/>
                  <a:pt x="14999" y="13202"/>
                  <a:pt x="14922" y="13144"/>
                </a:cubicBezTo>
                <a:cubicBezTo>
                  <a:pt x="14894" y="13116"/>
                  <a:pt x="14884" y="13101"/>
                  <a:pt x="14891" y="13144"/>
                </a:cubicBezTo>
              </a:path>
              <a:path w="4129" h="795">
                <a:moveTo>
                  <a:pt x="15240" y="13526"/>
                </a:moveTo>
                <a:cubicBezTo>
                  <a:pt x="15240" y="13579"/>
                  <a:pt x="15240" y="13610"/>
                  <a:pt x="15240" y="13557"/>
                </a:cubicBezTo>
              </a:path>
              <a:path w="4129" h="795">
                <a:moveTo>
                  <a:pt x="15462" y="13049"/>
                </a:moveTo>
                <a:cubicBezTo>
                  <a:pt x="15462" y="13222"/>
                  <a:pt x="15425" y="13320"/>
                  <a:pt x="15621" y="13335"/>
                </a:cubicBezTo>
                <a:cubicBezTo>
                  <a:pt x="15828" y="13351"/>
                  <a:pt x="15889" y="13248"/>
                  <a:pt x="15875" y="13081"/>
                </a:cubicBezTo>
              </a:path>
              <a:path w="4129" h="795">
                <a:moveTo>
                  <a:pt x="15684" y="12986"/>
                </a:moveTo>
                <a:cubicBezTo>
                  <a:pt x="15708" y="13178"/>
                  <a:pt x="15743" y="13362"/>
                  <a:pt x="15748" y="13557"/>
                </a:cubicBezTo>
                <a:cubicBezTo>
                  <a:pt x="15748" y="13652"/>
                  <a:pt x="15748" y="13663"/>
                  <a:pt x="15748" y="1371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275520" y="3908520"/>
            <a:ext cx="446040" cy="287280"/>
          </a:xfrm>
          <a:custGeom>
            <a:avLst/>
            <a:gdLst/>
            <a:ahLst/>
            <a:rect l="l" t="t" r="r" b="b"/>
            <a:pathLst>
              <a:path w="1239" h="795">
                <a:moveTo>
                  <a:pt x="17462" y="11049"/>
                </a:moveTo>
                <a:cubicBezTo>
                  <a:pt x="17442" y="11232"/>
                  <a:pt x="17431" y="11404"/>
                  <a:pt x="17431" y="11589"/>
                </a:cubicBezTo>
                <a:cubicBezTo>
                  <a:pt x="17431" y="11620"/>
                  <a:pt x="17431" y="11631"/>
                  <a:pt x="17431" y="11652"/>
                </a:cubicBezTo>
              </a:path>
              <a:path w="1239" h="795">
                <a:moveTo>
                  <a:pt x="17748" y="11462"/>
                </a:moveTo>
                <a:cubicBezTo>
                  <a:pt x="17748" y="11483"/>
                  <a:pt x="17748" y="11504"/>
                  <a:pt x="17748" y="11525"/>
                </a:cubicBezTo>
              </a:path>
              <a:path w="1239" h="795">
                <a:moveTo>
                  <a:pt x="18098" y="10922"/>
                </a:moveTo>
                <a:cubicBezTo>
                  <a:pt x="18145" y="10859"/>
                  <a:pt x="18235" y="10828"/>
                  <a:pt x="18320" y="10890"/>
                </a:cubicBezTo>
                <a:cubicBezTo>
                  <a:pt x="18479" y="11006"/>
                  <a:pt x="18267" y="11369"/>
                  <a:pt x="18193" y="11494"/>
                </a:cubicBezTo>
                <a:cubicBezTo>
                  <a:pt x="18123" y="11612"/>
                  <a:pt x="18051" y="11620"/>
                  <a:pt x="18098" y="11620"/>
                </a:cubicBezTo>
                <a:cubicBezTo>
                  <a:pt x="18163" y="11516"/>
                  <a:pt x="18218" y="11442"/>
                  <a:pt x="18352" y="11525"/>
                </a:cubicBezTo>
                <a:cubicBezTo>
                  <a:pt x="18480" y="11605"/>
                  <a:pt x="18515" y="11639"/>
                  <a:pt x="18669" y="1158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064280" y="4091040"/>
            <a:ext cx="92160" cy="104760"/>
          </a:xfrm>
          <a:custGeom>
            <a:avLst/>
            <a:gdLst/>
            <a:ahLst/>
            <a:rect l="l" t="t" r="r" b="b"/>
            <a:pathLst>
              <a:path w="255" h="287">
                <a:moveTo>
                  <a:pt x="19653" y="11366"/>
                </a:moveTo>
                <a:cubicBezTo>
                  <a:pt x="19656" y="11417"/>
                  <a:pt x="19758" y="11386"/>
                  <a:pt x="19844" y="11366"/>
                </a:cubicBezTo>
                <a:cubicBezTo>
                  <a:pt x="19855" y="11366"/>
                  <a:pt x="19865" y="11366"/>
                  <a:pt x="19876" y="11366"/>
                </a:cubicBezTo>
              </a:path>
              <a:path w="255" h="287">
                <a:moveTo>
                  <a:pt x="19622" y="11652"/>
                </a:moveTo>
                <a:cubicBezTo>
                  <a:pt x="19707" y="11652"/>
                  <a:pt x="19791" y="11652"/>
                  <a:pt x="19876" y="1165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440480" y="3908520"/>
            <a:ext cx="470160" cy="309600"/>
          </a:xfrm>
          <a:custGeom>
            <a:avLst/>
            <a:gdLst/>
            <a:ahLst/>
            <a:rect l="l" t="t" r="r" b="b"/>
            <a:pathLst>
              <a:path w="1303" h="859">
                <a:moveTo>
                  <a:pt x="21050" y="10986"/>
                </a:moveTo>
                <a:cubicBezTo>
                  <a:pt x="20971" y="10880"/>
                  <a:pt x="20802" y="10963"/>
                  <a:pt x="20701" y="11049"/>
                </a:cubicBezTo>
                <a:cubicBezTo>
                  <a:pt x="20690" y="11070"/>
                  <a:pt x="20680" y="11091"/>
                  <a:pt x="20669" y="11112"/>
                </a:cubicBezTo>
                <a:cubicBezTo>
                  <a:pt x="20841" y="11322"/>
                  <a:pt x="20986" y="11421"/>
                  <a:pt x="20987" y="11684"/>
                </a:cubicBezTo>
                <a:cubicBezTo>
                  <a:pt x="20794" y="11733"/>
                  <a:pt x="20821" y="11564"/>
                  <a:pt x="20860" y="11398"/>
                </a:cubicBezTo>
                <a:cubicBezTo>
                  <a:pt x="20892" y="11261"/>
                  <a:pt x="20961" y="11149"/>
                  <a:pt x="20987" y="11017"/>
                </a:cubicBezTo>
              </a:path>
              <a:path w="1303" h="859">
                <a:moveTo>
                  <a:pt x="21304" y="11494"/>
                </a:moveTo>
                <a:cubicBezTo>
                  <a:pt x="21304" y="11547"/>
                  <a:pt x="21304" y="11557"/>
                  <a:pt x="21304" y="11589"/>
                </a:cubicBezTo>
              </a:path>
              <a:path w="1303" h="859">
                <a:moveTo>
                  <a:pt x="21590" y="10986"/>
                </a:moveTo>
                <a:cubicBezTo>
                  <a:pt x="21590" y="11071"/>
                  <a:pt x="21590" y="11155"/>
                  <a:pt x="21590" y="11240"/>
                </a:cubicBezTo>
                <a:cubicBezTo>
                  <a:pt x="21736" y="11240"/>
                  <a:pt x="21785" y="11213"/>
                  <a:pt x="21908" y="11144"/>
                </a:cubicBezTo>
              </a:path>
              <a:path w="1303" h="859">
                <a:moveTo>
                  <a:pt x="21971" y="10890"/>
                </a:moveTo>
                <a:cubicBezTo>
                  <a:pt x="21971" y="10783"/>
                  <a:pt x="21945" y="11037"/>
                  <a:pt x="21939" y="11144"/>
                </a:cubicBezTo>
                <a:cubicBezTo>
                  <a:pt x="21928" y="11322"/>
                  <a:pt x="21957" y="11480"/>
                  <a:pt x="21971" y="11652"/>
                </a:cubicBezTo>
                <a:cubicBezTo>
                  <a:pt x="21971" y="11663"/>
                  <a:pt x="21971" y="11673"/>
                  <a:pt x="21971" y="1168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371760" y="3943440"/>
            <a:ext cx="149400" cy="263520"/>
          </a:xfrm>
          <a:custGeom>
            <a:avLst/>
            <a:gdLst/>
            <a:ahLst/>
            <a:rect l="l" t="t" r="r" b="b"/>
            <a:pathLst>
              <a:path w="414" h="731">
                <a:moveTo>
                  <a:pt x="9398" y="11112"/>
                </a:moveTo>
                <a:cubicBezTo>
                  <a:pt x="9366" y="11112"/>
                  <a:pt x="9356" y="11112"/>
                  <a:pt x="9366" y="11081"/>
                </a:cubicBezTo>
              </a:path>
              <a:path w="414" h="731">
                <a:moveTo>
                  <a:pt x="9366" y="11112"/>
                </a:moveTo>
                <a:lnTo>
                  <a:pt x="9366" y="11112"/>
                </a:lnTo>
              </a:path>
              <a:path w="414" h="731">
                <a:moveTo>
                  <a:pt x="9366" y="11271"/>
                </a:moveTo>
                <a:cubicBezTo>
                  <a:pt x="9385" y="11416"/>
                  <a:pt x="9398" y="11539"/>
                  <a:pt x="9398" y="11684"/>
                </a:cubicBezTo>
              </a:path>
              <a:path w="414" h="731">
                <a:moveTo>
                  <a:pt x="9366" y="11112"/>
                </a:moveTo>
                <a:cubicBezTo>
                  <a:pt x="9454" y="11304"/>
                  <a:pt x="9599" y="11443"/>
                  <a:pt x="9716" y="11620"/>
                </a:cubicBezTo>
                <a:cubicBezTo>
                  <a:pt x="9741" y="11672"/>
                  <a:pt x="9739" y="11694"/>
                  <a:pt x="9779" y="11684"/>
                </a:cubicBezTo>
                <a:cubicBezTo>
                  <a:pt x="9779" y="11503"/>
                  <a:pt x="9751" y="11326"/>
                  <a:pt x="9747" y="11144"/>
                </a:cubicBezTo>
                <a:cubicBezTo>
                  <a:pt x="9746" y="11081"/>
                  <a:pt x="9747" y="11017"/>
                  <a:pt x="9747" y="1095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75">
                                            <p:txEl>
                                              <p:pRg st="0" end="0"/>
                                            </p:txEl>
                                          </p:spTgt>
                                        </p:tgtEl>
                                        <p:attrNameLst>
                                          <p:attrName>style.visibility</p:attrName>
                                        </p:attrNameLst>
                                      </p:cBhvr>
                                      <p:to>
                                        <p:strVal val="visible"/>
                                      </p:to>
                                    </p:set>
                                    <p:anim calcmode="lin" valueType="num">
                                      <p:cBhvr additive="base">
                                        <p:cTn id="123"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76"/>
                                        </p:tgtEl>
                                        <p:attrNameLst>
                                          <p:attrName>style.visibility</p:attrName>
                                        </p:attrNameLst>
                                      </p:cBhvr>
                                      <p:to>
                                        <p:strVal val="visible"/>
                                      </p:to>
                                    </p:set>
                                    <p:anim calcmode="lin" valueType="num">
                                      <p:cBhvr additive="base">
                                        <p:cTn id="129" dur="500" fill="hold"/>
                                        <p:tgtEl>
                                          <p:spTgt spid="176"/>
                                        </p:tgtEl>
                                        <p:attrNameLst>
                                          <p:attrName>ppt_x</p:attrName>
                                        </p:attrNameLst>
                                      </p:cBhvr>
                                      <p:tavLst>
                                        <p:tav tm="0">
                                          <p:val>
                                            <p:strVal val="0-#ppt_w/2"/>
                                          </p:val>
                                        </p:tav>
                                        <p:tav tm="100000">
                                          <p:val>
                                            <p:strVal val="#ppt_x"/>
                                          </p:val>
                                        </p:tav>
                                      </p:tavLst>
                                    </p:anim>
                                    <p:anim calcmode="lin" valueType="num">
                                      <p:cBhvr additive="base">
                                        <p:cTn id="130"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17:29:30Z</dcterms:created>
  <dc:creator>deanne elizabeth mcgrath</dc:creator>
  <dc:description/>
  <dc:language>en-US</dc:language>
  <cp:lastModifiedBy>deanne elizabeth mcgrath</cp:lastModifiedBy>
  <dcterms:modified xsi:type="dcterms:W3CDTF">2011-01-24T18:39:42Z</dcterms:modified>
  <cp:revision>26</cp:revision>
  <dc:subject/>
  <dc:title>Unit 5 Review Bingo! </dc:title>
</cp:coreProperties>
</file>